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001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2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3852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001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5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38520" y="667080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8360" y="667080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57840" y="667080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67320" y="667080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77160" y="667080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86640" y="667080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96120" y="667080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05960" y="667080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800520"/>
              <a:ext cx="703800" cy="1640160"/>
            </a:xfrm>
            <a:custGeom>
              <a:avLst/>
              <a:gdLst/>
              <a:ahLst/>
              <a:rect l="0" t="0" r="r" b="b"/>
              <a:pathLst>
                <a:path w="1955" h="4556">
                  <a:moveTo>
                    <a:pt x="1203" y="4556"/>
                  </a:moveTo>
                  <a:lnTo>
                    <a:pt x="1282" y="4485"/>
                  </a:lnTo>
                  <a:lnTo>
                    <a:pt x="1331" y="4379"/>
                  </a:lnTo>
                  <a:lnTo>
                    <a:pt x="1397" y="4300"/>
                  </a:lnTo>
                  <a:lnTo>
                    <a:pt x="1450" y="4216"/>
                  </a:lnTo>
                  <a:lnTo>
                    <a:pt x="1566" y="4061"/>
                  </a:lnTo>
                  <a:lnTo>
                    <a:pt x="1650" y="3991"/>
                  </a:lnTo>
                  <a:lnTo>
                    <a:pt x="1699" y="3902"/>
                  </a:lnTo>
                  <a:lnTo>
                    <a:pt x="1725" y="3744"/>
                  </a:lnTo>
                  <a:lnTo>
                    <a:pt x="1685" y="3673"/>
                  </a:lnTo>
                  <a:lnTo>
                    <a:pt x="1659" y="3585"/>
                  </a:lnTo>
                  <a:lnTo>
                    <a:pt x="1637" y="3505"/>
                  </a:lnTo>
                  <a:lnTo>
                    <a:pt x="1597" y="3417"/>
                  </a:lnTo>
                  <a:lnTo>
                    <a:pt x="1597" y="3355"/>
                  </a:lnTo>
                  <a:lnTo>
                    <a:pt x="1597" y="3298"/>
                  </a:lnTo>
                  <a:lnTo>
                    <a:pt x="1597" y="3240"/>
                  </a:lnTo>
                  <a:lnTo>
                    <a:pt x="1588" y="3187"/>
                  </a:lnTo>
                  <a:lnTo>
                    <a:pt x="1588" y="3121"/>
                  </a:lnTo>
                  <a:lnTo>
                    <a:pt x="1610" y="3081"/>
                  </a:lnTo>
                  <a:lnTo>
                    <a:pt x="1650" y="3051"/>
                  </a:lnTo>
                  <a:lnTo>
                    <a:pt x="1725" y="3028"/>
                  </a:lnTo>
                  <a:lnTo>
                    <a:pt x="1730" y="3028"/>
                  </a:lnTo>
                  <a:lnTo>
                    <a:pt x="1747" y="3011"/>
                  </a:lnTo>
                  <a:lnTo>
                    <a:pt x="1747" y="3002"/>
                  </a:lnTo>
                  <a:lnTo>
                    <a:pt x="1747" y="2989"/>
                  </a:lnTo>
                  <a:lnTo>
                    <a:pt x="1725" y="2962"/>
                  </a:lnTo>
                  <a:lnTo>
                    <a:pt x="1708" y="2940"/>
                  </a:lnTo>
                  <a:lnTo>
                    <a:pt x="1708" y="2914"/>
                  </a:lnTo>
                  <a:lnTo>
                    <a:pt x="1747" y="2892"/>
                  </a:lnTo>
                  <a:lnTo>
                    <a:pt x="1933" y="2803"/>
                  </a:lnTo>
                  <a:lnTo>
                    <a:pt x="1955" y="2764"/>
                  </a:lnTo>
                  <a:lnTo>
                    <a:pt x="1955" y="2733"/>
                  </a:lnTo>
                  <a:lnTo>
                    <a:pt x="1955" y="2706"/>
                  </a:lnTo>
                  <a:lnTo>
                    <a:pt x="1937" y="2667"/>
                  </a:lnTo>
                  <a:lnTo>
                    <a:pt x="1845" y="2547"/>
                  </a:lnTo>
                  <a:lnTo>
                    <a:pt x="1769" y="2397"/>
                  </a:lnTo>
                  <a:lnTo>
                    <a:pt x="1730" y="2255"/>
                  </a:lnTo>
                  <a:lnTo>
                    <a:pt x="1699" y="2092"/>
                  </a:lnTo>
                  <a:lnTo>
                    <a:pt x="1628" y="2052"/>
                  </a:lnTo>
                  <a:lnTo>
                    <a:pt x="1566" y="2008"/>
                  </a:lnTo>
                  <a:lnTo>
                    <a:pt x="1500" y="1959"/>
                  </a:lnTo>
                  <a:lnTo>
                    <a:pt x="1441" y="1911"/>
                  </a:lnTo>
                  <a:lnTo>
                    <a:pt x="1402" y="1862"/>
                  </a:lnTo>
                  <a:lnTo>
                    <a:pt x="1379" y="1814"/>
                  </a:lnTo>
                  <a:lnTo>
                    <a:pt x="1362" y="1774"/>
                  </a:lnTo>
                  <a:lnTo>
                    <a:pt x="1357" y="1725"/>
                  </a:lnTo>
                  <a:lnTo>
                    <a:pt x="1260" y="1602"/>
                  </a:lnTo>
                  <a:lnTo>
                    <a:pt x="1282" y="1496"/>
                  </a:lnTo>
                  <a:lnTo>
                    <a:pt x="1331" y="1385"/>
                  </a:lnTo>
                  <a:lnTo>
                    <a:pt x="1362" y="1275"/>
                  </a:lnTo>
                  <a:lnTo>
                    <a:pt x="1362" y="1178"/>
                  </a:lnTo>
                  <a:lnTo>
                    <a:pt x="1318" y="1227"/>
                  </a:lnTo>
                  <a:lnTo>
                    <a:pt x="1269" y="1297"/>
                  </a:lnTo>
                  <a:lnTo>
                    <a:pt x="1238" y="1355"/>
                  </a:lnTo>
                  <a:lnTo>
                    <a:pt x="1203" y="1385"/>
                  </a:lnTo>
                  <a:lnTo>
                    <a:pt x="1189" y="1249"/>
                  </a:lnTo>
                  <a:lnTo>
                    <a:pt x="1198" y="1121"/>
                  </a:lnTo>
                  <a:lnTo>
                    <a:pt x="1203" y="988"/>
                  </a:lnTo>
                  <a:lnTo>
                    <a:pt x="1203" y="860"/>
                  </a:lnTo>
                  <a:lnTo>
                    <a:pt x="1238" y="781"/>
                  </a:lnTo>
                  <a:lnTo>
                    <a:pt x="1238" y="723"/>
                  </a:lnTo>
                  <a:lnTo>
                    <a:pt x="1238" y="644"/>
                  </a:lnTo>
                  <a:lnTo>
                    <a:pt x="1242" y="587"/>
                  </a:lnTo>
                  <a:lnTo>
                    <a:pt x="1242" y="542"/>
                  </a:lnTo>
                  <a:lnTo>
                    <a:pt x="1260" y="498"/>
                  </a:lnTo>
                  <a:lnTo>
                    <a:pt x="1282" y="459"/>
                  </a:lnTo>
                  <a:lnTo>
                    <a:pt x="1309" y="428"/>
                  </a:lnTo>
                  <a:lnTo>
                    <a:pt x="1318" y="414"/>
                  </a:lnTo>
                  <a:lnTo>
                    <a:pt x="1331" y="406"/>
                  </a:lnTo>
                  <a:lnTo>
                    <a:pt x="1340" y="379"/>
                  </a:lnTo>
                  <a:lnTo>
                    <a:pt x="1357" y="366"/>
                  </a:lnTo>
                  <a:lnTo>
                    <a:pt x="1362" y="366"/>
                  </a:lnTo>
                  <a:lnTo>
                    <a:pt x="1402" y="348"/>
                  </a:lnTo>
                  <a:lnTo>
                    <a:pt x="1428" y="339"/>
                  </a:lnTo>
                  <a:lnTo>
                    <a:pt x="1450" y="339"/>
                  </a:lnTo>
                  <a:lnTo>
                    <a:pt x="1478" y="326"/>
                  </a:lnTo>
                  <a:lnTo>
                    <a:pt x="1491" y="326"/>
                  </a:lnTo>
                  <a:lnTo>
                    <a:pt x="1500" y="317"/>
                  </a:lnTo>
                  <a:lnTo>
                    <a:pt x="1526" y="295"/>
                  </a:lnTo>
                  <a:lnTo>
                    <a:pt x="1526" y="278"/>
                  </a:lnTo>
                  <a:lnTo>
                    <a:pt x="1491" y="220"/>
                  </a:lnTo>
                  <a:lnTo>
                    <a:pt x="1491" y="207"/>
                  </a:lnTo>
                  <a:lnTo>
                    <a:pt x="1491" y="189"/>
                  </a:lnTo>
                  <a:lnTo>
                    <a:pt x="1491" y="180"/>
                  </a:lnTo>
                  <a:lnTo>
                    <a:pt x="1478" y="180"/>
                  </a:lnTo>
                  <a:lnTo>
                    <a:pt x="1478" y="167"/>
                  </a:lnTo>
                  <a:lnTo>
                    <a:pt x="1450" y="132"/>
                  </a:lnTo>
                  <a:lnTo>
                    <a:pt x="1419" y="92"/>
                  </a:lnTo>
                  <a:lnTo>
                    <a:pt x="1402" y="48"/>
                  </a:lnTo>
                  <a:lnTo>
                    <a:pt x="1397" y="0"/>
                  </a:lnTo>
                  <a:lnTo>
                    <a:pt x="1101" y="180"/>
                  </a:lnTo>
                  <a:lnTo>
                    <a:pt x="831" y="414"/>
                  </a:lnTo>
                  <a:lnTo>
                    <a:pt x="588" y="666"/>
                  </a:lnTo>
                  <a:lnTo>
                    <a:pt x="388" y="962"/>
                  </a:lnTo>
                  <a:lnTo>
                    <a:pt x="220" y="1275"/>
                  </a:lnTo>
                  <a:lnTo>
                    <a:pt x="92" y="1615"/>
                  </a:lnTo>
                  <a:lnTo>
                    <a:pt x="22" y="1968"/>
                  </a:lnTo>
                  <a:lnTo>
                    <a:pt x="0" y="2340"/>
                  </a:lnTo>
                  <a:lnTo>
                    <a:pt x="22" y="2684"/>
                  </a:lnTo>
                  <a:lnTo>
                    <a:pt x="88" y="3002"/>
                  </a:lnTo>
                  <a:lnTo>
                    <a:pt x="198" y="3315"/>
                  </a:lnTo>
                  <a:lnTo>
                    <a:pt x="327" y="3616"/>
                  </a:lnTo>
                  <a:lnTo>
                    <a:pt x="504" y="3880"/>
                  </a:lnTo>
                  <a:lnTo>
                    <a:pt x="708" y="4141"/>
                  </a:lnTo>
                  <a:lnTo>
                    <a:pt x="951" y="4357"/>
                  </a:lnTo>
                  <a:lnTo>
                    <a:pt x="1203" y="4556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560" y="3693960"/>
              <a:ext cx="1308600" cy="1910160"/>
            </a:xfrm>
            <a:custGeom>
              <a:avLst/>
              <a:gdLst/>
              <a:ahLst/>
              <a:rect l="0" t="0" r="r" b="b"/>
              <a:pathLst>
                <a:path w="3635" h="5306">
                  <a:moveTo>
                    <a:pt x="3547" y="3249"/>
                  </a:moveTo>
                  <a:lnTo>
                    <a:pt x="3564" y="3196"/>
                  </a:lnTo>
                  <a:lnTo>
                    <a:pt x="3569" y="3147"/>
                  </a:lnTo>
                  <a:lnTo>
                    <a:pt x="3587" y="3099"/>
                  </a:lnTo>
                  <a:lnTo>
                    <a:pt x="3595" y="3050"/>
                  </a:lnTo>
                  <a:lnTo>
                    <a:pt x="3547" y="3050"/>
                  </a:lnTo>
                  <a:lnTo>
                    <a:pt x="3516" y="3037"/>
                  </a:lnTo>
                  <a:lnTo>
                    <a:pt x="3459" y="3028"/>
                  </a:lnTo>
                  <a:lnTo>
                    <a:pt x="3428" y="3002"/>
                  </a:lnTo>
                  <a:lnTo>
                    <a:pt x="3401" y="2980"/>
                  </a:lnTo>
                  <a:lnTo>
                    <a:pt x="3388" y="2940"/>
                  </a:lnTo>
                  <a:lnTo>
                    <a:pt x="3361" y="2918"/>
                  </a:lnTo>
                  <a:lnTo>
                    <a:pt x="3357" y="2891"/>
                  </a:lnTo>
                  <a:lnTo>
                    <a:pt x="3339" y="2829"/>
                  </a:lnTo>
                  <a:lnTo>
                    <a:pt x="3339" y="2754"/>
                  </a:lnTo>
                  <a:lnTo>
                    <a:pt x="3357" y="2693"/>
                  </a:lnTo>
                  <a:lnTo>
                    <a:pt x="3388" y="2644"/>
                  </a:lnTo>
                  <a:lnTo>
                    <a:pt x="3450" y="2635"/>
                  </a:lnTo>
                  <a:lnTo>
                    <a:pt x="3498" y="2644"/>
                  </a:lnTo>
                  <a:lnTo>
                    <a:pt x="3547" y="2684"/>
                  </a:lnTo>
                  <a:lnTo>
                    <a:pt x="3587" y="2715"/>
                  </a:lnTo>
                  <a:lnTo>
                    <a:pt x="3617" y="2772"/>
                  </a:lnTo>
                  <a:lnTo>
                    <a:pt x="3635" y="2732"/>
                  </a:lnTo>
                  <a:lnTo>
                    <a:pt x="3635" y="2693"/>
                  </a:lnTo>
                  <a:lnTo>
                    <a:pt x="3635" y="2671"/>
                  </a:lnTo>
                  <a:lnTo>
                    <a:pt x="3635" y="2635"/>
                  </a:lnTo>
                  <a:lnTo>
                    <a:pt x="3617" y="2423"/>
                  </a:lnTo>
                  <a:lnTo>
                    <a:pt x="3595" y="2216"/>
                  </a:lnTo>
                  <a:lnTo>
                    <a:pt x="3564" y="2009"/>
                  </a:lnTo>
                  <a:lnTo>
                    <a:pt x="3498" y="1814"/>
                  </a:lnTo>
                  <a:lnTo>
                    <a:pt x="3428" y="1616"/>
                  </a:lnTo>
                  <a:lnTo>
                    <a:pt x="3339" y="1435"/>
                  </a:lnTo>
                  <a:lnTo>
                    <a:pt x="3242" y="1257"/>
                  </a:lnTo>
                  <a:lnTo>
                    <a:pt x="3132" y="1090"/>
                  </a:lnTo>
                  <a:lnTo>
                    <a:pt x="3114" y="1090"/>
                  </a:lnTo>
                  <a:lnTo>
                    <a:pt x="3101" y="1076"/>
                  </a:lnTo>
                  <a:lnTo>
                    <a:pt x="3083" y="1076"/>
                  </a:lnTo>
                  <a:lnTo>
                    <a:pt x="3061" y="1068"/>
                  </a:lnTo>
                  <a:lnTo>
                    <a:pt x="2991" y="1116"/>
                  </a:lnTo>
                  <a:lnTo>
                    <a:pt x="2951" y="1121"/>
                  </a:lnTo>
                  <a:lnTo>
                    <a:pt x="2915" y="1138"/>
                  </a:lnTo>
                  <a:lnTo>
                    <a:pt x="2876" y="1156"/>
                  </a:lnTo>
                  <a:lnTo>
                    <a:pt x="2836" y="1165"/>
                  </a:lnTo>
                  <a:lnTo>
                    <a:pt x="2787" y="1178"/>
                  </a:lnTo>
                  <a:lnTo>
                    <a:pt x="2734" y="1204"/>
                  </a:lnTo>
                  <a:lnTo>
                    <a:pt x="2676" y="1226"/>
                  </a:lnTo>
                  <a:lnTo>
                    <a:pt x="2623" y="1248"/>
                  </a:lnTo>
                  <a:lnTo>
                    <a:pt x="2574" y="1257"/>
                  </a:lnTo>
                  <a:lnTo>
                    <a:pt x="2535" y="1275"/>
                  </a:lnTo>
                  <a:lnTo>
                    <a:pt x="2504" y="1284"/>
                  </a:lnTo>
                  <a:lnTo>
                    <a:pt x="2460" y="1275"/>
                  </a:lnTo>
                  <a:lnTo>
                    <a:pt x="2446" y="1257"/>
                  </a:lnTo>
                  <a:lnTo>
                    <a:pt x="2420" y="1235"/>
                  </a:lnTo>
                  <a:lnTo>
                    <a:pt x="2416" y="1226"/>
                  </a:lnTo>
                  <a:lnTo>
                    <a:pt x="2398" y="1204"/>
                  </a:lnTo>
                  <a:lnTo>
                    <a:pt x="2367" y="1138"/>
                  </a:lnTo>
                  <a:lnTo>
                    <a:pt x="2349" y="1076"/>
                  </a:lnTo>
                  <a:lnTo>
                    <a:pt x="2349" y="1019"/>
                  </a:lnTo>
                  <a:lnTo>
                    <a:pt x="2340" y="957"/>
                  </a:lnTo>
                  <a:lnTo>
                    <a:pt x="2349" y="891"/>
                  </a:lnTo>
                  <a:lnTo>
                    <a:pt x="2389" y="838"/>
                  </a:lnTo>
                  <a:lnTo>
                    <a:pt x="2438" y="781"/>
                  </a:lnTo>
                  <a:lnTo>
                    <a:pt x="2486" y="750"/>
                  </a:lnTo>
                  <a:lnTo>
                    <a:pt x="2535" y="701"/>
                  </a:lnTo>
                  <a:lnTo>
                    <a:pt x="2574" y="644"/>
                  </a:lnTo>
                  <a:lnTo>
                    <a:pt x="2597" y="591"/>
                  </a:lnTo>
                  <a:lnTo>
                    <a:pt x="2597" y="525"/>
                  </a:lnTo>
                  <a:lnTo>
                    <a:pt x="2508" y="463"/>
                  </a:lnTo>
                  <a:lnTo>
                    <a:pt x="2438" y="406"/>
                  </a:lnTo>
                  <a:lnTo>
                    <a:pt x="2349" y="357"/>
                  </a:lnTo>
                  <a:lnTo>
                    <a:pt x="2261" y="308"/>
                  </a:lnTo>
                  <a:lnTo>
                    <a:pt x="2168" y="255"/>
                  </a:lnTo>
                  <a:lnTo>
                    <a:pt x="2080" y="207"/>
                  </a:lnTo>
                  <a:lnTo>
                    <a:pt x="1983" y="167"/>
                  </a:lnTo>
                  <a:lnTo>
                    <a:pt x="1890" y="136"/>
                  </a:lnTo>
                  <a:lnTo>
                    <a:pt x="1952" y="198"/>
                  </a:lnTo>
                  <a:lnTo>
                    <a:pt x="2009" y="247"/>
                  </a:lnTo>
                  <a:lnTo>
                    <a:pt x="2054" y="278"/>
                  </a:lnTo>
                  <a:lnTo>
                    <a:pt x="2137" y="326"/>
                  </a:lnTo>
                  <a:lnTo>
                    <a:pt x="2142" y="388"/>
                  </a:lnTo>
                  <a:lnTo>
                    <a:pt x="2137" y="463"/>
                  </a:lnTo>
                  <a:lnTo>
                    <a:pt x="2111" y="542"/>
                  </a:lnTo>
                  <a:lnTo>
                    <a:pt x="2111" y="595"/>
                  </a:lnTo>
                  <a:lnTo>
                    <a:pt x="2137" y="662"/>
                  </a:lnTo>
                  <a:lnTo>
                    <a:pt x="2137" y="684"/>
                  </a:lnTo>
                  <a:lnTo>
                    <a:pt x="2120" y="710"/>
                  </a:lnTo>
                  <a:lnTo>
                    <a:pt x="2093" y="732"/>
                  </a:lnTo>
                  <a:lnTo>
                    <a:pt x="2071" y="750"/>
                  </a:lnTo>
                  <a:lnTo>
                    <a:pt x="2054" y="772"/>
                  </a:lnTo>
                  <a:lnTo>
                    <a:pt x="2054" y="794"/>
                  </a:lnTo>
                  <a:lnTo>
                    <a:pt x="2054" y="838"/>
                  </a:lnTo>
                  <a:lnTo>
                    <a:pt x="2049" y="860"/>
                  </a:lnTo>
                  <a:lnTo>
                    <a:pt x="2031" y="869"/>
                  </a:lnTo>
                  <a:lnTo>
                    <a:pt x="2023" y="882"/>
                  </a:lnTo>
                  <a:lnTo>
                    <a:pt x="2009" y="882"/>
                  </a:lnTo>
                  <a:lnTo>
                    <a:pt x="2001" y="882"/>
                  </a:lnTo>
                  <a:lnTo>
                    <a:pt x="1974" y="869"/>
                  </a:lnTo>
                  <a:lnTo>
                    <a:pt x="1952" y="882"/>
                  </a:lnTo>
                  <a:lnTo>
                    <a:pt x="1912" y="891"/>
                  </a:lnTo>
                  <a:lnTo>
                    <a:pt x="1890" y="891"/>
                  </a:lnTo>
                  <a:lnTo>
                    <a:pt x="1872" y="882"/>
                  </a:lnTo>
                  <a:lnTo>
                    <a:pt x="1872" y="869"/>
                  </a:lnTo>
                  <a:lnTo>
                    <a:pt x="1864" y="860"/>
                  </a:lnTo>
                  <a:lnTo>
                    <a:pt x="1850" y="723"/>
                  </a:lnTo>
                  <a:lnTo>
                    <a:pt x="1815" y="701"/>
                  </a:lnTo>
                  <a:lnTo>
                    <a:pt x="1793" y="662"/>
                  </a:lnTo>
                  <a:lnTo>
                    <a:pt x="1753" y="622"/>
                  </a:lnTo>
                  <a:lnTo>
                    <a:pt x="1722" y="591"/>
                  </a:lnTo>
                  <a:lnTo>
                    <a:pt x="1705" y="551"/>
                  </a:lnTo>
                  <a:lnTo>
                    <a:pt x="1696" y="516"/>
                  </a:lnTo>
                  <a:lnTo>
                    <a:pt x="1683" y="476"/>
                  </a:lnTo>
                  <a:lnTo>
                    <a:pt x="1696" y="454"/>
                  </a:lnTo>
                  <a:lnTo>
                    <a:pt x="1705" y="436"/>
                  </a:lnTo>
                  <a:lnTo>
                    <a:pt x="1722" y="436"/>
                  </a:lnTo>
                  <a:lnTo>
                    <a:pt x="1722" y="428"/>
                  </a:lnTo>
                  <a:lnTo>
                    <a:pt x="1727" y="428"/>
                  </a:lnTo>
                  <a:lnTo>
                    <a:pt x="1753" y="454"/>
                  </a:lnTo>
                  <a:lnTo>
                    <a:pt x="1793" y="476"/>
                  </a:lnTo>
                  <a:lnTo>
                    <a:pt x="1824" y="485"/>
                  </a:lnTo>
                  <a:lnTo>
                    <a:pt x="1864" y="485"/>
                  </a:lnTo>
                  <a:lnTo>
                    <a:pt x="1872" y="485"/>
                  </a:lnTo>
                  <a:lnTo>
                    <a:pt x="1872" y="476"/>
                  </a:lnTo>
                  <a:lnTo>
                    <a:pt x="1872" y="317"/>
                  </a:lnTo>
                  <a:lnTo>
                    <a:pt x="1815" y="247"/>
                  </a:lnTo>
                  <a:lnTo>
                    <a:pt x="1744" y="185"/>
                  </a:lnTo>
                  <a:lnTo>
                    <a:pt x="1665" y="119"/>
                  </a:lnTo>
                  <a:lnTo>
                    <a:pt x="1608" y="39"/>
                  </a:lnTo>
                  <a:lnTo>
                    <a:pt x="1546" y="22"/>
                  </a:lnTo>
                  <a:lnTo>
                    <a:pt x="1497" y="8"/>
                  </a:lnTo>
                  <a:lnTo>
                    <a:pt x="1435" y="0"/>
                  </a:lnTo>
                  <a:lnTo>
                    <a:pt x="1378" y="0"/>
                  </a:lnTo>
                  <a:lnTo>
                    <a:pt x="1360" y="0"/>
                  </a:lnTo>
                  <a:lnTo>
                    <a:pt x="1360" y="8"/>
                  </a:lnTo>
                  <a:lnTo>
                    <a:pt x="1360" y="22"/>
                  </a:lnTo>
                  <a:lnTo>
                    <a:pt x="1356" y="39"/>
                  </a:lnTo>
                  <a:lnTo>
                    <a:pt x="1276" y="61"/>
                  </a:lnTo>
                  <a:lnTo>
                    <a:pt x="1241" y="119"/>
                  </a:lnTo>
                  <a:lnTo>
                    <a:pt x="1219" y="185"/>
                  </a:lnTo>
                  <a:lnTo>
                    <a:pt x="1170" y="247"/>
                  </a:lnTo>
                  <a:lnTo>
                    <a:pt x="1148" y="247"/>
                  </a:lnTo>
                  <a:lnTo>
                    <a:pt x="1131" y="247"/>
                  </a:lnTo>
                  <a:lnTo>
                    <a:pt x="1109" y="247"/>
                  </a:lnTo>
                  <a:lnTo>
                    <a:pt x="1100" y="255"/>
                  </a:lnTo>
                  <a:lnTo>
                    <a:pt x="1060" y="317"/>
                  </a:lnTo>
                  <a:lnTo>
                    <a:pt x="1020" y="383"/>
                  </a:lnTo>
                  <a:lnTo>
                    <a:pt x="989" y="436"/>
                  </a:lnTo>
                  <a:lnTo>
                    <a:pt x="941" y="485"/>
                  </a:lnTo>
                  <a:lnTo>
                    <a:pt x="923" y="485"/>
                  </a:lnTo>
                  <a:lnTo>
                    <a:pt x="923" y="503"/>
                  </a:lnTo>
                  <a:lnTo>
                    <a:pt x="812" y="613"/>
                  </a:lnTo>
                  <a:lnTo>
                    <a:pt x="812" y="622"/>
                  </a:lnTo>
                  <a:lnTo>
                    <a:pt x="860" y="644"/>
                  </a:lnTo>
                  <a:lnTo>
                    <a:pt x="923" y="662"/>
                  </a:lnTo>
                  <a:lnTo>
                    <a:pt x="989" y="675"/>
                  </a:lnTo>
                  <a:lnTo>
                    <a:pt x="1034" y="675"/>
                  </a:lnTo>
                  <a:lnTo>
                    <a:pt x="1042" y="684"/>
                  </a:lnTo>
                  <a:lnTo>
                    <a:pt x="1060" y="684"/>
                  </a:lnTo>
                  <a:lnTo>
                    <a:pt x="1060" y="701"/>
                  </a:lnTo>
                  <a:lnTo>
                    <a:pt x="1069" y="710"/>
                  </a:lnTo>
                  <a:lnTo>
                    <a:pt x="1060" y="723"/>
                  </a:lnTo>
                  <a:lnTo>
                    <a:pt x="1034" y="732"/>
                  </a:lnTo>
                  <a:lnTo>
                    <a:pt x="1020" y="750"/>
                  </a:lnTo>
                  <a:lnTo>
                    <a:pt x="994" y="754"/>
                  </a:lnTo>
                  <a:lnTo>
                    <a:pt x="972" y="794"/>
                  </a:lnTo>
                  <a:lnTo>
                    <a:pt x="950" y="860"/>
                  </a:lnTo>
                  <a:lnTo>
                    <a:pt x="923" y="917"/>
                  </a:lnTo>
                  <a:lnTo>
                    <a:pt x="923" y="979"/>
                  </a:lnTo>
                  <a:lnTo>
                    <a:pt x="941" y="1001"/>
                  </a:lnTo>
                  <a:lnTo>
                    <a:pt x="950" y="1001"/>
                  </a:lnTo>
                  <a:lnTo>
                    <a:pt x="941" y="1019"/>
                  </a:lnTo>
                  <a:lnTo>
                    <a:pt x="923" y="1050"/>
                  </a:lnTo>
                  <a:lnTo>
                    <a:pt x="941" y="1068"/>
                  </a:lnTo>
                  <a:lnTo>
                    <a:pt x="950" y="1076"/>
                  </a:lnTo>
                  <a:lnTo>
                    <a:pt x="1020" y="1028"/>
                  </a:lnTo>
                  <a:lnTo>
                    <a:pt x="1148" y="1019"/>
                  </a:lnTo>
                  <a:lnTo>
                    <a:pt x="1148" y="1001"/>
                  </a:lnTo>
                  <a:lnTo>
                    <a:pt x="1157" y="997"/>
                  </a:lnTo>
                  <a:lnTo>
                    <a:pt x="1170" y="997"/>
                  </a:lnTo>
                  <a:lnTo>
                    <a:pt x="1179" y="979"/>
                  </a:lnTo>
                  <a:lnTo>
                    <a:pt x="1179" y="882"/>
                  </a:lnTo>
                  <a:lnTo>
                    <a:pt x="1276" y="684"/>
                  </a:lnTo>
                  <a:lnTo>
                    <a:pt x="1290" y="684"/>
                  </a:lnTo>
                  <a:lnTo>
                    <a:pt x="1338" y="750"/>
                  </a:lnTo>
                  <a:lnTo>
                    <a:pt x="1378" y="794"/>
                  </a:lnTo>
                  <a:lnTo>
                    <a:pt x="1427" y="860"/>
                  </a:lnTo>
                  <a:lnTo>
                    <a:pt x="1484" y="909"/>
                  </a:lnTo>
                  <a:lnTo>
                    <a:pt x="1515" y="931"/>
                  </a:lnTo>
                  <a:lnTo>
                    <a:pt x="1524" y="957"/>
                  </a:lnTo>
                  <a:lnTo>
                    <a:pt x="1546" y="997"/>
                  </a:lnTo>
                  <a:lnTo>
                    <a:pt x="1563" y="1019"/>
                  </a:lnTo>
                  <a:lnTo>
                    <a:pt x="1563" y="1076"/>
                  </a:lnTo>
                  <a:lnTo>
                    <a:pt x="1563" y="1138"/>
                  </a:lnTo>
                  <a:lnTo>
                    <a:pt x="1586" y="1204"/>
                  </a:lnTo>
                  <a:lnTo>
                    <a:pt x="1608" y="1248"/>
                  </a:lnTo>
                  <a:lnTo>
                    <a:pt x="1616" y="1257"/>
                  </a:lnTo>
                  <a:lnTo>
                    <a:pt x="1634" y="1275"/>
                  </a:lnTo>
                  <a:lnTo>
                    <a:pt x="1643" y="1284"/>
                  </a:lnTo>
                  <a:lnTo>
                    <a:pt x="1656" y="1297"/>
                  </a:lnTo>
                  <a:lnTo>
                    <a:pt x="1656" y="1315"/>
                  </a:lnTo>
                  <a:lnTo>
                    <a:pt x="1643" y="1324"/>
                  </a:lnTo>
                  <a:lnTo>
                    <a:pt x="1643" y="1347"/>
                  </a:lnTo>
                  <a:lnTo>
                    <a:pt x="1634" y="1364"/>
                  </a:lnTo>
                  <a:lnTo>
                    <a:pt x="1586" y="1347"/>
                  </a:lnTo>
                  <a:lnTo>
                    <a:pt x="1537" y="1297"/>
                  </a:lnTo>
                  <a:lnTo>
                    <a:pt x="1484" y="1257"/>
                  </a:lnTo>
                  <a:lnTo>
                    <a:pt x="1427" y="1248"/>
                  </a:lnTo>
                  <a:lnTo>
                    <a:pt x="1387" y="1275"/>
                  </a:lnTo>
                  <a:lnTo>
                    <a:pt x="1360" y="1297"/>
                  </a:lnTo>
                  <a:lnTo>
                    <a:pt x="1321" y="1324"/>
                  </a:lnTo>
                  <a:lnTo>
                    <a:pt x="1307" y="1347"/>
                  </a:lnTo>
                  <a:lnTo>
                    <a:pt x="1316" y="1364"/>
                  </a:lnTo>
                  <a:lnTo>
                    <a:pt x="1321" y="1369"/>
                  </a:lnTo>
                  <a:lnTo>
                    <a:pt x="1321" y="1386"/>
                  </a:lnTo>
                  <a:lnTo>
                    <a:pt x="1338" y="1386"/>
                  </a:lnTo>
                  <a:lnTo>
                    <a:pt x="1378" y="1386"/>
                  </a:lnTo>
                  <a:lnTo>
                    <a:pt x="1400" y="1395"/>
                  </a:lnTo>
                  <a:lnTo>
                    <a:pt x="1409" y="1417"/>
                  </a:lnTo>
                  <a:lnTo>
                    <a:pt x="1427" y="1457"/>
                  </a:lnTo>
                  <a:lnTo>
                    <a:pt x="1409" y="1475"/>
                  </a:lnTo>
                  <a:lnTo>
                    <a:pt x="1400" y="1497"/>
                  </a:lnTo>
                  <a:lnTo>
                    <a:pt x="1148" y="1444"/>
                  </a:lnTo>
                  <a:lnTo>
                    <a:pt x="1148" y="1475"/>
                  </a:lnTo>
                  <a:lnTo>
                    <a:pt x="1148" y="1497"/>
                  </a:lnTo>
                  <a:lnTo>
                    <a:pt x="1148" y="1523"/>
                  </a:lnTo>
                  <a:lnTo>
                    <a:pt x="1131" y="1532"/>
                  </a:lnTo>
                  <a:lnTo>
                    <a:pt x="1109" y="1572"/>
                  </a:lnTo>
                  <a:lnTo>
                    <a:pt x="1100" y="1576"/>
                  </a:lnTo>
                  <a:lnTo>
                    <a:pt x="1069" y="1616"/>
                  </a:lnTo>
                  <a:lnTo>
                    <a:pt x="994" y="1735"/>
                  </a:lnTo>
                  <a:lnTo>
                    <a:pt x="834" y="1814"/>
                  </a:lnTo>
                  <a:lnTo>
                    <a:pt x="830" y="1823"/>
                  </a:lnTo>
                  <a:lnTo>
                    <a:pt x="812" y="1850"/>
                  </a:lnTo>
                  <a:lnTo>
                    <a:pt x="812" y="1872"/>
                  </a:lnTo>
                  <a:lnTo>
                    <a:pt x="812" y="1898"/>
                  </a:lnTo>
                  <a:lnTo>
                    <a:pt x="812" y="1938"/>
                  </a:lnTo>
                  <a:lnTo>
                    <a:pt x="812" y="2000"/>
                  </a:lnTo>
                  <a:lnTo>
                    <a:pt x="812" y="2070"/>
                  </a:lnTo>
                  <a:lnTo>
                    <a:pt x="812" y="2110"/>
                  </a:lnTo>
                  <a:lnTo>
                    <a:pt x="763" y="2110"/>
                  </a:lnTo>
                  <a:lnTo>
                    <a:pt x="724" y="2097"/>
                  </a:lnTo>
                  <a:lnTo>
                    <a:pt x="693" y="2070"/>
                  </a:lnTo>
                  <a:lnTo>
                    <a:pt x="666" y="2048"/>
                  </a:lnTo>
                  <a:lnTo>
                    <a:pt x="666" y="1982"/>
                  </a:lnTo>
                  <a:lnTo>
                    <a:pt x="653" y="1920"/>
                  </a:lnTo>
                  <a:lnTo>
                    <a:pt x="622" y="1872"/>
                  </a:lnTo>
                  <a:lnTo>
                    <a:pt x="573" y="1823"/>
                  </a:lnTo>
                  <a:lnTo>
                    <a:pt x="516" y="1841"/>
                  </a:lnTo>
                  <a:lnTo>
                    <a:pt x="485" y="1841"/>
                  </a:lnTo>
                  <a:lnTo>
                    <a:pt x="445" y="1823"/>
                  </a:lnTo>
                  <a:lnTo>
                    <a:pt x="415" y="1801"/>
                  </a:lnTo>
                  <a:lnTo>
                    <a:pt x="366" y="1775"/>
                  </a:lnTo>
                  <a:lnTo>
                    <a:pt x="317" y="1753"/>
                  </a:lnTo>
                  <a:lnTo>
                    <a:pt x="260" y="1735"/>
                  </a:lnTo>
                  <a:lnTo>
                    <a:pt x="216" y="1731"/>
                  </a:lnTo>
                  <a:lnTo>
                    <a:pt x="167" y="1775"/>
                  </a:lnTo>
                  <a:lnTo>
                    <a:pt x="92" y="1872"/>
                  </a:lnTo>
                  <a:lnTo>
                    <a:pt x="22" y="1978"/>
                  </a:lnTo>
                  <a:lnTo>
                    <a:pt x="0" y="2009"/>
                  </a:lnTo>
                  <a:lnTo>
                    <a:pt x="92" y="2097"/>
                  </a:lnTo>
                  <a:lnTo>
                    <a:pt x="110" y="2278"/>
                  </a:lnTo>
                  <a:lnTo>
                    <a:pt x="128" y="2278"/>
                  </a:lnTo>
                  <a:lnTo>
                    <a:pt x="167" y="2265"/>
                  </a:lnTo>
                  <a:lnTo>
                    <a:pt x="189" y="2256"/>
                  </a:lnTo>
                  <a:lnTo>
                    <a:pt x="216" y="2229"/>
                  </a:lnTo>
                  <a:lnTo>
                    <a:pt x="238" y="2190"/>
                  </a:lnTo>
                  <a:lnTo>
                    <a:pt x="256" y="2167"/>
                  </a:lnTo>
                  <a:lnTo>
                    <a:pt x="278" y="2141"/>
                  </a:lnTo>
                  <a:lnTo>
                    <a:pt x="317" y="2119"/>
                  </a:lnTo>
                  <a:lnTo>
                    <a:pt x="326" y="2119"/>
                  </a:lnTo>
                  <a:lnTo>
                    <a:pt x="326" y="2137"/>
                  </a:lnTo>
                  <a:lnTo>
                    <a:pt x="326" y="2141"/>
                  </a:lnTo>
                  <a:lnTo>
                    <a:pt x="278" y="2375"/>
                  </a:lnTo>
                  <a:lnTo>
                    <a:pt x="348" y="2454"/>
                  </a:lnTo>
                  <a:lnTo>
                    <a:pt x="339" y="2503"/>
                  </a:lnTo>
                  <a:lnTo>
                    <a:pt x="300" y="2534"/>
                  </a:lnTo>
                  <a:lnTo>
                    <a:pt x="260" y="2574"/>
                  </a:lnTo>
                  <a:lnTo>
                    <a:pt x="238" y="2635"/>
                  </a:lnTo>
                  <a:lnTo>
                    <a:pt x="238" y="2684"/>
                  </a:lnTo>
                  <a:lnTo>
                    <a:pt x="278" y="2732"/>
                  </a:lnTo>
                  <a:lnTo>
                    <a:pt x="326" y="2781"/>
                  </a:lnTo>
                  <a:lnTo>
                    <a:pt x="388" y="2829"/>
                  </a:lnTo>
                  <a:lnTo>
                    <a:pt x="445" y="2852"/>
                  </a:lnTo>
                  <a:lnTo>
                    <a:pt x="503" y="2852"/>
                  </a:lnTo>
                  <a:lnTo>
                    <a:pt x="547" y="2843"/>
                  </a:lnTo>
                  <a:lnTo>
                    <a:pt x="582" y="2829"/>
                  </a:lnTo>
                  <a:lnTo>
                    <a:pt x="622" y="2803"/>
                  </a:lnTo>
                  <a:lnTo>
                    <a:pt x="653" y="2803"/>
                  </a:lnTo>
                  <a:lnTo>
                    <a:pt x="675" y="2821"/>
                  </a:lnTo>
                  <a:lnTo>
                    <a:pt x="706" y="2829"/>
                  </a:lnTo>
                  <a:lnTo>
                    <a:pt x="741" y="2843"/>
                  </a:lnTo>
                  <a:lnTo>
                    <a:pt x="812" y="2878"/>
                  </a:lnTo>
                  <a:lnTo>
                    <a:pt x="860" y="2918"/>
                  </a:lnTo>
                  <a:lnTo>
                    <a:pt x="923" y="2957"/>
                  </a:lnTo>
                  <a:lnTo>
                    <a:pt x="972" y="2988"/>
                  </a:lnTo>
                  <a:lnTo>
                    <a:pt x="994" y="3050"/>
                  </a:lnTo>
                  <a:lnTo>
                    <a:pt x="1012" y="3116"/>
                  </a:lnTo>
                  <a:lnTo>
                    <a:pt x="1020" y="3187"/>
                  </a:lnTo>
                  <a:lnTo>
                    <a:pt x="1034" y="3258"/>
                  </a:lnTo>
                  <a:lnTo>
                    <a:pt x="1100" y="3284"/>
                  </a:lnTo>
                  <a:lnTo>
                    <a:pt x="1157" y="3306"/>
                  </a:lnTo>
                  <a:lnTo>
                    <a:pt x="1219" y="3346"/>
                  </a:lnTo>
                  <a:lnTo>
                    <a:pt x="1268" y="3408"/>
                  </a:lnTo>
                  <a:lnTo>
                    <a:pt x="1316" y="3531"/>
                  </a:lnTo>
                  <a:lnTo>
                    <a:pt x="1360" y="3664"/>
                  </a:lnTo>
                  <a:lnTo>
                    <a:pt x="1409" y="3800"/>
                  </a:lnTo>
                  <a:lnTo>
                    <a:pt x="1475" y="3911"/>
                  </a:lnTo>
                  <a:lnTo>
                    <a:pt x="1546" y="3991"/>
                  </a:lnTo>
                  <a:lnTo>
                    <a:pt x="1616" y="4079"/>
                  </a:lnTo>
                  <a:lnTo>
                    <a:pt x="1683" y="4168"/>
                  </a:lnTo>
                  <a:lnTo>
                    <a:pt x="1744" y="4265"/>
                  </a:lnTo>
                  <a:lnTo>
                    <a:pt x="1753" y="4327"/>
                  </a:lnTo>
                  <a:lnTo>
                    <a:pt x="1753" y="4384"/>
                  </a:lnTo>
                  <a:lnTo>
                    <a:pt x="1727" y="4446"/>
                  </a:lnTo>
                  <a:lnTo>
                    <a:pt x="1683" y="4494"/>
                  </a:lnTo>
                  <a:lnTo>
                    <a:pt x="1608" y="4512"/>
                  </a:lnTo>
                  <a:lnTo>
                    <a:pt x="1537" y="4534"/>
                  </a:lnTo>
                  <a:lnTo>
                    <a:pt x="1475" y="4556"/>
                  </a:lnTo>
                  <a:lnTo>
                    <a:pt x="1409" y="4583"/>
                  </a:lnTo>
                  <a:lnTo>
                    <a:pt x="1356" y="4605"/>
                  </a:lnTo>
                  <a:lnTo>
                    <a:pt x="1290" y="4644"/>
                  </a:lnTo>
                  <a:lnTo>
                    <a:pt x="1228" y="4693"/>
                  </a:lnTo>
                  <a:lnTo>
                    <a:pt x="1157" y="4741"/>
                  </a:lnTo>
                  <a:lnTo>
                    <a:pt x="1100" y="4781"/>
                  </a:lnTo>
                  <a:lnTo>
                    <a:pt x="1020" y="4812"/>
                  </a:lnTo>
                  <a:lnTo>
                    <a:pt x="950" y="4830"/>
                  </a:lnTo>
                  <a:lnTo>
                    <a:pt x="874" y="4852"/>
                  </a:lnTo>
                  <a:lnTo>
                    <a:pt x="803" y="4878"/>
                  </a:lnTo>
                  <a:lnTo>
                    <a:pt x="724" y="4900"/>
                  </a:lnTo>
                  <a:lnTo>
                    <a:pt x="666" y="4940"/>
                  </a:lnTo>
                  <a:lnTo>
                    <a:pt x="622" y="4997"/>
                  </a:lnTo>
                  <a:lnTo>
                    <a:pt x="547" y="5059"/>
                  </a:lnTo>
                  <a:lnTo>
                    <a:pt x="467" y="5121"/>
                  </a:lnTo>
                  <a:lnTo>
                    <a:pt x="388" y="5170"/>
                  </a:lnTo>
                  <a:lnTo>
                    <a:pt x="300" y="5209"/>
                  </a:lnTo>
                  <a:lnTo>
                    <a:pt x="388" y="5236"/>
                  </a:lnTo>
                  <a:lnTo>
                    <a:pt x="467" y="5245"/>
                  </a:lnTo>
                  <a:lnTo>
                    <a:pt x="547" y="5267"/>
                  </a:lnTo>
                  <a:lnTo>
                    <a:pt x="626" y="5284"/>
                  </a:lnTo>
                  <a:lnTo>
                    <a:pt x="715" y="5289"/>
                  </a:lnTo>
                  <a:lnTo>
                    <a:pt x="803" y="5289"/>
                  </a:lnTo>
                  <a:lnTo>
                    <a:pt x="883" y="5306"/>
                  </a:lnTo>
                  <a:lnTo>
                    <a:pt x="972" y="5306"/>
                  </a:lnTo>
                  <a:lnTo>
                    <a:pt x="1113" y="5306"/>
                  </a:lnTo>
                  <a:lnTo>
                    <a:pt x="1268" y="5289"/>
                  </a:lnTo>
                  <a:lnTo>
                    <a:pt x="1409" y="5267"/>
                  </a:lnTo>
                  <a:lnTo>
                    <a:pt x="1563" y="5236"/>
                  </a:lnTo>
                  <a:lnTo>
                    <a:pt x="1705" y="5196"/>
                  </a:lnTo>
                  <a:lnTo>
                    <a:pt x="1842" y="5156"/>
                  </a:lnTo>
                  <a:lnTo>
                    <a:pt x="1974" y="5099"/>
                  </a:lnTo>
                  <a:lnTo>
                    <a:pt x="2111" y="5037"/>
                  </a:lnTo>
                  <a:lnTo>
                    <a:pt x="2230" y="4971"/>
                  </a:lnTo>
                  <a:lnTo>
                    <a:pt x="2367" y="4900"/>
                  </a:lnTo>
                  <a:lnTo>
                    <a:pt x="2469" y="4830"/>
                  </a:lnTo>
                  <a:lnTo>
                    <a:pt x="2597" y="4741"/>
                  </a:lnTo>
                  <a:lnTo>
                    <a:pt x="2707" y="4644"/>
                  </a:lnTo>
                  <a:lnTo>
                    <a:pt x="2814" y="4543"/>
                  </a:lnTo>
                  <a:lnTo>
                    <a:pt x="2915" y="4446"/>
                  </a:lnTo>
                  <a:lnTo>
                    <a:pt x="3013" y="4335"/>
                  </a:lnTo>
                  <a:lnTo>
                    <a:pt x="2942" y="4265"/>
                  </a:lnTo>
                  <a:lnTo>
                    <a:pt x="2854" y="4216"/>
                  </a:lnTo>
                  <a:lnTo>
                    <a:pt x="2765" y="4150"/>
                  </a:lnTo>
                  <a:lnTo>
                    <a:pt x="2694" y="4102"/>
                  </a:lnTo>
                  <a:lnTo>
                    <a:pt x="2605" y="4071"/>
                  </a:lnTo>
                  <a:lnTo>
                    <a:pt x="2535" y="4049"/>
                  </a:lnTo>
                  <a:lnTo>
                    <a:pt x="2460" y="3991"/>
                  </a:lnTo>
                  <a:lnTo>
                    <a:pt x="2416" y="3942"/>
                  </a:lnTo>
                  <a:lnTo>
                    <a:pt x="2416" y="3937"/>
                  </a:lnTo>
                  <a:lnTo>
                    <a:pt x="2416" y="3920"/>
                  </a:lnTo>
                  <a:lnTo>
                    <a:pt x="2398" y="3920"/>
                  </a:lnTo>
                  <a:lnTo>
                    <a:pt x="2398" y="3911"/>
                  </a:lnTo>
                  <a:lnTo>
                    <a:pt x="2398" y="3858"/>
                  </a:lnTo>
                  <a:lnTo>
                    <a:pt x="2416" y="3809"/>
                  </a:lnTo>
                  <a:lnTo>
                    <a:pt x="2416" y="3774"/>
                  </a:lnTo>
                  <a:lnTo>
                    <a:pt x="2420" y="3730"/>
                  </a:lnTo>
                  <a:lnTo>
                    <a:pt x="2460" y="3615"/>
                  </a:lnTo>
                  <a:lnTo>
                    <a:pt x="2504" y="3491"/>
                  </a:lnTo>
                  <a:lnTo>
                    <a:pt x="2557" y="3394"/>
                  </a:lnTo>
                  <a:lnTo>
                    <a:pt x="2654" y="3324"/>
                  </a:lnTo>
                  <a:lnTo>
                    <a:pt x="2707" y="3306"/>
                  </a:lnTo>
                  <a:lnTo>
                    <a:pt x="2757" y="3284"/>
                  </a:lnTo>
                  <a:lnTo>
                    <a:pt x="2787" y="3275"/>
                  </a:lnTo>
                  <a:lnTo>
                    <a:pt x="2836" y="3258"/>
                  </a:lnTo>
                  <a:lnTo>
                    <a:pt x="2893" y="3258"/>
                  </a:lnTo>
                  <a:lnTo>
                    <a:pt x="2942" y="3249"/>
                  </a:lnTo>
                  <a:lnTo>
                    <a:pt x="2973" y="3218"/>
                  </a:lnTo>
                  <a:lnTo>
                    <a:pt x="3021" y="3209"/>
                  </a:lnTo>
                  <a:lnTo>
                    <a:pt x="3070" y="3209"/>
                  </a:lnTo>
                  <a:lnTo>
                    <a:pt x="3110" y="3187"/>
                  </a:lnTo>
                  <a:lnTo>
                    <a:pt x="3158" y="3169"/>
                  </a:lnTo>
                  <a:lnTo>
                    <a:pt x="3202" y="3147"/>
                  </a:lnTo>
                  <a:lnTo>
                    <a:pt x="3251" y="3138"/>
                  </a:lnTo>
                  <a:lnTo>
                    <a:pt x="3308" y="3121"/>
                  </a:lnTo>
                  <a:lnTo>
                    <a:pt x="3357" y="3121"/>
                  </a:lnTo>
                  <a:lnTo>
                    <a:pt x="3401" y="3138"/>
                  </a:lnTo>
                  <a:lnTo>
                    <a:pt x="3428" y="3165"/>
                  </a:lnTo>
                  <a:lnTo>
                    <a:pt x="3459" y="3187"/>
                  </a:lnTo>
                  <a:lnTo>
                    <a:pt x="3498" y="3218"/>
                  </a:lnTo>
                  <a:lnTo>
                    <a:pt x="3547" y="3249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1320" y="4498920"/>
              <a:ext cx="100440" cy="116280"/>
            </a:xfrm>
            <a:custGeom>
              <a:avLst/>
              <a:gdLst/>
              <a:ahLst/>
              <a:rect l="0" t="0" r="r" b="b"/>
              <a:pathLst>
                <a:path w="279" h="323">
                  <a:moveTo>
                    <a:pt x="189" y="292"/>
                  </a:moveTo>
                  <a:lnTo>
                    <a:pt x="261" y="323"/>
                  </a:lnTo>
                  <a:lnTo>
                    <a:pt x="279" y="323"/>
                  </a:lnTo>
                  <a:lnTo>
                    <a:pt x="279" y="301"/>
                  </a:lnTo>
                  <a:lnTo>
                    <a:pt x="261" y="292"/>
                  </a:lnTo>
                  <a:lnTo>
                    <a:pt x="261" y="279"/>
                  </a:lnTo>
                  <a:lnTo>
                    <a:pt x="198" y="252"/>
                  </a:lnTo>
                  <a:lnTo>
                    <a:pt x="166" y="202"/>
                  </a:lnTo>
                  <a:lnTo>
                    <a:pt x="139" y="153"/>
                  </a:lnTo>
                  <a:lnTo>
                    <a:pt x="117" y="90"/>
                  </a:lnTo>
                  <a:lnTo>
                    <a:pt x="40" y="0"/>
                  </a:lnTo>
                  <a:lnTo>
                    <a:pt x="26" y="17"/>
                  </a:lnTo>
                  <a:lnTo>
                    <a:pt x="8" y="40"/>
                  </a:lnTo>
                  <a:lnTo>
                    <a:pt x="0" y="49"/>
                  </a:lnTo>
                  <a:lnTo>
                    <a:pt x="0" y="80"/>
                  </a:lnTo>
                  <a:lnTo>
                    <a:pt x="0" y="90"/>
                  </a:lnTo>
                  <a:lnTo>
                    <a:pt x="40" y="139"/>
                  </a:lnTo>
                  <a:lnTo>
                    <a:pt x="90" y="202"/>
                  </a:lnTo>
                  <a:lnTo>
                    <a:pt x="139" y="252"/>
                  </a:lnTo>
                  <a:lnTo>
                    <a:pt x="189" y="292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Хранилища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400" y="4114800"/>
            <a:ext cx="640080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Технологии и методы хранилищ данных Or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Copyright ©Yuri Voinov, Arina &amp; COM,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Загрузка C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84200" y="2222640"/>
            <a:ext cx="578340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Оперативная                            Хранилищ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49480" y="3111480"/>
            <a:ext cx="2718000" cy="1236960"/>
          </a:xfrm>
          <a:custGeom>
            <a:avLst/>
            <a:gdLst/>
            <a:ahLst/>
            <a:rect l="0" t="0" r="r" b="b"/>
            <a:pathLst>
              <a:path fill="none" w="7550" h="3436">
                <a:moveTo>
                  <a:pt x="0" y="3303"/>
                </a:moveTo>
                <a:lnTo>
                  <a:pt x="132" y="3303"/>
                </a:lnTo>
                <a:lnTo>
                  <a:pt x="229" y="3303"/>
                </a:lnTo>
                <a:lnTo>
                  <a:pt x="326" y="3272"/>
                </a:lnTo>
                <a:lnTo>
                  <a:pt x="427" y="3272"/>
                </a:lnTo>
                <a:lnTo>
                  <a:pt x="525" y="3272"/>
                </a:lnTo>
                <a:lnTo>
                  <a:pt x="622" y="3272"/>
                </a:lnTo>
                <a:lnTo>
                  <a:pt x="719" y="3272"/>
                </a:lnTo>
                <a:lnTo>
                  <a:pt x="820" y="3303"/>
                </a:lnTo>
                <a:lnTo>
                  <a:pt x="917" y="3334"/>
                </a:lnTo>
                <a:lnTo>
                  <a:pt x="1014" y="3369"/>
                </a:lnTo>
                <a:lnTo>
                  <a:pt x="1111" y="3400"/>
                </a:lnTo>
                <a:lnTo>
                  <a:pt x="1208" y="3400"/>
                </a:lnTo>
                <a:lnTo>
                  <a:pt x="1310" y="3369"/>
                </a:lnTo>
                <a:lnTo>
                  <a:pt x="1407" y="3369"/>
                </a:lnTo>
                <a:lnTo>
                  <a:pt x="1535" y="3400"/>
                </a:lnTo>
                <a:lnTo>
                  <a:pt x="1636" y="3400"/>
                </a:lnTo>
                <a:lnTo>
                  <a:pt x="1734" y="3400"/>
                </a:lnTo>
                <a:lnTo>
                  <a:pt x="1831" y="3400"/>
                </a:lnTo>
                <a:lnTo>
                  <a:pt x="1928" y="3400"/>
                </a:lnTo>
                <a:lnTo>
                  <a:pt x="2060" y="3436"/>
                </a:lnTo>
                <a:lnTo>
                  <a:pt x="2157" y="3436"/>
                </a:lnTo>
                <a:lnTo>
                  <a:pt x="2254" y="3436"/>
                </a:lnTo>
                <a:lnTo>
                  <a:pt x="2356" y="3436"/>
                </a:lnTo>
                <a:lnTo>
                  <a:pt x="2453" y="3400"/>
                </a:lnTo>
                <a:lnTo>
                  <a:pt x="2581" y="3400"/>
                </a:lnTo>
                <a:lnTo>
                  <a:pt x="2647" y="3303"/>
                </a:lnTo>
                <a:lnTo>
                  <a:pt x="2748" y="3237"/>
                </a:lnTo>
                <a:lnTo>
                  <a:pt x="2810" y="3140"/>
                </a:lnTo>
                <a:lnTo>
                  <a:pt x="2912" y="3043"/>
                </a:lnTo>
                <a:lnTo>
                  <a:pt x="2912" y="2946"/>
                </a:lnTo>
                <a:lnTo>
                  <a:pt x="2973" y="2844"/>
                </a:lnTo>
                <a:lnTo>
                  <a:pt x="3009" y="2747"/>
                </a:lnTo>
                <a:lnTo>
                  <a:pt x="3040" y="2650"/>
                </a:lnTo>
                <a:lnTo>
                  <a:pt x="3040" y="2517"/>
                </a:lnTo>
                <a:lnTo>
                  <a:pt x="3106" y="2354"/>
                </a:lnTo>
                <a:lnTo>
                  <a:pt x="3106" y="2257"/>
                </a:lnTo>
                <a:lnTo>
                  <a:pt x="3106" y="2124"/>
                </a:lnTo>
                <a:lnTo>
                  <a:pt x="3137" y="2027"/>
                </a:lnTo>
                <a:lnTo>
                  <a:pt x="3137" y="1930"/>
                </a:lnTo>
                <a:lnTo>
                  <a:pt x="3137" y="1833"/>
                </a:lnTo>
                <a:lnTo>
                  <a:pt x="3172" y="1736"/>
                </a:lnTo>
                <a:lnTo>
                  <a:pt x="3172" y="1633"/>
                </a:lnTo>
                <a:lnTo>
                  <a:pt x="3203" y="1505"/>
                </a:lnTo>
                <a:lnTo>
                  <a:pt x="3238" y="1404"/>
                </a:lnTo>
                <a:lnTo>
                  <a:pt x="3269" y="1306"/>
                </a:lnTo>
                <a:lnTo>
                  <a:pt x="3300" y="1209"/>
                </a:lnTo>
                <a:lnTo>
                  <a:pt x="3300" y="1112"/>
                </a:lnTo>
                <a:lnTo>
                  <a:pt x="3366" y="980"/>
                </a:lnTo>
                <a:lnTo>
                  <a:pt x="3366" y="883"/>
                </a:lnTo>
                <a:lnTo>
                  <a:pt x="3366" y="785"/>
                </a:lnTo>
                <a:lnTo>
                  <a:pt x="3401" y="653"/>
                </a:lnTo>
                <a:lnTo>
                  <a:pt x="3432" y="556"/>
                </a:lnTo>
                <a:lnTo>
                  <a:pt x="3432" y="423"/>
                </a:lnTo>
                <a:lnTo>
                  <a:pt x="3463" y="326"/>
                </a:lnTo>
                <a:lnTo>
                  <a:pt x="3498" y="194"/>
                </a:lnTo>
                <a:lnTo>
                  <a:pt x="3626" y="163"/>
                </a:lnTo>
                <a:lnTo>
                  <a:pt x="3662" y="260"/>
                </a:lnTo>
                <a:lnTo>
                  <a:pt x="3728" y="362"/>
                </a:lnTo>
                <a:lnTo>
                  <a:pt x="3795" y="459"/>
                </a:lnTo>
                <a:lnTo>
                  <a:pt x="3892" y="392"/>
                </a:lnTo>
                <a:lnTo>
                  <a:pt x="3958" y="295"/>
                </a:lnTo>
                <a:lnTo>
                  <a:pt x="4020" y="194"/>
                </a:lnTo>
                <a:lnTo>
                  <a:pt x="4122" y="97"/>
                </a:lnTo>
                <a:lnTo>
                  <a:pt x="4183" y="0"/>
                </a:lnTo>
                <a:lnTo>
                  <a:pt x="4285" y="30"/>
                </a:lnTo>
                <a:lnTo>
                  <a:pt x="4347" y="132"/>
                </a:lnTo>
                <a:lnTo>
                  <a:pt x="4413" y="229"/>
                </a:lnTo>
                <a:lnTo>
                  <a:pt x="4545" y="295"/>
                </a:lnTo>
                <a:lnTo>
                  <a:pt x="4642" y="260"/>
                </a:lnTo>
                <a:lnTo>
                  <a:pt x="4739" y="260"/>
                </a:lnTo>
                <a:lnTo>
                  <a:pt x="4872" y="260"/>
                </a:lnTo>
                <a:lnTo>
                  <a:pt x="4969" y="260"/>
                </a:lnTo>
                <a:lnTo>
                  <a:pt x="5004" y="163"/>
                </a:lnTo>
                <a:lnTo>
                  <a:pt x="5004" y="66"/>
                </a:lnTo>
                <a:lnTo>
                  <a:pt x="5101" y="0"/>
                </a:lnTo>
                <a:lnTo>
                  <a:pt x="5198" y="66"/>
                </a:lnTo>
                <a:lnTo>
                  <a:pt x="5264" y="163"/>
                </a:lnTo>
                <a:lnTo>
                  <a:pt x="5361" y="229"/>
                </a:lnTo>
                <a:lnTo>
                  <a:pt x="5459" y="229"/>
                </a:lnTo>
                <a:lnTo>
                  <a:pt x="5556" y="163"/>
                </a:lnTo>
                <a:lnTo>
                  <a:pt x="5657" y="229"/>
                </a:lnTo>
                <a:lnTo>
                  <a:pt x="5754" y="260"/>
                </a:lnTo>
                <a:lnTo>
                  <a:pt x="5851" y="295"/>
                </a:lnTo>
                <a:lnTo>
                  <a:pt x="5948" y="326"/>
                </a:lnTo>
                <a:lnTo>
                  <a:pt x="6050" y="295"/>
                </a:lnTo>
                <a:lnTo>
                  <a:pt x="6112" y="194"/>
                </a:lnTo>
                <a:lnTo>
                  <a:pt x="6213" y="163"/>
                </a:lnTo>
                <a:lnTo>
                  <a:pt x="6275" y="260"/>
                </a:lnTo>
                <a:lnTo>
                  <a:pt x="6407" y="295"/>
                </a:lnTo>
                <a:lnTo>
                  <a:pt x="6504" y="295"/>
                </a:lnTo>
                <a:lnTo>
                  <a:pt x="6606" y="295"/>
                </a:lnTo>
                <a:lnTo>
                  <a:pt x="6637" y="392"/>
                </a:lnTo>
                <a:lnTo>
                  <a:pt x="6703" y="490"/>
                </a:lnTo>
                <a:lnTo>
                  <a:pt x="6800" y="587"/>
                </a:lnTo>
                <a:lnTo>
                  <a:pt x="6831" y="688"/>
                </a:lnTo>
                <a:lnTo>
                  <a:pt x="6897" y="785"/>
                </a:lnTo>
                <a:lnTo>
                  <a:pt x="6897" y="883"/>
                </a:lnTo>
                <a:lnTo>
                  <a:pt x="6994" y="949"/>
                </a:lnTo>
                <a:lnTo>
                  <a:pt x="7060" y="1046"/>
                </a:lnTo>
                <a:lnTo>
                  <a:pt x="7060" y="1178"/>
                </a:lnTo>
                <a:lnTo>
                  <a:pt x="7060" y="1276"/>
                </a:lnTo>
                <a:lnTo>
                  <a:pt x="7095" y="1373"/>
                </a:lnTo>
                <a:lnTo>
                  <a:pt x="7095" y="1470"/>
                </a:lnTo>
                <a:lnTo>
                  <a:pt x="7126" y="1571"/>
                </a:lnTo>
                <a:lnTo>
                  <a:pt x="7157" y="1669"/>
                </a:lnTo>
                <a:lnTo>
                  <a:pt x="7223" y="1798"/>
                </a:lnTo>
                <a:lnTo>
                  <a:pt x="7223" y="1899"/>
                </a:lnTo>
                <a:lnTo>
                  <a:pt x="7290" y="1996"/>
                </a:lnTo>
                <a:lnTo>
                  <a:pt x="7290" y="2124"/>
                </a:lnTo>
                <a:lnTo>
                  <a:pt x="7290" y="2257"/>
                </a:lnTo>
                <a:lnTo>
                  <a:pt x="7290" y="2354"/>
                </a:lnTo>
                <a:lnTo>
                  <a:pt x="7321" y="2451"/>
                </a:lnTo>
                <a:lnTo>
                  <a:pt x="7321" y="2553"/>
                </a:lnTo>
                <a:lnTo>
                  <a:pt x="7356" y="2650"/>
                </a:lnTo>
                <a:lnTo>
                  <a:pt x="7356" y="2747"/>
                </a:lnTo>
                <a:lnTo>
                  <a:pt x="7387" y="2844"/>
                </a:lnTo>
                <a:lnTo>
                  <a:pt x="7387" y="2946"/>
                </a:lnTo>
                <a:lnTo>
                  <a:pt x="7387" y="3043"/>
                </a:lnTo>
                <a:lnTo>
                  <a:pt x="7387" y="3140"/>
                </a:lnTo>
                <a:lnTo>
                  <a:pt x="7422" y="3237"/>
                </a:lnTo>
                <a:lnTo>
                  <a:pt x="7453" y="3334"/>
                </a:lnTo>
                <a:lnTo>
                  <a:pt x="7550" y="3369"/>
                </a:lnTo>
                <a:lnTo>
                  <a:pt x="7550" y="343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89680" y="3181320"/>
            <a:ext cx="3164400" cy="1095840"/>
          </a:xfrm>
          <a:custGeom>
            <a:avLst/>
            <a:gdLst/>
            <a:ahLst/>
            <a:rect l="0" t="0" r="r" b="b"/>
            <a:pathLst>
              <a:path fill="none" w="8790" h="3044">
                <a:moveTo>
                  <a:pt x="0" y="295"/>
                </a:moveTo>
                <a:lnTo>
                  <a:pt x="132" y="167"/>
                </a:lnTo>
                <a:lnTo>
                  <a:pt x="229" y="132"/>
                </a:lnTo>
                <a:lnTo>
                  <a:pt x="326" y="229"/>
                </a:lnTo>
                <a:lnTo>
                  <a:pt x="423" y="264"/>
                </a:lnTo>
                <a:lnTo>
                  <a:pt x="520" y="229"/>
                </a:lnTo>
                <a:lnTo>
                  <a:pt x="622" y="167"/>
                </a:lnTo>
                <a:lnTo>
                  <a:pt x="719" y="101"/>
                </a:lnTo>
                <a:lnTo>
                  <a:pt x="816" y="66"/>
                </a:lnTo>
                <a:lnTo>
                  <a:pt x="913" y="167"/>
                </a:lnTo>
                <a:lnTo>
                  <a:pt x="979" y="264"/>
                </a:lnTo>
                <a:lnTo>
                  <a:pt x="1076" y="331"/>
                </a:lnTo>
                <a:lnTo>
                  <a:pt x="1177" y="362"/>
                </a:lnTo>
                <a:lnTo>
                  <a:pt x="1275" y="295"/>
                </a:lnTo>
                <a:lnTo>
                  <a:pt x="1372" y="264"/>
                </a:lnTo>
                <a:lnTo>
                  <a:pt x="1469" y="229"/>
                </a:lnTo>
                <a:lnTo>
                  <a:pt x="1566" y="167"/>
                </a:lnTo>
                <a:lnTo>
                  <a:pt x="1566" y="264"/>
                </a:lnTo>
                <a:lnTo>
                  <a:pt x="1667" y="362"/>
                </a:lnTo>
                <a:lnTo>
                  <a:pt x="1764" y="362"/>
                </a:lnTo>
                <a:lnTo>
                  <a:pt x="1830" y="494"/>
                </a:lnTo>
                <a:lnTo>
                  <a:pt x="1861" y="591"/>
                </a:lnTo>
                <a:lnTo>
                  <a:pt x="1892" y="719"/>
                </a:lnTo>
                <a:lnTo>
                  <a:pt x="1892" y="853"/>
                </a:lnTo>
                <a:lnTo>
                  <a:pt x="1928" y="950"/>
                </a:lnTo>
                <a:lnTo>
                  <a:pt x="1958" y="1047"/>
                </a:lnTo>
                <a:lnTo>
                  <a:pt x="1994" y="1149"/>
                </a:lnTo>
                <a:lnTo>
                  <a:pt x="2025" y="1246"/>
                </a:lnTo>
                <a:lnTo>
                  <a:pt x="2122" y="1312"/>
                </a:lnTo>
                <a:lnTo>
                  <a:pt x="2188" y="1409"/>
                </a:lnTo>
                <a:lnTo>
                  <a:pt x="2224" y="1506"/>
                </a:lnTo>
                <a:lnTo>
                  <a:pt x="2224" y="1604"/>
                </a:lnTo>
                <a:lnTo>
                  <a:pt x="2286" y="1705"/>
                </a:lnTo>
                <a:lnTo>
                  <a:pt x="2286" y="1802"/>
                </a:lnTo>
                <a:lnTo>
                  <a:pt x="2321" y="1899"/>
                </a:lnTo>
                <a:lnTo>
                  <a:pt x="2352" y="1997"/>
                </a:lnTo>
                <a:lnTo>
                  <a:pt x="2387" y="2094"/>
                </a:lnTo>
                <a:lnTo>
                  <a:pt x="2449" y="2195"/>
                </a:lnTo>
                <a:lnTo>
                  <a:pt x="2515" y="2293"/>
                </a:lnTo>
                <a:lnTo>
                  <a:pt x="2551" y="2426"/>
                </a:lnTo>
                <a:lnTo>
                  <a:pt x="2612" y="2523"/>
                </a:lnTo>
                <a:lnTo>
                  <a:pt x="2648" y="2620"/>
                </a:lnTo>
                <a:lnTo>
                  <a:pt x="2679" y="2717"/>
                </a:lnTo>
                <a:lnTo>
                  <a:pt x="2745" y="2815"/>
                </a:lnTo>
                <a:lnTo>
                  <a:pt x="2811" y="2916"/>
                </a:lnTo>
                <a:lnTo>
                  <a:pt x="2908" y="2978"/>
                </a:lnTo>
                <a:lnTo>
                  <a:pt x="3005" y="2978"/>
                </a:lnTo>
                <a:lnTo>
                  <a:pt x="3107" y="3013"/>
                </a:lnTo>
                <a:lnTo>
                  <a:pt x="3204" y="3044"/>
                </a:lnTo>
                <a:lnTo>
                  <a:pt x="3332" y="3044"/>
                </a:lnTo>
                <a:lnTo>
                  <a:pt x="3433" y="3044"/>
                </a:lnTo>
                <a:lnTo>
                  <a:pt x="3530" y="2978"/>
                </a:lnTo>
                <a:lnTo>
                  <a:pt x="3561" y="2881"/>
                </a:lnTo>
                <a:lnTo>
                  <a:pt x="3596" y="2753"/>
                </a:lnTo>
                <a:lnTo>
                  <a:pt x="3658" y="2620"/>
                </a:lnTo>
                <a:lnTo>
                  <a:pt x="3693" y="2523"/>
                </a:lnTo>
                <a:lnTo>
                  <a:pt x="3790" y="2651"/>
                </a:lnTo>
                <a:lnTo>
                  <a:pt x="3821" y="2753"/>
                </a:lnTo>
                <a:lnTo>
                  <a:pt x="3857" y="2850"/>
                </a:lnTo>
                <a:lnTo>
                  <a:pt x="3954" y="2753"/>
                </a:lnTo>
                <a:lnTo>
                  <a:pt x="4051" y="2717"/>
                </a:lnTo>
                <a:lnTo>
                  <a:pt x="4183" y="2815"/>
                </a:lnTo>
                <a:lnTo>
                  <a:pt x="4280" y="2881"/>
                </a:lnTo>
                <a:lnTo>
                  <a:pt x="4315" y="2753"/>
                </a:lnTo>
                <a:lnTo>
                  <a:pt x="4377" y="2651"/>
                </a:lnTo>
                <a:lnTo>
                  <a:pt x="4443" y="2488"/>
                </a:lnTo>
                <a:lnTo>
                  <a:pt x="4509" y="2391"/>
                </a:lnTo>
                <a:lnTo>
                  <a:pt x="4540" y="2226"/>
                </a:lnTo>
                <a:lnTo>
                  <a:pt x="4540" y="2129"/>
                </a:lnTo>
                <a:lnTo>
                  <a:pt x="4576" y="2032"/>
                </a:lnTo>
                <a:lnTo>
                  <a:pt x="4576" y="1930"/>
                </a:lnTo>
                <a:lnTo>
                  <a:pt x="4576" y="1542"/>
                </a:lnTo>
                <a:lnTo>
                  <a:pt x="4607" y="1211"/>
                </a:lnTo>
                <a:lnTo>
                  <a:pt x="4642" y="755"/>
                </a:lnTo>
                <a:lnTo>
                  <a:pt x="4642" y="362"/>
                </a:lnTo>
                <a:lnTo>
                  <a:pt x="4642" y="229"/>
                </a:lnTo>
                <a:lnTo>
                  <a:pt x="4673" y="132"/>
                </a:lnTo>
                <a:lnTo>
                  <a:pt x="4673" y="0"/>
                </a:lnTo>
                <a:lnTo>
                  <a:pt x="4770" y="167"/>
                </a:lnTo>
                <a:lnTo>
                  <a:pt x="4836" y="264"/>
                </a:lnTo>
                <a:lnTo>
                  <a:pt x="4836" y="362"/>
                </a:lnTo>
                <a:lnTo>
                  <a:pt x="4902" y="494"/>
                </a:lnTo>
                <a:lnTo>
                  <a:pt x="4933" y="622"/>
                </a:lnTo>
                <a:lnTo>
                  <a:pt x="4968" y="719"/>
                </a:lnTo>
                <a:lnTo>
                  <a:pt x="4968" y="884"/>
                </a:lnTo>
                <a:lnTo>
                  <a:pt x="4999" y="1016"/>
                </a:lnTo>
                <a:lnTo>
                  <a:pt x="5035" y="1180"/>
                </a:lnTo>
                <a:lnTo>
                  <a:pt x="5035" y="1277"/>
                </a:lnTo>
                <a:lnTo>
                  <a:pt x="5035" y="1409"/>
                </a:lnTo>
                <a:lnTo>
                  <a:pt x="5035" y="1542"/>
                </a:lnTo>
                <a:lnTo>
                  <a:pt x="5035" y="1670"/>
                </a:lnTo>
                <a:lnTo>
                  <a:pt x="5035" y="1802"/>
                </a:lnTo>
                <a:lnTo>
                  <a:pt x="5065" y="1899"/>
                </a:lnTo>
                <a:lnTo>
                  <a:pt x="5096" y="2032"/>
                </a:lnTo>
                <a:lnTo>
                  <a:pt x="5096" y="2160"/>
                </a:lnTo>
                <a:lnTo>
                  <a:pt x="5096" y="2257"/>
                </a:lnTo>
                <a:lnTo>
                  <a:pt x="5132" y="2360"/>
                </a:lnTo>
                <a:lnTo>
                  <a:pt x="5162" y="2488"/>
                </a:lnTo>
                <a:lnTo>
                  <a:pt x="5198" y="2620"/>
                </a:lnTo>
                <a:lnTo>
                  <a:pt x="5229" y="2717"/>
                </a:lnTo>
                <a:lnTo>
                  <a:pt x="5229" y="2815"/>
                </a:lnTo>
                <a:lnTo>
                  <a:pt x="5361" y="2850"/>
                </a:lnTo>
                <a:lnTo>
                  <a:pt x="5392" y="2753"/>
                </a:lnTo>
                <a:lnTo>
                  <a:pt x="5489" y="2651"/>
                </a:lnTo>
                <a:lnTo>
                  <a:pt x="5586" y="2717"/>
                </a:lnTo>
                <a:lnTo>
                  <a:pt x="5621" y="2815"/>
                </a:lnTo>
                <a:lnTo>
                  <a:pt x="5718" y="2717"/>
                </a:lnTo>
                <a:lnTo>
                  <a:pt x="5815" y="2784"/>
                </a:lnTo>
                <a:lnTo>
                  <a:pt x="5917" y="2881"/>
                </a:lnTo>
                <a:lnTo>
                  <a:pt x="6014" y="2947"/>
                </a:lnTo>
                <a:lnTo>
                  <a:pt x="6045" y="2815"/>
                </a:lnTo>
                <a:lnTo>
                  <a:pt x="6080" y="2717"/>
                </a:lnTo>
                <a:lnTo>
                  <a:pt x="6111" y="2589"/>
                </a:lnTo>
                <a:lnTo>
                  <a:pt x="6142" y="2488"/>
                </a:lnTo>
                <a:lnTo>
                  <a:pt x="6208" y="2391"/>
                </a:lnTo>
                <a:lnTo>
                  <a:pt x="6305" y="2324"/>
                </a:lnTo>
                <a:lnTo>
                  <a:pt x="6340" y="2457"/>
                </a:lnTo>
                <a:lnTo>
                  <a:pt x="6340" y="2554"/>
                </a:lnTo>
                <a:lnTo>
                  <a:pt x="6407" y="2457"/>
                </a:lnTo>
                <a:lnTo>
                  <a:pt x="6438" y="2360"/>
                </a:lnTo>
                <a:lnTo>
                  <a:pt x="6468" y="2226"/>
                </a:lnTo>
                <a:lnTo>
                  <a:pt x="6535" y="2129"/>
                </a:lnTo>
                <a:lnTo>
                  <a:pt x="6570" y="2032"/>
                </a:lnTo>
                <a:lnTo>
                  <a:pt x="6668" y="1997"/>
                </a:lnTo>
                <a:lnTo>
                  <a:pt x="6734" y="2094"/>
                </a:lnTo>
                <a:lnTo>
                  <a:pt x="6765" y="2195"/>
                </a:lnTo>
                <a:lnTo>
                  <a:pt x="6862" y="2094"/>
                </a:lnTo>
                <a:lnTo>
                  <a:pt x="6928" y="1997"/>
                </a:lnTo>
                <a:lnTo>
                  <a:pt x="7025" y="1997"/>
                </a:lnTo>
                <a:lnTo>
                  <a:pt x="7061" y="2094"/>
                </a:lnTo>
                <a:lnTo>
                  <a:pt x="7061" y="2195"/>
                </a:lnTo>
                <a:lnTo>
                  <a:pt x="7127" y="2293"/>
                </a:lnTo>
                <a:lnTo>
                  <a:pt x="7224" y="2324"/>
                </a:lnTo>
                <a:lnTo>
                  <a:pt x="7290" y="2457"/>
                </a:lnTo>
                <a:lnTo>
                  <a:pt x="7321" y="2554"/>
                </a:lnTo>
                <a:lnTo>
                  <a:pt x="7387" y="2651"/>
                </a:lnTo>
                <a:lnTo>
                  <a:pt x="7453" y="2753"/>
                </a:lnTo>
                <a:lnTo>
                  <a:pt x="7515" y="2850"/>
                </a:lnTo>
                <a:lnTo>
                  <a:pt x="7550" y="2947"/>
                </a:lnTo>
                <a:lnTo>
                  <a:pt x="7647" y="2978"/>
                </a:lnTo>
                <a:lnTo>
                  <a:pt x="7678" y="2881"/>
                </a:lnTo>
                <a:lnTo>
                  <a:pt x="7714" y="2717"/>
                </a:lnTo>
                <a:lnTo>
                  <a:pt x="7744" y="2589"/>
                </a:lnTo>
                <a:lnTo>
                  <a:pt x="7780" y="2457"/>
                </a:lnTo>
                <a:lnTo>
                  <a:pt x="7780" y="2360"/>
                </a:lnTo>
                <a:lnTo>
                  <a:pt x="7811" y="2226"/>
                </a:lnTo>
                <a:lnTo>
                  <a:pt x="7811" y="2063"/>
                </a:lnTo>
                <a:lnTo>
                  <a:pt x="7846" y="1966"/>
                </a:lnTo>
                <a:lnTo>
                  <a:pt x="7877" y="1802"/>
                </a:lnTo>
                <a:lnTo>
                  <a:pt x="7908" y="1705"/>
                </a:lnTo>
                <a:lnTo>
                  <a:pt x="7943" y="1542"/>
                </a:lnTo>
                <a:lnTo>
                  <a:pt x="7974" y="1211"/>
                </a:lnTo>
                <a:lnTo>
                  <a:pt x="8009" y="1082"/>
                </a:lnTo>
                <a:lnTo>
                  <a:pt x="8040" y="950"/>
                </a:lnTo>
                <a:lnTo>
                  <a:pt x="8040" y="853"/>
                </a:lnTo>
                <a:lnTo>
                  <a:pt x="8071" y="755"/>
                </a:lnTo>
                <a:lnTo>
                  <a:pt x="8106" y="658"/>
                </a:lnTo>
                <a:lnTo>
                  <a:pt x="8137" y="556"/>
                </a:lnTo>
                <a:lnTo>
                  <a:pt x="8172" y="459"/>
                </a:lnTo>
                <a:lnTo>
                  <a:pt x="8234" y="362"/>
                </a:lnTo>
                <a:lnTo>
                  <a:pt x="8300" y="264"/>
                </a:lnTo>
                <a:lnTo>
                  <a:pt x="8397" y="167"/>
                </a:lnTo>
                <a:lnTo>
                  <a:pt x="8499" y="101"/>
                </a:lnTo>
                <a:lnTo>
                  <a:pt x="8627" y="101"/>
                </a:lnTo>
                <a:lnTo>
                  <a:pt x="8728" y="66"/>
                </a:lnTo>
                <a:lnTo>
                  <a:pt x="8790" y="16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227160" y="3267000"/>
            <a:ext cx="206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ba00"/>
                </a:solidFill>
                <a:latin typeface="Arial Cyr"/>
                <a:ea typeface="Arial Cyr"/>
              </a:rPr>
              <a:t>Нагрузка на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27000" y="4508640"/>
            <a:ext cx="3090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9933"/>
                </a:solidFill>
                <a:latin typeface="Arial Cyr"/>
                <a:ea typeface="Arial Cyr"/>
              </a:rPr>
              <a:t>00:00   06:00   12:00   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118120" y="4508640"/>
            <a:ext cx="3090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9933"/>
                </a:solidFill>
                <a:latin typeface="Arial Cyr"/>
                <a:ea typeface="Arial Cyr"/>
              </a:rPr>
              <a:t>00:00   06:00   12:00   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8480" y="4419720"/>
            <a:ext cx="7389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744640"/>
            <a:ext cx="0" cy="1675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2744640"/>
            <a:ext cx="0" cy="1675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Оперативное и промежуточное хранилище данны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омежуточное хранилище является обязательным компонентом технологий хранилищ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едставляет собой базу данных в одной из нормальных форм, совокупность плоских файлов и.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Часто называется ODS (Operational Data Store) или Stag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Оперативное хранилище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Используется в процессе формирования хранилищ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Может быть использовано в целях анализа текущих данных и для формирования оперативных отч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ODS и Хранилище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52440" y="1828800"/>
            <a:ext cx="6486480" cy="4305600"/>
            <a:chOff x="1252440" y="1828800"/>
            <a:chExt cx="6486480" cy="4305600"/>
          </a:xfrm>
        </p:grpSpPr>
        <p:sp>
          <p:nvSpPr>
            <p:cNvPr id="281" name=""/>
            <p:cNvSpPr/>
            <p:nvPr/>
          </p:nvSpPr>
          <p:spPr>
            <a:xfrm>
              <a:off x="1425600" y="257004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99ff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25600" y="1994040"/>
              <a:ext cx="1236600" cy="67320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99ff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25600" y="189396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f001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309680" y="2825640"/>
              <a:ext cx="15271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ffba00"/>
                  </a:solidFill>
                  <a:latin typeface="Arial Cyr"/>
                  <a:ea typeface="Arial Cyr"/>
                </a:rPr>
                <a:t>Оператив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08680" y="518004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08680" y="4591080"/>
              <a:ext cx="1236600" cy="67320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08680" y="450360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5348160" y="5492880"/>
              <a:ext cx="22766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ba00"/>
                  </a:solidFill>
                  <a:latin typeface="Arial Cyr"/>
                  <a:ea typeface="Arial Cyr"/>
                </a:rPr>
                <a:t>Хранилище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267000" y="2470320"/>
              <a:ext cx="1538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ba00"/>
                  </a:solidFill>
                  <a:latin typeface="Arial Cyr"/>
                  <a:ea typeface="Arial Cyr"/>
                </a:rPr>
                <a:t>Пот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43160" y="2340000"/>
              <a:ext cx="2233800" cy="0"/>
            </a:xfrm>
            <a:prstGeom prst="line">
              <a:avLst/>
            </a:prstGeom>
            <a:ln w="2556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96000" y="2036880"/>
              <a:ext cx="1295280" cy="60660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ffff99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6000" y="1828800"/>
              <a:ext cx="1295280" cy="38880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96000" y="2455920"/>
              <a:ext cx="1295280" cy="38880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ffff99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5567400" y="2917800"/>
              <a:ext cx="186516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ba00"/>
                  </a:solidFill>
                  <a:latin typeface="Arial Cyr"/>
                  <a:ea typeface="Arial Cyr"/>
                </a:rPr>
                <a:t>O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43640" y="3220920"/>
              <a:ext cx="0" cy="1204920"/>
            </a:xfrm>
            <a:prstGeom prst="line">
              <a:avLst/>
            </a:prstGeom>
            <a:ln w="2556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200640" y="3638520"/>
              <a:ext cx="1538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ba00"/>
                  </a:solidFill>
                  <a:latin typeface="Arial Cyr"/>
                  <a:ea typeface="Arial Cyr"/>
                </a:rPr>
                <a:t>Поток  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597040" y="2890800"/>
              <a:ext cx="2868840" cy="1548000"/>
            </a:xfrm>
            <a:prstGeom prst="line">
              <a:avLst/>
            </a:prstGeom>
            <a:ln w="12600">
              <a:solidFill>
                <a:srgbClr val="330099"/>
              </a:solidFill>
              <a:custDash>
                <a:ds d="100000" sp="100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1252440" y="5443560"/>
              <a:ext cx="1819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ba00"/>
                  </a:solidFill>
                  <a:latin typeface="Arial Cyr"/>
                  <a:ea typeface="Arial Cyr"/>
                </a:rPr>
                <a:t>Пользов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1363680" y="4159080"/>
              <a:ext cx="12733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584440" y="4707000"/>
              <a:ext cx="3135240" cy="11160"/>
            </a:xfrm>
            <a:prstGeom prst="line">
              <a:avLst/>
            </a:prstGeom>
            <a:ln w="12600">
              <a:solidFill>
                <a:srgbClr val="330099"/>
              </a:solidFill>
              <a:custDash>
                <a:ds d="100000" sp="100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Объемы баз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Маленькие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1-50 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редние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50-100 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Больш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100 Гб - 1 Т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верхбольшие (VLDB)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1-10 Т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673680" y="1676520"/>
            <a:ext cx="2495520" cy="3675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Киоски данных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(Data Mar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одержат подмножество данных хранил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озволяют ограничить данные хранилища пределами одного департамента, линии бизнеса и.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Ориентированы на поддержку принятия решений менеджерами среднего з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Киоски данных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(Data Mar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озволяют существенно снизить зависимости от центрального Хранилищ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ущественно снижают трафик данных в информационной системе предприятия и позволяют структурироват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Могут быть зависимыми и независ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Зависимые и независимые киоски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998640" y="3227400"/>
            <a:ext cx="7369200" cy="2730240"/>
            <a:chOff x="998640" y="3227400"/>
            <a:chExt cx="7369200" cy="2730240"/>
          </a:xfrm>
        </p:grpSpPr>
        <p:sp>
          <p:nvSpPr>
            <p:cNvPr id="318" name=""/>
            <p:cNvSpPr/>
            <p:nvPr/>
          </p:nvSpPr>
          <p:spPr>
            <a:xfrm>
              <a:off x="1144440" y="509904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99ff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44440" y="4522680"/>
              <a:ext cx="1236600" cy="67320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99ff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44440" y="442260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f001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998640" y="3951360"/>
              <a:ext cx="15271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ba00"/>
                  </a:solidFill>
                  <a:latin typeface="Arial Cyr"/>
                  <a:ea typeface="Arial Cyr"/>
                </a:rPr>
                <a:t>Оперативная Б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3030480" y="3227400"/>
              <a:ext cx="2276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ba00"/>
                  </a:solidFill>
                  <a:latin typeface="Arial Cyr"/>
                  <a:ea typeface="Arial Cyr"/>
                </a:rPr>
                <a:t>Хранилищ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0240" y="440064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40240" y="3798720"/>
              <a:ext cx="1236600" cy="67320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40240" y="372420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373480" y="4116240"/>
              <a:ext cx="1128600" cy="67176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0600" y="4027320"/>
              <a:ext cx="1547640" cy="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4498920"/>
              <a:ext cx="1547640" cy="39204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87520" y="5045040"/>
              <a:ext cx="3948120" cy="56988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091200" y="3252960"/>
              <a:ext cx="2276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ba00"/>
                  </a:solidFill>
                  <a:latin typeface="Arial Cyr"/>
                  <a:ea typeface="Arial Cyr"/>
                </a:rPr>
                <a:t>Киоски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23120" y="4273560"/>
              <a:ext cx="1612800" cy="16020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23120" y="3819600"/>
              <a:ext cx="1612800" cy="50796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23120" y="3762360"/>
              <a:ext cx="1612800" cy="16020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23120" y="5797440"/>
              <a:ext cx="1612800" cy="16020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23120" y="5343480"/>
              <a:ext cx="1612800" cy="50796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23120" y="5286240"/>
              <a:ext cx="1612800" cy="16020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23120" y="5060880"/>
              <a:ext cx="1612800" cy="16020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23120" y="4606920"/>
              <a:ext cx="1612800" cy="50796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23120" y="4549680"/>
              <a:ext cx="1612800" cy="16020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6431040" y="4003560"/>
              <a:ext cx="1584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Зависимый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6465960" y="4753080"/>
              <a:ext cx="1508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Зависим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6284880" y="5502240"/>
              <a:ext cx="1770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Независим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Зависимые и независимые киоски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Зависимые киоски данных получают данные исключительно из центрального Хранил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Независимые киоски получают данные напрямую из внутренних и внешни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Бизнес-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охранение конкурент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нижение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Адап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Рыночная осведом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Чувств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Глоб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Терми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Хранилище данных (Data Ware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Киоск данных (Data M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Оперативное хранилище данных (Operational Data St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омежуточное хранилище (Stage,Stage A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Бизнес-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Лояльность к клиен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оду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Рентаб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Бизнес-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809640" y="1814400"/>
            <a:ext cx="7711920" cy="4121280"/>
            <a:chOff x="809640" y="1814400"/>
            <a:chExt cx="7711920" cy="4121280"/>
          </a:xfrm>
        </p:grpSpPr>
        <p:grpSp>
          <p:nvGrpSpPr>
            <p:cNvPr id="357" name=""/>
            <p:cNvGrpSpPr/>
            <p:nvPr/>
          </p:nvGrpSpPr>
          <p:grpSpPr>
            <a:xfrm>
              <a:off x="809640" y="1876320"/>
              <a:ext cx="3147840" cy="3995640"/>
              <a:chOff x="809640" y="1876320"/>
              <a:chExt cx="3147840" cy="3995640"/>
            </a:xfrm>
          </p:grpSpPr>
          <p:sp>
            <p:nvSpPr>
              <p:cNvPr id="358" name=""/>
              <p:cNvSpPr txBox="1"/>
              <p:nvPr/>
            </p:nvSpPr>
            <p:spPr>
              <a:xfrm>
                <a:off x="809640" y="1876320"/>
                <a:ext cx="3147840" cy="3995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marL="341280" indent="-227160">
                  <a:lnSpc>
                    <a:spcPct val="95000"/>
                  </a:lnSpc>
                  <a:spcBef>
                    <a:spcPts val="839"/>
                  </a:spcBef>
                  <a:tabLst>
                    <a:tab algn="l" pos="2350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Требования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1280" indent="-227160">
                  <a:lnSpc>
                    <a:spcPct val="95000"/>
                  </a:lnSpc>
                  <a:spcBef>
                    <a:spcPts val="839"/>
                  </a:spcBef>
                  <a:tabLst>
                    <a:tab algn="l" pos="2350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Адаптивность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1280" indent="-227160">
                  <a:lnSpc>
                    <a:spcPct val="95000"/>
                  </a:lnSpc>
                  <a:spcBef>
                    <a:spcPts val="839"/>
                  </a:spcBef>
                  <a:tabLst>
                    <a:tab algn="l" pos="2350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Осведомленность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1280" indent="-227160">
                  <a:lnSpc>
                    <a:spcPct val="95000"/>
                  </a:lnSpc>
                  <a:spcBef>
                    <a:spcPts val="839"/>
                  </a:spcBef>
                  <a:tabLst>
                    <a:tab algn="l" pos="2350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Чувствительность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1280" indent="-227160">
                  <a:lnSpc>
                    <a:spcPct val="95000"/>
                  </a:lnSpc>
                  <a:spcBef>
                    <a:spcPts val="839"/>
                  </a:spcBef>
                  <a:tabLst>
                    <a:tab algn="l" pos="2350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Новизн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1280" indent="-227160">
                  <a:lnSpc>
                    <a:spcPct val="95000"/>
                  </a:lnSpc>
                  <a:spcBef>
                    <a:spcPts val="839"/>
                  </a:spcBef>
                  <a:tabLst>
                    <a:tab algn="l" pos="2350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Глобализация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1280" indent="-227160">
                  <a:lnSpc>
                    <a:spcPct val="95000"/>
                  </a:lnSpc>
                  <a:spcBef>
                    <a:spcPts val="839"/>
                  </a:spcBef>
                  <a:tabLst>
                    <a:tab algn="l" pos="2350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Лояльность к клиент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1280" indent="-227160">
                  <a:lnSpc>
                    <a:spcPct val="95000"/>
                  </a:lnSpc>
                  <a:spcBef>
                    <a:spcPts val="839"/>
                  </a:spcBef>
                  <a:tabLst>
                    <a:tab algn="l" pos="2350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Продуктивность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1280" indent="-227160">
                  <a:lnSpc>
                    <a:spcPct val="95000"/>
                  </a:lnSpc>
                  <a:spcBef>
                    <a:spcPts val="839"/>
                  </a:spcBef>
                  <a:tabLst>
                    <a:tab algn="l" pos="2350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Cyr"/>
                    <a:ea typeface="Arial Cyr"/>
                  </a:rPr>
                  <a:t>Рентабельность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12880" y="2341440"/>
                <a:ext cx="3119400" cy="1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 txBox="1"/>
            <p:nvPr/>
          </p:nvSpPr>
          <p:spPr>
            <a:xfrm>
              <a:off x="5373720" y="1876320"/>
              <a:ext cx="3147840" cy="40593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marL="341280" indent="-227160">
                <a:lnSpc>
                  <a:spcPct val="95000"/>
                </a:lnSpc>
                <a:spcBef>
                  <a:spcPts val="839"/>
                </a:spcBef>
                <a:tabLst>
                  <a:tab algn="l" pos="2350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227160">
                <a:lnSpc>
                  <a:spcPct val="95000"/>
                </a:lnSpc>
                <a:spcBef>
                  <a:spcPts val="839"/>
                </a:spcBef>
                <a:tabLst>
                  <a:tab algn="l" pos="2350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Точ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227160">
                <a:lnSpc>
                  <a:spcPct val="95000"/>
                </a:lnSpc>
                <a:spcBef>
                  <a:spcPts val="839"/>
                </a:spcBef>
                <a:tabLst>
                  <a:tab algn="l" pos="2350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Информатив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227160">
                <a:lnSpc>
                  <a:spcPct val="95000"/>
                </a:lnSpc>
                <a:spcBef>
                  <a:spcPts val="839"/>
                </a:spcBef>
                <a:tabLst>
                  <a:tab algn="l" pos="2350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Качестве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227160">
                <a:lnSpc>
                  <a:spcPct val="95000"/>
                </a:lnSpc>
                <a:spcBef>
                  <a:spcPts val="839"/>
                </a:spcBef>
                <a:tabLst>
                  <a:tab algn="l" pos="2350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Истор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227160">
                <a:lnSpc>
                  <a:spcPct val="95000"/>
                </a:lnSpc>
                <a:spcBef>
                  <a:spcPts val="839"/>
                </a:spcBef>
                <a:tabLst>
                  <a:tab algn="l" pos="2350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Конкурентосп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227160">
                <a:lnSpc>
                  <a:spcPct val="95000"/>
                </a:lnSpc>
                <a:spcBef>
                  <a:spcPts val="839"/>
                </a:spcBef>
                <a:tabLst>
                  <a:tab algn="l" pos="2350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соб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227160">
                <a:lnSpc>
                  <a:spcPct val="95000"/>
                </a:lnSpc>
                <a:spcBef>
                  <a:spcPts val="839"/>
                </a:spcBef>
                <a:tabLst>
                  <a:tab algn="l" pos="2350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227160">
                <a:lnSpc>
                  <a:spcPct val="95000"/>
                </a:lnSpc>
                <a:spcBef>
                  <a:spcPts val="839"/>
                </a:spcBef>
                <a:tabLst>
                  <a:tab algn="l" pos="2350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Хранилище данны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00720" y="2341440"/>
              <a:ext cx="3119400" cy="11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44960" y="1814400"/>
              <a:ext cx="1316520" cy="640080"/>
            </a:xfrm>
            <a:custGeom>
              <a:avLst/>
              <a:gdLst/>
              <a:ahLst/>
              <a:rect l="0" t="0" r="r" b="b"/>
              <a:pathLst>
                <a:path w="3657" h="1778">
                  <a:moveTo>
                    <a:pt x="0" y="591"/>
                  </a:moveTo>
                  <a:lnTo>
                    <a:pt x="0" y="1184"/>
                  </a:lnTo>
                  <a:lnTo>
                    <a:pt x="2559" y="1184"/>
                  </a:lnTo>
                  <a:lnTo>
                    <a:pt x="2559" y="1778"/>
                  </a:lnTo>
                  <a:lnTo>
                    <a:pt x="3657" y="888"/>
                  </a:lnTo>
                  <a:lnTo>
                    <a:pt x="2559" y="0"/>
                  </a:lnTo>
                  <a:lnTo>
                    <a:pt x="2559" y="591"/>
                  </a:lnTo>
                  <a:lnTo>
                    <a:pt x="0" y="591"/>
                  </a:lnTo>
                  <a:close/>
                </a:path>
              </a:pathLst>
            </a:custGeom>
            <a:solidFill>
              <a:srgbClr val="330099"/>
            </a:solidFill>
            <a:ln w="12600">
              <a:solidFill>
                <a:srgbClr val="3300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38960" y="4584600"/>
              <a:ext cx="902160" cy="914760"/>
            </a:xfrm>
            <a:custGeom>
              <a:avLst/>
              <a:gdLst/>
              <a:ahLst/>
              <a:rect l="0" t="0" r="r" b="b"/>
              <a:pathLst>
                <a:path w="2506" h="2541">
                  <a:moveTo>
                    <a:pt x="0" y="845"/>
                  </a:moveTo>
                  <a:lnTo>
                    <a:pt x="0" y="1692"/>
                  </a:lnTo>
                  <a:lnTo>
                    <a:pt x="1754" y="1692"/>
                  </a:lnTo>
                  <a:lnTo>
                    <a:pt x="1754" y="2541"/>
                  </a:lnTo>
                  <a:lnTo>
                    <a:pt x="2506" y="1271"/>
                  </a:lnTo>
                  <a:lnTo>
                    <a:pt x="1754" y="0"/>
                  </a:lnTo>
                  <a:lnTo>
                    <a:pt x="1754" y="845"/>
                  </a:lnTo>
                  <a:lnTo>
                    <a:pt x="0" y="845"/>
                  </a:lnTo>
                  <a:close/>
                </a:path>
              </a:pathLst>
            </a:custGeom>
            <a:solidFill>
              <a:srgbClr val="330099"/>
            </a:solidFill>
            <a:ln w="12600">
              <a:solidFill>
                <a:srgbClr val="3300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Доводы в пользу Хранилища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771480" y="2178000"/>
            <a:ext cx="760104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Лучшее качество данных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6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Конкурентосп-ть.данных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9933"/>
                </a:solidFill>
                <a:latin typeface="Arial Cyr"/>
                <a:ea typeface="Arial Cyr"/>
              </a:rPr>
              <a:t>6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Прямой доступ 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3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Повышение продуктив.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3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Своевременность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2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Лучшая доступность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16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39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Организация поддержки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Cyr"/>
                <a:ea typeface="Arial Cyr"/>
              </a:rPr>
              <a:t> 8%</a:t>
            </a:r>
            <a:br>
              <a:rPr sz="2200"/>
            </a:br>
            <a:br>
              <a:rPr sz="2200"/>
            </a:br>
            <a:r>
              <a:rPr b="1" lang="en-US" sz="1600" spc="-1" strike="noStrike">
                <a:solidFill>
                  <a:srgbClr val="ffffff"/>
                </a:solidFill>
                <a:latin typeface="Arial Cyr"/>
                <a:ea typeface="Arial Cyr"/>
              </a:rPr>
              <a:t>Источник : Data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19840" y="2222640"/>
            <a:ext cx="2552760" cy="2919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19840" y="2641680"/>
            <a:ext cx="2463840" cy="29196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19840" y="3149640"/>
            <a:ext cx="124452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19840" y="3594240"/>
            <a:ext cx="12574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19840" y="4000680"/>
            <a:ext cx="95256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19840" y="4432320"/>
            <a:ext cx="5716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19840" y="4851360"/>
            <a:ext cx="2412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2135160"/>
            <a:ext cx="0" cy="312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02040" y="2057400"/>
            <a:ext cx="388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Основные характер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равнение оперативных систем и хранилищ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ODS и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Объем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Киоск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Бизнес-показания к применению технологий Data Ware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Предметно-ориентированные 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03320" y="2146320"/>
            <a:ext cx="6873840" cy="3333600"/>
            <a:chOff x="1003320" y="2146320"/>
            <a:chExt cx="6873840" cy="3333600"/>
          </a:xfrm>
        </p:grpSpPr>
        <p:sp>
          <p:nvSpPr>
            <p:cNvPr id="126" name=""/>
            <p:cNvSpPr txBox="1"/>
            <p:nvPr/>
          </p:nvSpPr>
          <p:spPr>
            <a:xfrm>
              <a:off x="1003320" y="2146320"/>
              <a:ext cx="352728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ef9100"/>
                  </a:solidFill>
                  <a:latin typeface="Arial Cyr"/>
                  <a:ea typeface="Arial Cyr"/>
                </a:rPr>
                <a:t>Оперативные сист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349880" y="2146320"/>
              <a:ext cx="352728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ef9100"/>
                  </a:solidFill>
                  <a:latin typeface="Arial Cyr"/>
                  <a:ea typeface="Arial Cyr"/>
                </a:rPr>
                <a:t>Хранилище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5440" y="2824200"/>
              <a:ext cx="1375200" cy="1467360"/>
            </a:xfrm>
            <a:custGeom>
              <a:avLst/>
              <a:gdLst/>
              <a:ahLst/>
              <a:rect l="0" t="0" r="r" b="b"/>
              <a:pathLst>
                <a:path w="3820" h="4076">
                  <a:moveTo>
                    <a:pt x="0" y="851"/>
                  </a:moveTo>
                  <a:lnTo>
                    <a:pt x="0" y="0"/>
                  </a:lnTo>
                  <a:lnTo>
                    <a:pt x="3816" y="0"/>
                  </a:lnTo>
                  <a:lnTo>
                    <a:pt x="3820" y="3255"/>
                  </a:lnTo>
                  <a:lnTo>
                    <a:pt x="3489" y="3255"/>
                  </a:lnTo>
                  <a:lnTo>
                    <a:pt x="3476" y="3286"/>
                  </a:lnTo>
                  <a:lnTo>
                    <a:pt x="3463" y="3326"/>
                  </a:lnTo>
                  <a:lnTo>
                    <a:pt x="3463" y="3357"/>
                  </a:lnTo>
                  <a:lnTo>
                    <a:pt x="3467" y="3396"/>
                  </a:lnTo>
                  <a:lnTo>
                    <a:pt x="3480" y="3449"/>
                  </a:lnTo>
                  <a:lnTo>
                    <a:pt x="3494" y="3515"/>
                  </a:lnTo>
                  <a:lnTo>
                    <a:pt x="3507" y="3555"/>
                  </a:lnTo>
                  <a:lnTo>
                    <a:pt x="3516" y="3613"/>
                  </a:lnTo>
                  <a:lnTo>
                    <a:pt x="3525" y="3661"/>
                  </a:lnTo>
                  <a:lnTo>
                    <a:pt x="3525" y="3714"/>
                  </a:lnTo>
                  <a:lnTo>
                    <a:pt x="3516" y="3763"/>
                  </a:lnTo>
                  <a:lnTo>
                    <a:pt x="3507" y="3811"/>
                  </a:lnTo>
                  <a:lnTo>
                    <a:pt x="3489" y="3860"/>
                  </a:lnTo>
                  <a:lnTo>
                    <a:pt x="3463" y="3895"/>
                  </a:lnTo>
                  <a:lnTo>
                    <a:pt x="3427" y="3939"/>
                  </a:lnTo>
                  <a:lnTo>
                    <a:pt x="3392" y="3970"/>
                  </a:lnTo>
                  <a:lnTo>
                    <a:pt x="3357" y="4005"/>
                  </a:lnTo>
                  <a:lnTo>
                    <a:pt x="3317" y="4028"/>
                  </a:lnTo>
                  <a:lnTo>
                    <a:pt x="3273" y="4050"/>
                  </a:lnTo>
                  <a:lnTo>
                    <a:pt x="3215" y="4067"/>
                  </a:lnTo>
                  <a:lnTo>
                    <a:pt x="3163" y="4072"/>
                  </a:lnTo>
                  <a:lnTo>
                    <a:pt x="3118" y="4076"/>
                  </a:lnTo>
                  <a:lnTo>
                    <a:pt x="3065" y="4076"/>
                  </a:lnTo>
                  <a:lnTo>
                    <a:pt x="3021" y="4072"/>
                  </a:lnTo>
                  <a:lnTo>
                    <a:pt x="2986" y="4067"/>
                  </a:lnTo>
                  <a:lnTo>
                    <a:pt x="2942" y="4050"/>
                  </a:lnTo>
                  <a:lnTo>
                    <a:pt x="2898" y="4036"/>
                  </a:lnTo>
                  <a:lnTo>
                    <a:pt x="2867" y="4014"/>
                  </a:lnTo>
                  <a:lnTo>
                    <a:pt x="2826" y="3988"/>
                  </a:lnTo>
                  <a:lnTo>
                    <a:pt x="2795" y="3948"/>
                  </a:lnTo>
                  <a:lnTo>
                    <a:pt x="2760" y="3908"/>
                  </a:lnTo>
                  <a:lnTo>
                    <a:pt x="2733" y="3869"/>
                  </a:lnTo>
                  <a:lnTo>
                    <a:pt x="2707" y="3824"/>
                  </a:lnTo>
                  <a:lnTo>
                    <a:pt x="2694" y="3771"/>
                  </a:lnTo>
                  <a:lnTo>
                    <a:pt x="2680" y="3710"/>
                  </a:lnTo>
                  <a:lnTo>
                    <a:pt x="2680" y="3652"/>
                  </a:lnTo>
                  <a:lnTo>
                    <a:pt x="2694" y="3595"/>
                  </a:lnTo>
                  <a:lnTo>
                    <a:pt x="2707" y="3538"/>
                  </a:lnTo>
                  <a:lnTo>
                    <a:pt x="2720" y="3476"/>
                  </a:lnTo>
                  <a:lnTo>
                    <a:pt x="2733" y="3414"/>
                  </a:lnTo>
                  <a:lnTo>
                    <a:pt x="2742" y="3361"/>
                  </a:lnTo>
                  <a:lnTo>
                    <a:pt x="2742" y="3330"/>
                  </a:lnTo>
                  <a:lnTo>
                    <a:pt x="2738" y="3308"/>
                  </a:lnTo>
                  <a:lnTo>
                    <a:pt x="2729" y="3277"/>
                  </a:lnTo>
                  <a:lnTo>
                    <a:pt x="2093" y="3277"/>
                  </a:lnTo>
                  <a:lnTo>
                    <a:pt x="2102" y="3153"/>
                  </a:lnTo>
                  <a:lnTo>
                    <a:pt x="2098" y="3087"/>
                  </a:lnTo>
                  <a:lnTo>
                    <a:pt x="2093" y="3020"/>
                  </a:lnTo>
                  <a:lnTo>
                    <a:pt x="2084" y="2958"/>
                  </a:lnTo>
                  <a:lnTo>
                    <a:pt x="2075" y="2918"/>
                  </a:lnTo>
                  <a:lnTo>
                    <a:pt x="2058" y="2879"/>
                  </a:lnTo>
                  <a:lnTo>
                    <a:pt x="2040" y="2848"/>
                  </a:lnTo>
                  <a:lnTo>
                    <a:pt x="2005" y="2817"/>
                  </a:lnTo>
                  <a:lnTo>
                    <a:pt x="1970" y="2795"/>
                  </a:lnTo>
                  <a:lnTo>
                    <a:pt x="1934" y="2777"/>
                  </a:lnTo>
                  <a:lnTo>
                    <a:pt x="1899" y="2773"/>
                  </a:lnTo>
                  <a:lnTo>
                    <a:pt x="1846" y="2768"/>
                  </a:lnTo>
                  <a:lnTo>
                    <a:pt x="1780" y="2768"/>
                  </a:lnTo>
                  <a:lnTo>
                    <a:pt x="1713" y="2777"/>
                  </a:lnTo>
                  <a:lnTo>
                    <a:pt x="1647" y="2777"/>
                  </a:lnTo>
                  <a:lnTo>
                    <a:pt x="1594" y="2786"/>
                  </a:lnTo>
                  <a:lnTo>
                    <a:pt x="1524" y="2790"/>
                  </a:lnTo>
                  <a:lnTo>
                    <a:pt x="1466" y="2786"/>
                  </a:lnTo>
                  <a:lnTo>
                    <a:pt x="1418" y="2777"/>
                  </a:lnTo>
                  <a:lnTo>
                    <a:pt x="1343" y="2760"/>
                  </a:lnTo>
                  <a:lnTo>
                    <a:pt x="1290" y="2737"/>
                  </a:lnTo>
                  <a:lnTo>
                    <a:pt x="1245" y="2698"/>
                  </a:lnTo>
                  <a:lnTo>
                    <a:pt x="1215" y="2658"/>
                  </a:lnTo>
                  <a:lnTo>
                    <a:pt x="1188" y="2614"/>
                  </a:lnTo>
                  <a:lnTo>
                    <a:pt x="1170" y="2561"/>
                  </a:lnTo>
                  <a:lnTo>
                    <a:pt x="1166" y="2504"/>
                  </a:lnTo>
                  <a:lnTo>
                    <a:pt x="1166" y="2428"/>
                  </a:lnTo>
                  <a:lnTo>
                    <a:pt x="1170" y="2376"/>
                  </a:lnTo>
                  <a:lnTo>
                    <a:pt x="1166" y="2323"/>
                  </a:lnTo>
                  <a:lnTo>
                    <a:pt x="1153" y="2261"/>
                  </a:lnTo>
                  <a:lnTo>
                    <a:pt x="1144" y="2225"/>
                  </a:lnTo>
                  <a:lnTo>
                    <a:pt x="1126" y="2186"/>
                  </a:lnTo>
                  <a:lnTo>
                    <a:pt x="1104" y="2164"/>
                  </a:lnTo>
                  <a:lnTo>
                    <a:pt x="1087" y="2142"/>
                  </a:lnTo>
                  <a:lnTo>
                    <a:pt x="1042" y="2119"/>
                  </a:lnTo>
                  <a:lnTo>
                    <a:pt x="994" y="2093"/>
                  </a:lnTo>
                  <a:lnTo>
                    <a:pt x="935" y="2075"/>
                  </a:lnTo>
                  <a:lnTo>
                    <a:pt x="869" y="2058"/>
                  </a:lnTo>
                  <a:lnTo>
                    <a:pt x="803" y="2040"/>
                  </a:lnTo>
                  <a:lnTo>
                    <a:pt x="732" y="2031"/>
                  </a:lnTo>
                  <a:lnTo>
                    <a:pt x="684" y="2014"/>
                  </a:lnTo>
                  <a:lnTo>
                    <a:pt x="631" y="1996"/>
                  </a:lnTo>
                  <a:lnTo>
                    <a:pt x="578" y="1974"/>
                  </a:lnTo>
                  <a:lnTo>
                    <a:pt x="543" y="1938"/>
                  </a:lnTo>
                  <a:lnTo>
                    <a:pt x="498" y="1899"/>
                  </a:lnTo>
                  <a:lnTo>
                    <a:pt x="467" y="1863"/>
                  </a:lnTo>
                  <a:lnTo>
                    <a:pt x="441" y="1819"/>
                  </a:lnTo>
                  <a:lnTo>
                    <a:pt x="423" y="1771"/>
                  </a:lnTo>
                  <a:lnTo>
                    <a:pt x="414" y="1713"/>
                  </a:lnTo>
                  <a:lnTo>
                    <a:pt x="414" y="1665"/>
                  </a:lnTo>
                  <a:lnTo>
                    <a:pt x="428" y="1616"/>
                  </a:lnTo>
                  <a:lnTo>
                    <a:pt x="441" y="1550"/>
                  </a:lnTo>
                  <a:lnTo>
                    <a:pt x="459" y="1479"/>
                  </a:lnTo>
                  <a:lnTo>
                    <a:pt x="467" y="1418"/>
                  </a:lnTo>
                  <a:lnTo>
                    <a:pt x="481" y="1356"/>
                  </a:lnTo>
                  <a:lnTo>
                    <a:pt x="485" y="1294"/>
                  </a:lnTo>
                  <a:lnTo>
                    <a:pt x="481" y="1228"/>
                  </a:lnTo>
                  <a:lnTo>
                    <a:pt x="467" y="1170"/>
                  </a:lnTo>
                  <a:lnTo>
                    <a:pt x="445" y="1113"/>
                  </a:lnTo>
                  <a:lnTo>
                    <a:pt x="419" y="1056"/>
                  </a:lnTo>
                  <a:lnTo>
                    <a:pt x="388" y="1015"/>
                  </a:lnTo>
                  <a:lnTo>
                    <a:pt x="375" y="988"/>
                  </a:lnTo>
                  <a:lnTo>
                    <a:pt x="344" y="953"/>
                  </a:lnTo>
                  <a:lnTo>
                    <a:pt x="313" y="927"/>
                  </a:lnTo>
                  <a:lnTo>
                    <a:pt x="282" y="904"/>
                  </a:lnTo>
                  <a:lnTo>
                    <a:pt x="242" y="882"/>
                  </a:lnTo>
                  <a:lnTo>
                    <a:pt x="203" y="869"/>
                  </a:lnTo>
                  <a:lnTo>
                    <a:pt x="154" y="851"/>
                  </a:lnTo>
                  <a:lnTo>
                    <a:pt x="97" y="851"/>
                  </a:lnTo>
                  <a:lnTo>
                    <a:pt x="48" y="851"/>
                  </a:lnTo>
                  <a:lnTo>
                    <a:pt x="0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00100"/>
                </a:gs>
                <a:gs pos="50000">
                  <a:srgbClr val="f6bf69"/>
                </a:gs>
                <a:gs pos="100000">
                  <a:srgbClr val="f00100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68960" y="3992400"/>
              <a:ext cx="1381320" cy="1230840"/>
            </a:xfrm>
            <a:custGeom>
              <a:avLst/>
              <a:gdLst/>
              <a:ahLst/>
              <a:rect l="0" t="0" r="r" b="b"/>
              <a:pathLst>
                <a:path w="3837" h="3419">
                  <a:moveTo>
                    <a:pt x="0" y="2704"/>
                  </a:moveTo>
                  <a:lnTo>
                    <a:pt x="0" y="3419"/>
                  </a:lnTo>
                  <a:lnTo>
                    <a:pt x="3837" y="3419"/>
                  </a:lnTo>
                  <a:lnTo>
                    <a:pt x="3833" y="0"/>
                  </a:lnTo>
                  <a:lnTo>
                    <a:pt x="3493" y="0"/>
                  </a:lnTo>
                  <a:lnTo>
                    <a:pt x="3475" y="66"/>
                  </a:lnTo>
                  <a:lnTo>
                    <a:pt x="3475" y="114"/>
                  </a:lnTo>
                  <a:lnTo>
                    <a:pt x="3484" y="181"/>
                  </a:lnTo>
                  <a:lnTo>
                    <a:pt x="3506" y="247"/>
                  </a:lnTo>
                  <a:lnTo>
                    <a:pt x="3524" y="331"/>
                  </a:lnTo>
                  <a:lnTo>
                    <a:pt x="3532" y="397"/>
                  </a:lnTo>
                  <a:lnTo>
                    <a:pt x="3532" y="454"/>
                  </a:lnTo>
                  <a:lnTo>
                    <a:pt x="3528" y="521"/>
                  </a:lnTo>
                  <a:lnTo>
                    <a:pt x="3510" y="582"/>
                  </a:lnTo>
                  <a:lnTo>
                    <a:pt x="3475" y="640"/>
                  </a:lnTo>
                  <a:lnTo>
                    <a:pt x="3431" y="693"/>
                  </a:lnTo>
                  <a:lnTo>
                    <a:pt x="3387" y="737"/>
                  </a:lnTo>
                  <a:lnTo>
                    <a:pt x="3334" y="772"/>
                  </a:lnTo>
                  <a:lnTo>
                    <a:pt x="3267" y="799"/>
                  </a:lnTo>
                  <a:lnTo>
                    <a:pt x="3214" y="812"/>
                  </a:lnTo>
                  <a:lnTo>
                    <a:pt x="3135" y="816"/>
                  </a:lnTo>
                  <a:lnTo>
                    <a:pt x="3042" y="808"/>
                  </a:lnTo>
                  <a:lnTo>
                    <a:pt x="2980" y="799"/>
                  </a:lnTo>
                  <a:lnTo>
                    <a:pt x="2928" y="781"/>
                  </a:lnTo>
                  <a:lnTo>
                    <a:pt x="2879" y="750"/>
                  </a:lnTo>
                  <a:lnTo>
                    <a:pt x="2817" y="697"/>
                  </a:lnTo>
                  <a:lnTo>
                    <a:pt x="2777" y="644"/>
                  </a:lnTo>
                  <a:lnTo>
                    <a:pt x="2738" y="591"/>
                  </a:lnTo>
                  <a:lnTo>
                    <a:pt x="2720" y="529"/>
                  </a:lnTo>
                  <a:lnTo>
                    <a:pt x="2707" y="476"/>
                  </a:lnTo>
                  <a:lnTo>
                    <a:pt x="2707" y="415"/>
                  </a:lnTo>
                  <a:lnTo>
                    <a:pt x="2711" y="353"/>
                  </a:lnTo>
                  <a:lnTo>
                    <a:pt x="2724" y="295"/>
                  </a:lnTo>
                  <a:lnTo>
                    <a:pt x="2738" y="242"/>
                  </a:lnTo>
                  <a:lnTo>
                    <a:pt x="2755" y="185"/>
                  </a:lnTo>
                  <a:lnTo>
                    <a:pt x="2764" y="123"/>
                  </a:lnTo>
                  <a:lnTo>
                    <a:pt x="2764" y="75"/>
                  </a:lnTo>
                  <a:lnTo>
                    <a:pt x="2751" y="17"/>
                  </a:lnTo>
                  <a:lnTo>
                    <a:pt x="2111" y="17"/>
                  </a:lnTo>
                  <a:lnTo>
                    <a:pt x="2115" y="136"/>
                  </a:lnTo>
                  <a:lnTo>
                    <a:pt x="2111" y="220"/>
                  </a:lnTo>
                  <a:lnTo>
                    <a:pt x="2106" y="287"/>
                  </a:lnTo>
                  <a:lnTo>
                    <a:pt x="2106" y="348"/>
                  </a:lnTo>
                  <a:lnTo>
                    <a:pt x="2102" y="415"/>
                  </a:lnTo>
                  <a:lnTo>
                    <a:pt x="2089" y="481"/>
                  </a:lnTo>
                  <a:lnTo>
                    <a:pt x="2071" y="525"/>
                  </a:lnTo>
                  <a:lnTo>
                    <a:pt x="2049" y="565"/>
                  </a:lnTo>
                  <a:lnTo>
                    <a:pt x="2014" y="596"/>
                  </a:lnTo>
                  <a:lnTo>
                    <a:pt x="1978" y="622"/>
                  </a:lnTo>
                  <a:lnTo>
                    <a:pt x="1934" y="635"/>
                  </a:lnTo>
                  <a:lnTo>
                    <a:pt x="1889" y="644"/>
                  </a:lnTo>
                  <a:lnTo>
                    <a:pt x="1845" y="649"/>
                  </a:lnTo>
                  <a:lnTo>
                    <a:pt x="1787" y="649"/>
                  </a:lnTo>
                  <a:lnTo>
                    <a:pt x="1735" y="640"/>
                  </a:lnTo>
                  <a:lnTo>
                    <a:pt x="1690" y="635"/>
                  </a:lnTo>
                  <a:lnTo>
                    <a:pt x="1637" y="635"/>
                  </a:lnTo>
                  <a:lnTo>
                    <a:pt x="1576" y="626"/>
                  </a:lnTo>
                  <a:lnTo>
                    <a:pt x="1509" y="626"/>
                  </a:lnTo>
                  <a:lnTo>
                    <a:pt x="1452" y="635"/>
                  </a:lnTo>
                  <a:lnTo>
                    <a:pt x="1399" y="640"/>
                  </a:lnTo>
                  <a:lnTo>
                    <a:pt x="1337" y="657"/>
                  </a:lnTo>
                  <a:lnTo>
                    <a:pt x="1293" y="684"/>
                  </a:lnTo>
                  <a:lnTo>
                    <a:pt x="1249" y="715"/>
                  </a:lnTo>
                  <a:lnTo>
                    <a:pt x="1218" y="759"/>
                  </a:lnTo>
                  <a:lnTo>
                    <a:pt x="1187" y="808"/>
                  </a:lnTo>
                  <a:lnTo>
                    <a:pt x="1174" y="857"/>
                  </a:lnTo>
                  <a:lnTo>
                    <a:pt x="1169" y="910"/>
                  </a:lnTo>
                  <a:lnTo>
                    <a:pt x="1174" y="963"/>
                  </a:lnTo>
                  <a:lnTo>
                    <a:pt x="1178" y="1025"/>
                  </a:lnTo>
                  <a:lnTo>
                    <a:pt x="1174" y="1087"/>
                  </a:lnTo>
                  <a:lnTo>
                    <a:pt x="1165" y="1131"/>
                  </a:lnTo>
                  <a:lnTo>
                    <a:pt x="1152" y="1184"/>
                  </a:lnTo>
                  <a:lnTo>
                    <a:pt x="1134" y="1228"/>
                  </a:lnTo>
                  <a:lnTo>
                    <a:pt x="1108" y="1263"/>
                  </a:lnTo>
                  <a:lnTo>
                    <a:pt x="1063" y="1294"/>
                  </a:lnTo>
                  <a:lnTo>
                    <a:pt x="1010" y="1316"/>
                  </a:lnTo>
                  <a:lnTo>
                    <a:pt x="958" y="1334"/>
                  </a:lnTo>
                  <a:lnTo>
                    <a:pt x="909" y="1352"/>
                  </a:lnTo>
                  <a:lnTo>
                    <a:pt x="856" y="1365"/>
                  </a:lnTo>
                  <a:lnTo>
                    <a:pt x="785" y="1378"/>
                  </a:lnTo>
                  <a:lnTo>
                    <a:pt x="732" y="1391"/>
                  </a:lnTo>
                  <a:lnTo>
                    <a:pt x="675" y="1409"/>
                  </a:lnTo>
                  <a:lnTo>
                    <a:pt x="631" y="1427"/>
                  </a:lnTo>
                  <a:lnTo>
                    <a:pt x="582" y="1449"/>
                  </a:lnTo>
                  <a:lnTo>
                    <a:pt x="547" y="1475"/>
                  </a:lnTo>
                  <a:lnTo>
                    <a:pt x="512" y="1506"/>
                  </a:lnTo>
                  <a:lnTo>
                    <a:pt x="476" y="1555"/>
                  </a:lnTo>
                  <a:lnTo>
                    <a:pt x="454" y="1599"/>
                  </a:lnTo>
                  <a:lnTo>
                    <a:pt x="432" y="1647"/>
                  </a:lnTo>
                  <a:lnTo>
                    <a:pt x="423" y="1709"/>
                  </a:lnTo>
                  <a:lnTo>
                    <a:pt x="432" y="1767"/>
                  </a:lnTo>
                  <a:lnTo>
                    <a:pt x="437" y="1824"/>
                  </a:lnTo>
                  <a:lnTo>
                    <a:pt x="454" y="1895"/>
                  </a:lnTo>
                  <a:lnTo>
                    <a:pt x="472" y="1970"/>
                  </a:lnTo>
                  <a:lnTo>
                    <a:pt x="485" y="2040"/>
                  </a:lnTo>
                  <a:lnTo>
                    <a:pt x="490" y="2093"/>
                  </a:lnTo>
                  <a:lnTo>
                    <a:pt x="490" y="2146"/>
                  </a:lnTo>
                  <a:lnTo>
                    <a:pt x="485" y="2213"/>
                  </a:lnTo>
                  <a:lnTo>
                    <a:pt x="467" y="2274"/>
                  </a:lnTo>
                  <a:lnTo>
                    <a:pt x="454" y="2323"/>
                  </a:lnTo>
                  <a:lnTo>
                    <a:pt x="432" y="2372"/>
                  </a:lnTo>
                  <a:lnTo>
                    <a:pt x="406" y="2433"/>
                  </a:lnTo>
                  <a:lnTo>
                    <a:pt x="370" y="2500"/>
                  </a:lnTo>
                  <a:lnTo>
                    <a:pt x="331" y="2553"/>
                  </a:lnTo>
                  <a:lnTo>
                    <a:pt x="291" y="2593"/>
                  </a:lnTo>
                  <a:lnTo>
                    <a:pt x="256" y="2629"/>
                  </a:lnTo>
                  <a:lnTo>
                    <a:pt x="216" y="2660"/>
                  </a:lnTo>
                  <a:lnTo>
                    <a:pt x="176" y="2677"/>
                  </a:lnTo>
                  <a:lnTo>
                    <a:pt x="119" y="2690"/>
                  </a:lnTo>
                  <a:lnTo>
                    <a:pt x="57" y="2704"/>
                  </a:lnTo>
                  <a:lnTo>
                    <a:pt x="0" y="2704"/>
                  </a:lnTo>
                  <a:close/>
                </a:path>
              </a:pathLst>
            </a:custGeom>
            <a:gradFill rotWithShape="0">
              <a:gsLst>
                <a:gs pos="0">
                  <a:srgbClr val="f00100"/>
                </a:gs>
                <a:gs pos="50000">
                  <a:srgbClr val="8cf4ea"/>
                </a:gs>
                <a:gs pos="100000">
                  <a:srgbClr val="f00100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95920" y="3755880"/>
              <a:ext cx="1375200" cy="1467360"/>
            </a:xfrm>
            <a:custGeom>
              <a:avLst/>
              <a:gdLst/>
              <a:ahLst/>
              <a:rect l="0" t="0" r="r" b="b"/>
              <a:pathLst>
                <a:path w="3820" h="4076">
                  <a:moveTo>
                    <a:pt x="3820" y="3357"/>
                  </a:moveTo>
                  <a:lnTo>
                    <a:pt x="3820" y="4076"/>
                  </a:lnTo>
                  <a:lnTo>
                    <a:pt x="4" y="4076"/>
                  </a:lnTo>
                  <a:lnTo>
                    <a:pt x="0" y="821"/>
                  </a:lnTo>
                  <a:lnTo>
                    <a:pt x="331" y="821"/>
                  </a:lnTo>
                  <a:lnTo>
                    <a:pt x="344" y="790"/>
                  </a:lnTo>
                  <a:lnTo>
                    <a:pt x="357" y="750"/>
                  </a:lnTo>
                  <a:lnTo>
                    <a:pt x="357" y="719"/>
                  </a:lnTo>
                  <a:lnTo>
                    <a:pt x="353" y="675"/>
                  </a:lnTo>
                  <a:lnTo>
                    <a:pt x="339" y="626"/>
                  </a:lnTo>
                  <a:lnTo>
                    <a:pt x="326" y="560"/>
                  </a:lnTo>
                  <a:lnTo>
                    <a:pt x="313" y="516"/>
                  </a:lnTo>
                  <a:lnTo>
                    <a:pt x="300" y="463"/>
                  </a:lnTo>
                  <a:lnTo>
                    <a:pt x="295" y="410"/>
                  </a:lnTo>
                  <a:lnTo>
                    <a:pt x="295" y="361"/>
                  </a:lnTo>
                  <a:lnTo>
                    <a:pt x="300" y="313"/>
                  </a:lnTo>
                  <a:lnTo>
                    <a:pt x="313" y="264"/>
                  </a:lnTo>
                  <a:lnTo>
                    <a:pt x="331" y="216"/>
                  </a:lnTo>
                  <a:lnTo>
                    <a:pt x="357" y="180"/>
                  </a:lnTo>
                  <a:lnTo>
                    <a:pt x="392" y="136"/>
                  </a:lnTo>
                  <a:lnTo>
                    <a:pt x="423" y="105"/>
                  </a:lnTo>
                  <a:lnTo>
                    <a:pt x="463" y="70"/>
                  </a:lnTo>
                  <a:lnTo>
                    <a:pt x="503" y="44"/>
                  </a:lnTo>
                  <a:lnTo>
                    <a:pt x="547" y="22"/>
                  </a:lnTo>
                  <a:lnTo>
                    <a:pt x="600" y="8"/>
                  </a:lnTo>
                  <a:lnTo>
                    <a:pt x="657" y="0"/>
                  </a:lnTo>
                  <a:lnTo>
                    <a:pt x="701" y="0"/>
                  </a:lnTo>
                  <a:lnTo>
                    <a:pt x="754" y="0"/>
                  </a:lnTo>
                  <a:lnTo>
                    <a:pt x="799" y="0"/>
                  </a:lnTo>
                  <a:lnTo>
                    <a:pt x="834" y="8"/>
                  </a:lnTo>
                  <a:lnTo>
                    <a:pt x="878" y="22"/>
                  </a:lnTo>
                  <a:lnTo>
                    <a:pt x="922" y="39"/>
                  </a:lnTo>
                  <a:lnTo>
                    <a:pt x="953" y="61"/>
                  </a:lnTo>
                  <a:lnTo>
                    <a:pt x="994" y="88"/>
                  </a:lnTo>
                  <a:lnTo>
                    <a:pt x="1025" y="123"/>
                  </a:lnTo>
                  <a:lnTo>
                    <a:pt x="1060" y="163"/>
                  </a:lnTo>
                  <a:lnTo>
                    <a:pt x="1087" y="207"/>
                  </a:lnTo>
                  <a:lnTo>
                    <a:pt x="1113" y="247"/>
                  </a:lnTo>
                  <a:lnTo>
                    <a:pt x="1126" y="304"/>
                  </a:lnTo>
                  <a:lnTo>
                    <a:pt x="1140" y="366"/>
                  </a:lnTo>
                  <a:lnTo>
                    <a:pt x="1140" y="423"/>
                  </a:lnTo>
                  <a:lnTo>
                    <a:pt x="1126" y="481"/>
                  </a:lnTo>
                  <a:lnTo>
                    <a:pt x="1113" y="538"/>
                  </a:lnTo>
                  <a:lnTo>
                    <a:pt x="1100" y="595"/>
                  </a:lnTo>
                  <a:lnTo>
                    <a:pt x="1087" y="662"/>
                  </a:lnTo>
                  <a:lnTo>
                    <a:pt x="1073" y="715"/>
                  </a:lnTo>
                  <a:lnTo>
                    <a:pt x="1073" y="741"/>
                  </a:lnTo>
                  <a:lnTo>
                    <a:pt x="1082" y="768"/>
                  </a:lnTo>
                  <a:lnTo>
                    <a:pt x="1091" y="799"/>
                  </a:lnTo>
                  <a:lnTo>
                    <a:pt x="1722" y="799"/>
                  </a:lnTo>
                  <a:lnTo>
                    <a:pt x="1709" y="931"/>
                  </a:lnTo>
                  <a:lnTo>
                    <a:pt x="1709" y="1010"/>
                  </a:lnTo>
                  <a:lnTo>
                    <a:pt x="1709" y="1078"/>
                  </a:lnTo>
                  <a:lnTo>
                    <a:pt x="1713" y="1139"/>
                  </a:lnTo>
                  <a:lnTo>
                    <a:pt x="1722" y="1206"/>
                  </a:lnTo>
                  <a:lnTo>
                    <a:pt x="1731" y="1272"/>
                  </a:lnTo>
                  <a:lnTo>
                    <a:pt x="1749" y="1312"/>
                  </a:lnTo>
                  <a:lnTo>
                    <a:pt x="1775" y="1351"/>
                  </a:lnTo>
                  <a:lnTo>
                    <a:pt x="1802" y="1382"/>
                  </a:lnTo>
                  <a:lnTo>
                    <a:pt x="1841" y="1409"/>
                  </a:lnTo>
                  <a:lnTo>
                    <a:pt x="1886" y="1426"/>
                  </a:lnTo>
                  <a:lnTo>
                    <a:pt x="1930" y="1435"/>
                  </a:lnTo>
                  <a:lnTo>
                    <a:pt x="1974" y="1435"/>
                  </a:lnTo>
                  <a:lnTo>
                    <a:pt x="2027" y="1435"/>
                  </a:lnTo>
                  <a:lnTo>
                    <a:pt x="2084" y="1431"/>
                  </a:lnTo>
                  <a:lnTo>
                    <a:pt x="2124" y="1426"/>
                  </a:lnTo>
                  <a:lnTo>
                    <a:pt x="2186" y="1418"/>
                  </a:lnTo>
                  <a:lnTo>
                    <a:pt x="2243" y="1413"/>
                  </a:lnTo>
                  <a:lnTo>
                    <a:pt x="2309" y="1413"/>
                  </a:lnTo>
                  <a:lnTo>
                    <a:pt x="2367" y="1418"/>
                  </a:lnTo>
                  <a:lnTo>
                    <a:pt x="2424" y="1431"/>
                  </a:lnTo>
                  <a:lnTo>
                    <a:pt x="2477" y="1453"/>
                  </a:lnTo>
                  <a:lnTo>
                    <a:pt x="2526" y="1475"/>
                  </a:lnTo>
                  <a:lnTo>
                    <a:pt x="2570" y="1510"/>
                  </a:lnTo>
                  <a:lnTo>
                    <a:pt x="2601" y="1550"/>
                  </a:lnTo>
                  <a:lnTo>
                    <a:pt x="2627" y="1599"/>
                  </a:lnTo>
                  <a:lnTo>
                    <a:pt x="2645" y="1647"/>
                  </a:lnTo>
                  <a:lnTo>
                    <a:pt x="2649" y="1700"/>
                  </a:lnTo>
                  <a:lnTo>
                    <a:pt x="2645" y="1757"/>
                  </a:lnTo>
                  <a:lnTo>
                    <a:pt x="2641" y="1815"/>
                  </a:lnTo>
                  <a:lnTo>
                    <a:pt x="2645" y="1872"/>
                  </a:lnTo>
                  <a:lnTo>
                    <a:pt x="2649" y="1925"/>
                  </a:lnTo>
                  <a:lnTo>
                    <a:pt x="2667" y="1969"/>
                  </a:lnTo>
                  <a:lnTo>
                    <a:pt x="2689" y="2018"/>
                  </a:lnTo>
                  <a:lnTo>
                    <a:pt x="2716" y="2049"/>
                  </a:lnTo>
                  <a:lnTo>
                    <a:pt x="2755" y="2084"/>
                  </a:lnTo>
                  <a:lnTo>
                    <a:pt x="2808" y="2106"/>
                  </a:lnTo>
                  <a:lnTo>
                    <a:pt x="2861" y="2124"/>
                  </a:lnTo>
                  <a:lnTo>
                    <a:pt x="2911" y="2137"/>
                  </a:lnTo>
                  <a:lnTo>
                    <a:pt x="2968" y="2155"/>
                  </a:lnTo>
                  <a:lnTo>
                    <a:pt x="3034" y="2168"/>
                  </a:lnTo>
                  <a:lnTo>
                    <a:pt x="3087" y="2177"/>
                  </a:lnTo>
                  <a:lnTo>
                    <a:pt x="3145" y="2195"/>
                  </a:lnTo>
                  <a:lnTo>
                    <a:pt x="3193" y="2212"/>
                  </a:lnTo>
                  <a:lnTo>
                    <a:pt x="3238" y="2234"/>
                  </a:lnTo>
                  <a:lnTo>
                    <a:pt x="3273" y="2265"/>
                  </a:lnTo>
                  <a:lnTo>
                    <a:pt x="3304" y="2296"/>
                  </a:lnTo>
                  <a:lnTo>
                    <a:pt x="3344" y="2340"/>
                  </a:lnTo>
                  <a:lnTo>
                    <a:pt x="3366" y="2384"/>
                  </a:lnTo>
                  <a:lnTo>
                    <a:pt x="3388" y="2433"/>
                  </a:lnTo>
                  <a:lnTo>
                    <a:pt x="3396" y="2499"/>
                  </a:lnTo>
                  <a:lnTo>
                    <a:pt x="3392" y="2561"/>
                  </a:lnTo>
                  <a:lnTo>
                    <a:pt x="3379" y="2614"/>
                  </a:lnTo>
                  <a:lnTo>
                    <a:pt x="3366" y="2685"/>
                  </a:lnTo>
                  <a:lnTo>
                    <a:pt x="3352" y="2760"/>
                  </a:lnTo>
                  <a:lnTo>
                    <a:pt x="3335" y="2830"/>
                  </a:lnTo>
                  <a:lnTo>
                    <a:pt x="3326" y="2888"/>
                  </a:lnTo>
                  <a:lnTo>
                    <a:pt x="3326" y="2932"/>
                  </a:lnTo>
                  <a:lnTo>
                    <a:pt x="3339" y="3002"/>
                  </a:lnTo>
                  <a:lnTo>
                    <a:pt x="3352" y="3061"/>
                  </a:lnTo>
                  <a:lnTo>
                    <a:pt x="3370" y="3105"/>
                  </a:lnTo>
                  <a:lnTo>
                    <a:pt x="3392" y="3149"/>
                  </a:lnTo>
                  <a:lnTo>
                    <a:pt x="3427" y="3198"/>
                  </a:lnTo>
                  <a:lnTo>
                    <a:pt x="3463" y="3242"/>
                  </a:lnTo>
                  <a:lnTo>
                    <a:pt x="3507" y="3281"/>
                  </a:lnTo>
                  <a:lnTo>
                    <a:pt x="3555" y="3317"/>
                  </a:lnTo>
                  <a:lnTo>
                    <a:pt x="3604" y="3334"/>
                  </a:lnTo>
                  <a:lnTo>
                    <a:pt x="3653" y="3348"/>
                  </a:lnTo>
                  <a:lnTo>
                    <a:pt x="3701" y="3357"/>
                  </a:lnTo>
                  <a:lnTo>
                    <a:pt x="3763" y="3361"/>
                  </a:lnTo>
                  <a:lnTo>
                    <a:pt x="3820" y="3357"/>
                  </a:lnTo>
                  <a:close/>
                </a:path>
              </a:pathLst>
            </a:custGeom>
            <a:gradFill rotWithShape="0">
              <a:gsLst>
                <a:gs pos="0">
                  <a:srgbClr val="f00100"/>
                </a:gs>
                <a:gs pos="50000">
                  <a:srgbClr val="fde3ba"/>
                </a:gs>
                <a:gs pos="100000">
                  <a:srgbClr val="f00100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95920" y="2824200"/>
              <a:ext cx="1381320" cy="1229040"/>
            </a:xfrm>
            <a:custGeom>
              <a:avLst/>
              <a:gdLst/>
              <a:ahLst/>
              <a:rect l="0" t="0" r="r" b="b"/>
              <a:pathLst>
                <a:path w="3837" h="3414">
                  <a:moveTo>
                    <a:pt x="3837" y="852"/>
                  </a:moveTo>
                  <a:lnTo>
                    <a:pt x="3837" y="0"/>
                  </a:lnTo>
                  <a:lnTo>
                    <a:pt x="0" y="0"/>
                  </a:lnTo>
                  <a:lnTo>
                    <a:pt x="4" y="3414"/>
                  </a:lnTo>
                  <a:lnTo>
                    <a:pt x="344" y="3414"/>
                  </a:lnTo>
                  <a:lnTo>
                    <a:pt x="362" y="3352"/>
                  </a:lnTo>
                  <a:lnTo>
                    <a:pt x="362" y="3303"/>
                  </a:lnTo>
                  <a:lnTo>
                    <a:pt x="353" y="3237"/>
                  </a:lnTo>
                  <a:lnTo>
                    <a:pt x="331" y="3166"/>
                  </a:lnTo>
                  <a:lnTo>
                    <a:pt x="313" y="3087"/>
                  </a:lnTo>
                  <a:lnTo>
                    <a:pt x="304" y="3021"/>
                  </a:lnTo>
                  <a:lnTo>
                    <a:pt x="300" y="2963"/>
                  </a:lnTo>
                  <a:lnTo>
                    <a:pt x="309" y="2897"/>
                  </a:lnTo>
                  <a:lnTo>
                    <a:pt x="326" y="2835"/>
                  </a:lnTo>
                  <a:lnTo>
                    <a:pt x="362" y="2773"/>
                  </a:lnTo>
                  <a:lnTo>
                    <a:pt x="406" y="2725"/>
                  </a:lnTo>
                  <a:lnTo>
                    <a:pt x="450" y="2676"/>
                  </a:lnTo>
                  <a:lnTo>
                    <a:pt x="503" y="2645"/>
                  </a:lnTo>
                  <a:lnTo>
                    <a:pt x="569" y="2614"/>
                  </a:lnTo>
                  <a:lnTo>
                    <a:pt x="622" y="2606"/>
                  </a:lnTo>
                  <a:lnTo>
                    <a:pt x="701" y="2601"/>
                  </a:lnTo>
                  <a:lnTo>
                    <a:pt x="794" y="2610"/>
                  </a:lnTo>
                  <a:lnTo>
                    <a:pt x="856" y="2614"/>
                  </a:lnTo>
                  <a:lnTo>
                    <a:pt x="909" y="2637"/>
                  </a:lnTo>
                  <a:lnTo>
                    <a:pt x="958" y="2667"/>
                  </a:lnTo>
                  <a:lnTo>
                    <a:pt x="1019" y="2720"/>
                  </a:lnTo>
                  <a:lnTo>
                    <a:pt x="1059" y="2773"/>
                  </a:lnTo>
                  <a:lnTo>
                    <a:pt x="1099" y="2826"/>
                  </a:lnTo>
                  <a:lnTo>
                    <a:pt x="1116" y="2884"/>
                  </a:lnTo>
                  <a:lnTo>
                    <a:pt x="1130" y="2941"/>
                  </a:lnTo>
                  <a:lnTo>
                    <a:pt x="1130" y="3003"/>
                  </a:lnTo>
                  <a:lnTo>
                    <a:pt x="1125" y="3065"/>
                  </a:lnTo>
                  <a:lnTo>
                    <a:pt x="1112" y="3122"/>
                  </a:lnTo>
                  <a:lnTo>
                    <a:pt x="1099" y="3175"/>
                  </a:lnTo>
                  <a:lnTo>
                    <a:pt x="1081" y="3233"/>
                  </a:lnTo>
                  <a:lnTo>
                    <a:pt x="1072" y="3290"/>
                  </a:lnTo>
                  <a:lnTo>
                    <a:pt x="1072" y="3343"/>
                  </a:lnTo>
                  <a:lnTo>
                    <a:pt x="1086" y="3400"/>
                  </a:lnTo>
                  <a:lnTo>
                    <a:pt x="1726" y="3400"/>
                  </a:lnTo>
                  <a:lnTo>
                    <a:pt x="1721" y="3281"/>
                  </a:lnTo>
                  <a:lnTo>
                    <a:pt x="1726" y="3193"/>
                  </a:lnTo>
                  <a:lnTo>
                    <a:pt x="1726" y="3127"/>
                  </a:lnTo>
                  <a:lnTo>
                    <a:pt x="1730" y="3065"/>
                  </a:lnTo>
                  <a:lnTo>
                    <a:pt x="1735" y="3003"/>
                  </a:lnTo>
                  <a:lnTo>
                    <a:pt x="1748" y="2937"/>
                  </a:lnTo>
                  <a:lnTo>
                    <a:pt x="1765" y="2893"/>
                  </a:lnTo>
                  <a:lnTo>
                    <a:pt x="1787" y="2853"/>
                  </a:lnTo>
                  <a:lnTo>
                    <a:pt x="1823" y="2818"/>
                  </a:lnTo>
                  <a:lnTo>
                    <a:pt x="1858" y="2795"/>
                  </a:lnTo>
                  <a:lnTo>
                    <a:pt x="1902" y="2778"/>
                  </a:lnTo>
                  <a:lnTo>
                    <a:pt x="1947" y="2773"/>
                  </a:lnTo>
                  <a:lnTo>
                    <a:pt x="1992" y="2769"/>
                  </a:lnTo>
                  <a:lnTo>
                    <a:pt x="2049" y="2769"/>
                  </a:lnTo>
                  <a:lnTo>
                    <a:pt x="2102" y="2773"/>
                  </a:lnTo>
                  <a:lnTo>
                    <a:pt x="2146" y="2778"/>
                  </a:lnTo>
                  <a:lnTo>
                    <a:pt x="2199" y="2782"/>
                  </a:lnTo>
                  <a:lnTo>
                    <a:pt x="2261" y="2791"/>
                  </a:lnTo>
                  <a:lnTo>
                    <a:pt x="2327" y="2791"/>
                  </a:lnTo>
                  <a:lnTo>
                    <a:pt x="2384" y="2782"/>
                  </a:lnTo>
                  <a:lnTo>
                    <a:pt x="2437" y="2773"/>
                  </a:lnTo>
                  <a:lnTo>
                    <a:pt x="2499" y="2756"/>
                  </a:lnTo>
                  <a:lnTo>
                    <a:pt x="2543" y="2734"/>
                  </a:lnTo>
                  <a:lnTo>
                    <a:pt x="2588" y="2698"/>
                  </a:lnTo>
                  <a:lnTo>
                    <a:pt x="2618" y="2654"/>
                  </a:lnTo>
                  <a:lnTo>
                    <a:pt x="2649" y="2610"/>
                  </a:lnTo>
                  <a:lnTo>
                    <a:pt x="2663" y="2561"/>
                  </a:lnTo>
                  <a:lnTo>
                    <a:pt x="2667" y="2508"/>
                  </a:lnTo>
                  <a:lnTo>
                    <a:pt x="2663" y="2451"/>
                  </a:lnTo>
                  <a:lnTo>
                    <a:pt x="2658" y="2394"/>
                  </a:lnTo>
                  <a:lnTo>
                    <a:pt x="2663" y="2332"/>
                  </a:lnTo>
                  <a:lnTo>
                    <a:pt x="2671" y="2288"/>
                  </a:lnTo>
                  <a:lnTo>
                    <a:pt x="2685" y="2235"/>
                  </a:lnTo>
                  <a:lnTo>
                    <a:pt x="2702" y="2186"/>
                  </a:lnTo>
                  <a:lnTo>
                    <a:pt x="2729" y="2155"/>
                  </a:lnTo>
                  <a:lnTo>
                    <a:pt x="2773" y="2124"/>
                  </a:lnTo>
                  <a:lnTo>
                    <a:pt x="2826" y="2102"/>
                  </a:lnTo>
                  <a:lnTo>
                    <a:pt x="2879" y="2080"/>
                  </a:lnTo>
                  <a:lnTo>
                    <a:pt x="2928" y="2067"/>
                  </a:lnTo>
                  <a:lnTo>
                    <a:pt x="2980" y="2054"/>
                  </a:lnTo>
                  <a:lnTo>
                    <a:pt x="3051" y="2040"/>
                  </a:lnTo>
                  <a:lnTo>
                    <a:pt x="3104" y="2027"/>
                  </a:lnTo>
                  <a:lnTo>
                    <a:pt x="3161" y="2010"/>
                  </a:lnTo>
                  <a:lnTo>
                    <a:pt x="3206" y="1992"/>
                  </a:lnTo>
                  <a:lnTo>
                    <a:pt x="3254" y="1970"/>
                  </a:lnTo>
                  <a:lnTo>
                    <a:pt x="3290" y="1939"/>
                  </a:lnTo>
                  <a:lnTo>
                    <a:pt x="3325" y="1912"/>
                  </a:lnTo>
                  <a:lnTo>
                    <a:pt x="3360" y="1864"/>
                  </a:lnTo>
                  <a:lnTo>
                    <a:pt x="3382" y="1820"/>
                  </a:lnTo>
                  <a:lnTo>
                    <a:pt x="3404" y="1771"/>
                  </a:lnTo>
                  <a:lnTo>
                    <a:pt x="3413" y="1704"/>
                  </a:lnTo>
                  <a:lnTo>
                    <a:pt x="3404" y="1651"/>
                  </a:lnTo>
                  <a:lnTo>
                    <a:pt x="3400" y="1589"/>
                  </a:lnTo>
                  <a:lnTo>
                    <a:pt x="3382" y="1523"/>
                  </a:lnTo>
                  <a:lnTo>
                    <a:pt x="3365" y="1443"/>
                  </a:lnTo>
                  <a:lnTo>
                    <a:pt x="3351" y="1377"/>
                  </a:lnTo>
                  <a:lnTo>
                    <a:pt x="3347" y="1324"/>
                  </a:lnTo>
                  <a:lnTo>
                    <a:pt x="3347" y="1271"/>
                  </a:lnTo>
                  <a:lnTo>
                    <a:pt x="3351" y="1200"/>
                  </a:lnTo>
                  <a:lnTo>
                    <a:pt x="3369" y="1143"/>
                  </a:lnTo>
                  <a:lnTo>
                    <a:pt x="3387" y="1099"/>
                  </a:lnTo>
                  <a:lnTo>
                    <a:pt x="3409" y="1055"/>
                  </a:lnTo>
                  <a:lnTo>
                    <a:pt x="3444" y="1011"/>
                  </a:lnTo>
                  <a:lnTo>
                    <a:pt x="3479" y="962"/>
                  </a:lnTo>
                  <a:lnTo>
                    <a:pt x="3524" y="922"/>
                  </a:lnTo>
                  <a:lnTo>
                    <a:pt x="3576" y="891"/>
                  </a:lnTo>
                  <a:lnTo>
                    <a:pt x="3621" y="874"/>
                  </a:lnTo>
                  <a:lnTo>
                    <a:pt x="3669" y="856"/>
                  </a:lnTo>
                  <a:lnTo>
                    <a:pt x="3718" y="852"/>
                  </a:lnTo>
                  <a:lnTo>
                    <a:pt x="3775" y="852"/>
                  </a:lnTo>
                  <a:lnTo>
                    <a:pt x="3837" y="852"/>
                  </a:lnTo>
                  <a:close/>
                </a:path>
              </a:pathLst>
            </a:custGeom>
            <a:gradFill rotWithShape="0">
              <a:gsLst>
                <a:gs pos="0">
                  <a:srgbClr val="f00100"/>
                </a:gs>
                <a:gs pos="50000">
                  <a:srgbClr val="b760f9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05400" y="3127320"/>
              <a:ext cx="1530720" cy="1838520"/>
            </a:xfrm>
            <a:custGeom>
              <a:avLst/>
              <a:gdLst/>
              <a:ahLst/>
              <a:rect l="0" t="0" r="r" b="b"/>
              <a:pathLst>
                <a:path w="4252" h="5107">
                  <a:moveTo>
                    <a:pt x="1616" y="1068"/>
                  </a:moveTo>
                  <a:lnTo>
                    <a:pt x="1660" y="1010"/>
                  </a:lnTo>
                  <a:lnTo>
                    <a:pt x="1691" y="953"/>
                  </a:lnTo>
                  <a:lnTo>
                    <a:pt x="1709" y="891"/>
                  </a:lnTo>
                  <a:lnTo>
                    <a:pt x="1709" y="812"/>
                  </a:lnTo>
                  <a:lnTo>
                    <a:pt x="1687" y="723"/>
                  </a:lnTo>
                  <a:lnTo>
                    <a:pt x="1669" y="644"/>
                  </a:lnTo>
                  <a:lnTo>
                    <a:pt x="1647" y="551"/>
                  </a:lnTo>
                  <a:lnTo>
                    <a:pt x="1638" y="450"/>
                  </a:lnTo>
                  <a:lnTo>
                    <a:pt x="1647" y="388"/>
                  </a:lnTo>
                  <a:lnTo>
                    <a:pt x="1665" y="313"/>
                  </a:lnTo>
                  <a:lnTo>
                    <a:pt x="1696" y="233"/>
                  </a:lnTo>
                  <a:lnTo>
                    <a:pt x="1744" y="154"/>
                  </a:lnTo>
                  <a:lnTo>
                    <a:pt x="1802" y="92"/>
                  </a:lnTo>
                  <a:lnTo>
                    <a:pt x="1855" y="48"/>
                  </a:lnTo>
                  <a:lnTo>
                    <a:pt x="1930" y="17"/>
                  </a:lnTo>
                  <a:lnTo>
                    <a:pt x="2013" y="4"/>
                  </a:lnTo>
                  <a:lnTo>
                    <a:pt x="2106" y="0"/>
                  </a:lnTo>
                  <a:lnTo>
                    <a:pt x="2234" y="0"/>
                  </a:lnTo>
                  <a:lnTo>
                    <a:pt x="2331" y="8"/>
                  </a:lnTo>
                  <a:lnTo>
                    <a:pt x="2389" y="30"/>
                  </a:lnTo>
                  <a:lnTo>
                    <a:pt x="2433" y="61"/>
                  </a:lnTo>
                  <a:lnTo>
                    <a:pt x="2477" y="92"/>
                  </a:lnTo>
                  <a:lnTo>
                    <a:pt x="2525" y="145"/>
                  </a:lnTo>
                  <a:lnTo>
                    <a:pt x="2570" y="211"/>
                  </a:lnTo>
                  <a:lnTo>
                    <a:pt x="2601" y="269"/>
                  </a:lnTo>
                  <a:lnTo>
                    <a:pt x="2618" y="317"/>
                  </a:lnTo>
                  <a:lnTo>
                    <a:pt x="2631" y="406"/>
                  </a:lnTo>
                  <a:lnTo>
                    <a:pt x="2631" y="481"/>
                  </a:lnTo>
                  <a:lnTo>
                    <a:pt x="2623" y="560"/>
                  </a:lnTo>
                  <a:lnTo>
                    <a:pt x="2609" y="617"/>
                  </a:lnTo>
                  <a:lnTo>
                    <a:pt x="2592" y="710"/>
                  </a:lnTo>
                  <a:lnTo>
                    <a:pt x="2570" y="807"/>
                  </a:lnTo>
                  <a:lnTo>
                    <a:pt x="2556" y="869"/>
                  </a:lnTo>
                  <a:lnTo>
                    <a:pt x="2574" y="931"/>
                  </a:lnTo>
                  <a:lnTo>
                    <a:pt x="2596" y="975"/>
                  </a:lnTo>
                  <a:lnTo>
                    <a:pt x="2631" y="1032"/>
                  </a:lnTo>
                  <a:lnTo>
                    <a:pt x="2684" y="1081"/>
                  </a:lnTo>
                  <a:lnTo>
                    <a:pt x="2733" y="1121"/>
                  </a:lnTo>
                  <a:lnTo>
                    <a:pt x="2808" y="1156"/>
                  </a:lnTo>
                  <a:lnTo>
                    <a:pt x="2879" y="1173"/>
                  </a:lnTo>
                  <a:lnTo>
                    <a:pt x="2949" y="1196"/>
                  </a:lnTo>
                  <a:lnTo>
                    <a:pt x="3020" y="1204"/>
                  </a:lnTo>
                  <a:lnTo>
                    <a:pt x="3099" y="1226"/>
                  </a:lnTo>
                  <a:lnTo>
                    <a:pt x="3157" y="1249"/>
                  </a:lnTo>
                  <a:lnTo>
                    <a:pt x="3206" y="1275"/>
                  </a:lnTo>
                  <a:lnTo>
                    <a:pt x="3242" y="1301"/>
                  </a:lnTo>
                  <a:lnTo>
                    <a:pt x="3268" y="1337"/>
                  </a:lnTo>
                  <a:lnTo>
                    <a:pt x="3286" y="1377"/>
                  </a:lnTo>
                  <a:lnTo>
                    <a:pt x="3303" y="1421"/>
                  </a:lnTo>
                  <a:lnTo>
                    <a:pt x="3312" y="1465"/>
                  </a:lnTo>
                  <a:lnTo>
                    <a:pt x="3317" y="1505"/>
                  </a:lnTo>
                  <a:lnTo>
                    <a:pt x="3317" y="1562"/>
                  </a:lnTo>
                  <a:lnTo>
                    <a:pt x="3312" y="1624"/>
                  </a:lnTo>
                  <a:lnTo>
                    <a:pt x="3312" y="1668"/>
                  </a:lnTo>
                  <a:lnTo>
                    <a:pt x="3321" y="1730"/>
                  </a:lnTo>
                  <a:lnTo>
                    <a:pt x="3343" y="1778"/>
                  </a:lnTo>
                  <a:lnTo>
                    <a:pt x="3370" y="1822"/>
                  </a:lnTo>
                  <a:lnTo>
                    <a:pt x="3405" y="1853"/>
                  </a:lnTo>
                  <a:lnTo>
                    <a:pt x="3445" y="1893"/>
                  </a:lnTo>
                  <a:lnTo>
                    <a:pt x="3489" y="1911"/>
                  </a:lnTo>
                  <a:lnTo>
                    <a:pt x="3555" y="1928"/>
                  </a:lnTo>
                  <a:lnTo>
                    <a:pt x="3612" y="1933"/>
                  </a:lnTo>
                  <a:lnTo>
                    <a:pt x="3665" y="1937"/>
                  </a:lnTo>
                  <a:lnTo>
                    <a:pt x="3723" y="1933"/>
                  </a:lnTo>
                  <a:lnTo>
                    <a:pt x="3798" y="1928"/>
                  </a:lnTo>
                  <a:lnTo>
                    <a:pt x="3855" y="1924"/>
                  </a:lnTo>
                  <a:lnTo>
                    <a:pt x="3908" y="1915"/>
                  </a:lnTo>
                  <a:lnTo>
                    <a:pt x="3961" y="1911"/>
                  </a:lnTo>
                  <a:lnTo>
                    <a:pt x="4027" y="1915"/>
                  </a:lnTo>
                  <a:lnTo>
                    <a:pt x="4058" y="1924"/>
                  </a:lnTo>
                  <a:lnTo>
                    <a:pt x="4098" y="1933"/>
                  </a:lnTo>
                  <a:lnTo>
                    <a:pt x="4133" y="1955"/>
                  </a:lnTo>
                  <a:lnTo>
                    <a:pt x="4173" y="1990"/>
                  </a:lnTo>
                  <a:lnTo>
                    <a:pt x="4204" y="2025"/>
                  </a:lnTo>
                  <a:lnTo>
                    <a:pt x="4226" y="2078"/>
                  </a:lnTo>
                  <a:lnTo>
                    <a:pt x="4239" y="2127"/>
                  </a:lnTo>
                  <a:lnTo>
                    <a:pt x="4244" y="2184"/>
                  </a:lnTo>
                  <a:lnTo>
                    <a:pt x="4252" y="2290"/>
                  </a:lnTo>
                  <a:lnTo>
                    <a:pt x="4248" y="2414"/>
                  </a:lnTo>
                  <a:lnTo>
                    <a:pt x="4252" y="2546"/>
                  </a:lnTo>
                  <a:lnTo>
                    <a:pt x="4239" y="2697"/>
                  </a:lnTo>
                  <a:lnTo>
                    <a:pt x="4230" y="2803"/>
                  </a:lnTo>
                  <a:lnTo>
                    <a:pt x="4222" y="2887"/>
                  </a:lnTo>
                  <a:lnTo>
                    <a:pt x="4204" y="2935"/>
                  </a:lnTo>
                  <a:lnTo>
                    <a:pt x="4177" y="2980"/>
                  </a:lnTo>
                  <a:lnTo>
                    <a:pt x="4147" y="3006"/>
                  </a:lnTo>
                  <a:lnTo>
                    <a:pt x="4107" y="3033"/>
                  </a:lnTo>
                  <a:lnTo>
                    <a:pt x="4063" y="3046"/>
                  </a:lnTo>
                  <a:lnTo>
                    <a:pt x="4023" y="3059"/>
                  </a:lnTo>
                  <a:lnTo>
                    <a:pt x="3939" y="3059"/>
                  </a:lnTo>
                  <a:lnTo>
                    <a:pt x="3868" y="3059"/>
                  </a:lnTo>
                  <a:lnTo>
                    <a:pt x="3807" y="3046"/>
                  </a:lnTo>
                  <a:lnTo>
                    <a:pt x="3754" y="3041"/>
                  </a:lnTo>
                  <a:lnTo>
                    <a:pt x="3696" y="3041"/>
                  </a:lnTo>
                  <a:lnTo>
                    <a:pt x="3643" y="3041"/>
                  </a:lnTo>
                  <a:lnTo>
                    <a:pt x="3595" y="3041"/>
                  </a:lnTo>
                  <a:lnTo>
                    <a:pt x="3546" y="3046"/>
                  </a:lnTo>
                  <a:lnTo>
                    <a:pt x="3484" y="3063"/>
                  </a:lnTo>
                  <a:lnTo>
                    <a:pt x="3453" y="3081"/>
                  </a:lnTo>
                  <a:lnTo>
                    <a:pt x="3423" y="3094"/>
                  </a:lnTo>
                  <a:lnTo>
                    <a:pt x="3383" y="3121"/>
                  </a:lnTo>
                  <a:lnTo>
                    <a:pt x="3356" y="3161"/>
                  </a:lnTo>
                  <a:lnTo>
                    <a:pt x="3339" y="3191"/>
                  </a:lnTo>
                  <a:lnTo>
                    <a:pt x="3317" y="3231"/>
                  </a:lnTo>
                  <a:lnTo>
                    <a:pt x="3308" y="3271"/>
                  </a:lnTo>
                  <a:lnTo>
                    <a:pt x="3303" y="3315"/>
                  </a:lnTo>
                  <a:lnTo>
                    <a:pt x="3308" y="3364"/>
                  </a:lnTo>
                  <a:lnTo>
                    <a:pt x="3308" y="3443"/>
                  </a:lnTo>
                  <a:lnTo>
                    <a:pt x="3303" y="3527"/>
                  </a:lnTo>
                  <a:lnTo>
                    <a:pt x="3286" y="3589"/>
                  </a:lnTo>
                  <a:lnTo>
                    <a:pt x="3264" y="3637"/>
                  </a:lnTo>
                  <a:lnTo>
                    <a:pt x="3233" y="3677"/>
                  </a:lnTo>
                  <a:lnTo>
                    <a:pt x="3193" y="3703"/>
                  </a:lnTo>
                  <a:lnTo>
                    <a:pt x="3148" y="3730"/>
                  </a:lnTo>
                  <a:lnTo>
                    <a:pt x="3099" y="3743"/>
                  </a:lnTo>
                  <a:lnTo>
                    <a:pt x="3033" y="3756"/>
                  </a:lnTo>
                  <a:lnTo>
                    <a:pt x="2980" y="3778"/>
                  </a:lnTo>
                  <a:lnTo>
                    <a:pt x="2918" y="3787"/>
                  </a:lnTo>
                  <a:lnTo>
                    <a:pt x="2865" y="3796"/>
                  </a:lnTo>
                  <a:lnTo>
                    <a:pt x="2808" y="3814"/>
                  </a:lnTo>
                  <a:lnTo>
                    <a:pt x="2759" y="3840"/>
                  </a:lnTo>
                  <a:lnTo>
                    <a:pt x="2706" y="3862"/>
                  </a:lnTo>
                  <a:lnTo>
                    <a:pt x="2658" y="3898"/>
                  </a:lnTo>
                  <a:lnTo>
                    <a:pt x="2623" y="3942"/>
                  </a:lnTo>
                  <a:lnTo>
                    <a:pt x="2587" y="3990"/>
                  </a:lnTo>
                  <a:lnTo>
                    <a:pt x="2561" y="4052"/>
                  </a:lnTo>
                  <a:lnTo>
                    <a:pt x="2556" y="4105"/>
                  </a:lnTo>
                  <a:lnTo>
                    <a:pt x="2556" y="4167"/>
                  </a:lnTo>
                  <a:lnTo>
                    <a:pt x="2570" y="4229"/>
                  </a:lnTo>
                  <a:lnTo>
                    <a:pt x="2583" y="4290"/>
                  </a:lnTo>
                  <a:lnTo>
                    <a:pt x="2596" y="4357"/>
                  </a:lnTo>
                  <a:lnTo>
                    <a:pt x="2609" y="4418"/>
                  </a:lnTo>
                  <a:lnTo>
                    <a:pt x="2623" y="4498"/>
                  </a:lnTo>
                  <a:lnTo>
                    <a:pt x="2623" y="4577"/>
                  </a:lnTo>
                  <a:lnTo>
                    <a:pt x="2605" y="4657"/>
                  </a:lnTo>
                  <a:lnTo>
                    <a:pt x="2587" y="4719"/>
                  </a:lnTo>
                  <a:lnTo>
                    <a:pt x="2570" y="4780"/>
                  </a:lnTo>
                  <a:lnTo>
                    <a:pt x="2543" y="4842"/>
                  </a:lnTo>
                  <a:lnTo>
                    <a:pt x="2503" y="4913"/>
                  </a:lnTo>
                  <a:lnTo>
                    <a:pt x="2464" y="4961"/>
                  </a:lnTo>
                  <a:lnTo>
                    <a:pt x="2433" y="4992"/>
                  </a:lnTo>
                  <a:lnTo>
                    <a:pt x="2389" y="5032"/>
                  </a:lnTo>
                  <a:lnTo>
                    <a:pt x="2344" y="5067"/>
                  </a:lnTo>
                  <a:lnTo>
                    <a:pt x="2300" y="5089"/>
                  </a:lnTo>
                  <a:lnTo>
                    <a:pt x="2261" y="5098"/>
                  </a:lnTo>
                  <a:lnTo>
                    <a:pt x="2194" y="5107"/>
                  </a:lnTo>
                  <a:lnTo>
                    <a:pt x="2119" y="5107"/>
                  </a:lnTo>
                  <a:lnTo>
                    <a:pt x="2027" y="5107"/>
                  </a:lnTo>
                  <a:lnTo>
                    <a:pt x="1983" y="5107"/>
                  </a:lnTo>
                  <a:lnTo>
                    <a:pt x="1925" y="5094"/>
                  </a:lnTo>
                  <a:lnTo>
                    <a:pt x="1868" y="5076"/>
                  </a:lnTo>
                  <a:lnTo>
                    <a:pt x="1815" y="5045"/>
                  </a:lnTo>
                  <a:lnTo>
                    <a:pt x="1779" y="5014"/>
                  </a:lnTo>
                  <a:lnTo>
                    <a:pt x="1744" y="4975"/>
                  </a:lnTo>
                  <a:lnTo>
                    <a:pt x="1713" y="4939"/>
                  </a:lnTo>
                  <a:lnTo>
                    <a:pt x="1682" y="4891"/>
                  </a:lnTo>
                  <a:lnTo>
                    <a:pt x="1660" y="4842"/>
                  </a:lnTo>
                  <a:lnTo>
                    <a:pt x="1643" y="4785"/>
                  </a:lnTo>
                  <a:lnTo>
                    <a:pt x="1629" y="4723"/>
                  </a:lnTo>
                  <a:lnTo>
                    <a:pt x="1629" y="4679"/>
                  </a:lnTo>
                  <a:lnTo>
                    <a:pt x="1629" y="4613"/>
                  </a:lnTo>
                  <a:lnTo>
                    <a:pt x="1629" y="4555"/>
                  </a:lnTo>
                  <a:lnTo>
                    <a:pt x="1647" y="4498"/>
                  </a:lnTo>
                  <a:lnTo>
                    <a:pt x="1660" y="4432"/>
                  </a:lnTo>
                  <a:lnTo>
                    <a:pt x="1678" y="4365"/>
                  </a:lnTo>
                  <a:lnTo>
                    <a:pt x="1687" y="4308"/>
                  </a:lnTo>
                  <a:lnTo>
                    <a:pt x="1691" y="4251"/>
                  </a:lnTo>
                  <a:lnTo>
                    <a:pt x="1687" y="4207"/>
                  </a:lnTo>
                  <a:lnTo>
                    <a:pt x="1678" y="4167"/>
                  </a:lnTo>
                  <a:lnTo>
                    <a:pt x="1651" y="4109"/>
                  </a:lnTo>
                  <a:lnTo>
                    <a:pt x="1625" y="4074"/>
                  </a:lnTo>
                  <a:lnTo>
                    <a:pt x="1590" y="4034"/>
                  </a:lnTo>
                  <a:lnTo>
                    <a:pt x="1554" y="4004"/>
                  </a:lnTo>
                  <a:lnTo>
                    <a:pt x="1519" y="3977"/>
                  </a:lnTo>
                  <a:lnTo>
                    <a:pt x="1466" y="3955"/>
                  </a:lnTo>
                  <a:lnTo>
                    <a:pt x="1417" y="3942"/>
                  </a:lnTo>
                  <a:lnTo>
                    <a:pt x="1360" y="3924"/>
                  </a:lnTo>
                  <a:lnTo>
                    <a:pt x="1307" y="3920"/>
                  </a:lnTo>
                  <a:lnTo>
                    <a:pt x="1259" y="3902"/>
                  </a:lnTo>
                  <a:lnTo>
                    <a:pt x="1197" y="3889"/>
                  </a:lnTo>
                  <a:lnTo>
                    <a:pt x="1148" y="3867"/>
                  </a:lnTo>
                  <a:lnTo>
                    <a:pt x="1086" y="3849"/>
                  </a:lnTo>
                  <a:lnTo>
                    <a:pt x="1041" y="3827"/>
                  </a:lnTo>
                  <a:lnTo>
                    <a:pt x="1006" y="3796"/>
                  </a:lnTo>
                  <a:lnTo>
                    <a:pt x="975" y="3752"/>
                  </a:lnTo>
                  <a:lnTo>
                    <a:pt x="953" y="3695"/>
                  </a:lnTo>
                  <a:lnTo>
                    <a:pt x="940" y="3624"/>
                  </a:lnTo>
                  <a:lnTo>
                    <a:pt x="935" y="3567"/>
                  </a:lnTo>
                  <a:lnTo>
                    <a:pt x="940" y="3500"/>
                  </a:lnTo>
                  <a:lnTo>
                    <a:pt x="944" y="3447"/>
                  </a:lnTo>
                  <a:lnTo>
                    <a:pt x="940" y="3390"/>
                  </a:lnTo>
                  <a:lnTo>
                    <a:pt x="922" y="3342"/>
                  </a:lnTo>
                  <a:lnTo>
                    <a:pt x="891" y="3289"/>
                  </a:lnTo>
                  <a:lnTo>
                    <a:pt x="860" y="3258"/>
                  </a:lnTo>
                  <a:lnTo>
                    <a:pt x="825" y="3222"/>
                  </a:lnTo>
                  <a:lnTo>
                    <a:pt x="776" y="3205"/>
                  </a:lnTo>
                  <a:lnTo>
                    <a:pt x="719" y="3183"/>
                  </a:lnTo>
                  <a:lnTo>
                    <a:pt x="662" y="3174"/>
                  </a:lnTo>
                  <a:lnTo>
                    <a:pt x="609" y="3165"/>
                  </a:lnTo>
                  <a:lnTo>
                    <a:pt x="556" y="3165"/>
                  </a:lnTo>
                  <a:lnTo>
                    <a:pt x="503" y="3174"/>
                  </a:lnTo>
                  <a:lnTo>
                    <a:pt x="454" y="3178"/>
                  </a:lnTo>
                  <a:lnTo>
                    <a:pt x="406" y="3183"/>
                  </a:lnTo>
                  <a:lnTo>
                    <a:pt x="357" y="3191"/>
                  </a:lnTo>
                  <a:lnTo>
                    <a:pt x="273" y="3191"/>
                  </a:lnTo>
                  <a:lnTo>
                    <a:pt x="220" y="3187"/>
                  </a:lnTo>
                  <a:lnTo>
                    <a:pt x="163" y="3174"/>
                  </a:lnTo>
                  <a:lnTo>
                    <a:pt x="123" y="3152"/>
                  </a:lnTo>
                  <a:lnTo>
                    <a:pt x="79" y="3116"/>
                  </a:lnTo>
                  <a:lnTo>
                    <a:pt x="52" y="3077"/>
                  </a:lnTo>
                  <a:lnTo>
                    <a:pt x="30" y="3033"/>
                  </a:lnTo>
                  <a:lnTo>
                    <a:pt x="8" y="2949"/>
                  </a:lnTo>
                  <a:lnTo>
                    <a:pt x="4" y="2860"/>
                  </a:lnTo>
                  <a:lnTo>
                    <a:pt x="0" y="2772"/>
                  </a:lnTo>
                  <a:lnTo>
                    <a:pt x="0" y="2666"/>
                  </a:lnTo>
                  <a:lnTo>
                    <a:pt x="4" y="2569"/>
                  </a:lnTo>
                  <a:lnTo>
                    <a:pt x="8" y="2467"/>
                  </a:lnTo>
                  <a:lnTo>
                    <a:pt x="13" y="2378"/>
                  </a:lnTo>
                  <a:lnTo>
                    <a:pt x="17" y="2281"/>
                  </a:lnTo>
                  <a:lnTo>
                    <a:pt x="26" y="2211"/>
                  </a:lnTo>
                  <a:lnTo>
                    <a:pt x="39" y="2131"/>
                  </a:lnTo>
                  <a:lnTo>
                    <a:pt x="52" y="2069"/>
                  </a:lnTo>
                  <a:lnTo>
                    <a:pt x="70" y="2030"/>
                  </a:lnTo>
                  <a:lnTo>
                    <a:pt x="101" y="1990"/>
                  </a:lnTo>
                  <a:lnTo>
                    <a:pt x="132" y="1964"/>
                  </a:lnTo>
                  <a:lnTo>
                    <a:pt x="172" y="1933"/>
                  </a:lnTo>
                  <a:lnTo>
                    <a:pt x="207" y="1928"/>
                  </a:lnTo>
                  <a:lnTo>
                    <a:pt x="251" y="1915"/>
                  </a:lnTo>
                  <a:lnTo>
                    <a:pt x="313" y="1911"/>
                  </a:lnTo>
                  <a:lnTo>
                    <a:pt x="366" y="1915"/>
                  </a:lnTo>
                  <a:lnTo>
                    <a:pt x="437" y="1928"/>
                  </a:lnTo>
                  <a:lnTo>
                    <a:pt x="503" y="1933"/>
                  </a:lnTo>
                  <a:lnTo>
                    <a:pt x="556" y="1933"/>
                  </a:lnTo>
                  <a:lnTo>
                    <a:pt x="626" y="1937"/>
                  </a:lnTo>
                  <a:lnTo>
                    <a:pt x="701" y="1928"/>
                  </a:lnTo>
                  <a:lnTo>
                    <a:pt x="768" y="1911"/>
                  </a:lnTo>
                  <a:lnTo>
                    <a:pt x="825" y="1888"/>
                  </a:lnTo>
                  <a:lnTo>
                    <a:pt x="865" y="1862"/>
                  </a:lnTo>
                  <a:lnTo>
                    <a:pt x="904" y="1822"/>
                  </a:lnTo>
                  <a:lnTo>
                    <a:pt x="935" y="1769"/>
                  </a:lnTo>
                  <a:lnTo>
                    <a:pt x="953" y="1721"/>
                  </a:lnTo>
                  <a:lnTo>
                    <a:pt x="962" y="1668"/>
                  </a:lnTo>
                  <a:lnTo>
                    <a:pt x="957" y="1624"/>
                  </a:lnTo>
                  <a:lnTo>
                    <a:pt x="953" y="1549"/>
                  </a:lnTo>
                  <a:lnTo>
                    <a:pt x="957" y="1474"/>
                  </a:lnTo>
                  <a:lnTo>
                    <a:pt x="971" y="1416"/>
                  </a:lnTo>
                  <a:lnTo>
                    <a:pt x="988" y="1359"/>
                  </a:lnTo>
                  <a:lnTo>
                    <a:pt x="1010" y="1319"/>
                  </a:lnTo>
                  <a:lnTo>
                    <a:pt x="1059" y="1279"/>
                  </a:lnTo>
                  <a:lnTo>
                    <a:pt x="1108" y="1253"/>
                  </a:lnTo>
                  <a:lnTo>
                    <a:pt x="1170" y="1231"/>
                  </a:lnTo>
                  <a:lnTo>
                    <a:pt x="1232" y="1213"/>
                  </a:lnTo>
                  <a:lnTo>
                    <a:pt x="1285" y="1196"/>
                  </a:lnTo>
                  <a:lnTo>
                    <a:pt x="1351" y="1187"/>
                  </a:lnTo>
                  <a:lnTo>
                    <a:pt x="1417" y="1173"/>
                  </a:lnTo>
                  <a:lnTo>
                    <a:pt x="1488" y="1151"/>
                  </a:lnTo>
                  <a:lnTo>
                    <a:pt x="1559" y="1116"/>
                  </a:lnTo>
                  <a:lnTo>
                    <a:pt x="1616" y="1068"/>
                  </a:lnTo>
                  <a:close/>
                </a:path>
              </a:pathLst>
            </a:custGeom>
            <a:gradFill rotWithShape="0">
              <a:gsLst>
                <a:gs pos="0">
                  <a:srgbClr val="f00100"/>
                </a:gs>
                <a:gs pos="50000">
                  <a:srgbClr val="ffffa3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4902120" y="2916360"/>
              <a:ext cx="1339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Рас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6157800" y="2933640"/>
              <a:ext cx="1339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Сбере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5634000" y="3887640"/>
              <a:ext cx="1584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Контро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902120" y="4611600"/>
              <a:ext cx="1339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Фон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6157800" y="4611600"/>
              <a:ext cx="13399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Кредитные ка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24360" y="2874960"/>
              <a:ext cx="1380960" cy="49068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f6bf69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4360" y="2706840"/>
              <a:ext cx="1380960" cy="31608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f6bf6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24360" y="3213000"/>
              <a:ext cx="1380960" cy="31608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f6bf69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03480" y="4797360"/>
              <a:ext cx="1355760" cy="49536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b760f9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03480" y="4629240"/>
              <a:ext cx="1355760" cy="31752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b760f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03480" y="5140440"/>
              <a:ext cx="1355760" cy="31752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b760f9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8600" y="2876400"/>
              <a:ext cx="1379520" cy="52704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8cf4ea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28600" y="2697120"/>
              <a:ext cx="1379520" cy="33804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8cf4ea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28600" y="3241800"/>
              <a:ext cx="1379520" cy="33804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8cf4ea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1173240" y="3062160"/>
              <a:ext cx="1335240" cy="42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81d58"/>
                  </a:solidFill>
                  <a:latin typeface="Arial Cyr"/>
                  <a:ea typeface="Arial Cyr"/>
                </a:rPr>
                <a:t>Продук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3087720" y="3048120"/>
              <a:ext cx="1035000" cy="42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81d58"/>
                  </a:solidFill>
                  <a:latin typeface="Arial Cyr"/>
                  <a:ea typeface="Arial Cyr"/>
                </a:rPr>
                <a:t>Мест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2880" y="4276800"/>
              <a:ext cx="1633680" cy="1587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fde3ba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2880" y="3838680"/>
              <a:ext cx="1633680" cy="51264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fde3ba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82880" y="3767040"/>
              <a:ext cx="1633680" cy="1587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fde3ba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77920" y="3944880"/>
              <a:ext cx="1320840" cy="42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81d58"/>
                  </a:solidFill>
                  <a:latin typeface="Arial Cyr"/>
                  <a:ea typeface="Arial Cyr"/>
                </a:rPr>
                <a:t> </a:t>
              </a:r>
              <a:r>
                <a:rPr b="1" lang="en-US" sz="2200" spc="-1" strike="noStrike">
                  <a:solidFill>
                    <a:srgbClr val="081d58"/>
                  </a:solidFill>
                  <a:latin typeface="Arial Cyr"/>
                  <a:ea typeface="Arial Cyr"/>
                </a:rPr>
                <a:t>Клиен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1301760" y="4978440"/>
              <a:ext cx="1366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Актив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22560" y="4819680"/>
              <a:ext cx="1355760" cy="49536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ffffa3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22560" y="4651200"/>
              <a:ext cx="1355760" cy="31752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ffffa3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22560" y="5162400"/>
              <a:ext cx="1355760" cy="31752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ffffa3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186000" y="5022720"/>
              <a:ext cx="923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Интегрированные 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Источники данных распреде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Хранилище представляет значимое множество согласова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Интегрированные дан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384200" y="1917720"/>
            <a:ext cx="5856480" cy="4005360"/>
            <a:chOff x="1384200" y="1917720"/>
            <a:chExt cx="5856480" cy="4005360"/>
          </a:xfrm>
        </p:grpSpPr>
        <p:sp>
          <p:nvSpPr>
            <p:cNvPr id="166" name=""/>
            <p:cNvSpPr txBox="1"/>
            <p:nvPr/>
          </p:nvSpPr>
          <p:spPr>
            <a:xfrm>
              <a:off x="1384200" y="1917720"/>
              <a:ext cx="164772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ef9100"/>
                  </a:solidFill>
                  <a:latin typeface="Arial Cyr"/>
                  <a:ea typeface="Arial Cyr"/>
                </a:rPr>
                <a:t>Оператив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4448160" y="1917720"/>
              <a:ext cx="236052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ef9100"/>
                  </a:solidFill>
                  <a:latin typeface="Arial Cyr"/>
                  <a:ea typeface="Arial Cyr"/>
                </a:rPr>
                <a:t>Хранилище дан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825640" y="2290680"/>
              <a:ext cx="1895400" cy="17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Mr. J. Sm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Joe Sm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Smith, Jose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J. Sm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497560" y="3132000"/>
              <a:ext cx="1743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Mr. J. Sm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56160" y="2862360"/>
              <a:ext cx="971640" cy="30312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56160" y="3317760"/>
              <a:ext cx="971640" cy="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554360" y="3470400"/>
              <a:ext cx="971640" cy="15084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554360" y="3622680"/>
              <a:ext cx="971640" cy="37944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98680" y="2292480"/>
              <a:ext cx="1335240" cy="39384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1498680" y="2292480"/>
              <a:ext cx="13352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аза данных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98680" y="2724120"/>
              <a:ext cx="1335240" cy="39384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498680" y="2724120"/>
              <a:ext cx="13352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аза данных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98680" y="3156120"/>
              <a:ext cx="1335240" cy="38268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498680" y="3156120"/>
              <a:ext cx="1335240" cy="38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аза данных 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98680" y="3592440"/>
              <a:ext cx="1335240" cy="39384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1498680" y="3592440"/>
              <a:ext cx="13352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аза данных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806560" y="4221000"/>
              <a:ext cx="1895400" cy="151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Баланс_на_пери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балан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текущий_балан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доступно_нали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5397480" y="4782960"/>
              <a:ext cx="1285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 Cyr"/>
                  <a:ea typeface="Arial Cyr"/>
                </a:rPr>
                <a:t>Балан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1800" y="4513320"/>
              <a:ext cx="988920" cy="30312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1800" y="4968720"/>
              <a:ext cx="988920" cy="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410000" y="5121360"/>
              <a:ext cx="988920" cy="15084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410000" y="5273640"/>
              <a:ext cx="988920" cy="379440"/>
            </a:xfrm>
            <a:prstGeom prst="line">
              <a:avLst/>
            </a:prstGeom>
            <a:ln w="12600">
              <a:solidFill>
                <a:srgbClr val="33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98680" y="4229280"/>
              <a:ext cx="1335240" cy="39384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498680" y="4228920"/>
              <a:ext cx="13352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аза данных 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98680" y="4660920"/>
              <a:ext cx="1335240" cy="39384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498680" y="4660920"/>
              <a:ext cx="13352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аза данных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98680" y="5092560"/>
              <a:ext cx="1335240" cy="38268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498680" y="5092560"/>
              <a:ext cx="1335240" cy="38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аза данных 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98680" y="5529240"/>
              <a:ext cx="1335240" cy="39384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498680" y="5529240"/>
              <a:ext cx="13352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База данных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Неизменяемые 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1" lang="en-US" sz="2000" spc="-1" strike="noStrike">
                <a:solidFill>
                  <a:srgbClr val="ef9100"/>
                </a:solidFill>
                <a:latin typeface="Arial Cyr"/>
                <a:ea typeface="Arial Cyr"/>
              </a:rPr>
              <a:t>Опе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1" lang="en-US" sz="2000" spc="-1" strike="noStrike">
                <a:solidFill>
                  <a:srgbClr val="ef9100"/>
                </a:solidFill>
                <a:latin typeface="Arial Cyr"/>
                <a:ea typeface="Arial Cyr"/>
              </a:rPr>
              <a:t>Хранилище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52560" y="3379680"/>
            <a:ext cx="1236600" cy="887400"/>
            <a:chOff x="1852560" y="3379680"/>
            <a:chExt cx="1236600" cy="887400"/>
          </a:xfrm>
        </p:grpSpPr>
        <p:sp>
          <p:nvSpPr>
            <p:cNvPr id="202" name=""/>
            <p:cNvSpPr/>
            <p:nvPr/>
          </p:nvSpPr>
          <p:spPr>
            <a:xfrm>
              <a:off x="1852560" y="405612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99ff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52560" y="3479760"/>
              <a:ext cx="1236600" cy="67320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99ff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2560" y="337968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f001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46720" y="3405240"/>
            <a:ext cx="1236600" cy="887040"/>
            <a:chOff x="6246720" y="3405240"/>
            <a:chExt cx="1236600" cy="887040"/>
          </a:xfrm>
        </p:grpSpPr>
        <p:sp>
          <p:nvSpPr>
            <p:cNvPr id="206" name=""/>
            <p:cNvSpPr/>
            <p:nvPr/>
          </p:nvSpPr>
          <p:spPr>
            <a:xfrm>
              <a:off x="6246720" y="408132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6720" y="3492360"/>
              <a:ext cx="1236600" cy="673200"/>
            </a:xfrm>
            <a:prstGeom prst="rect">
              <a:avLst/>
            </a:prstGeom>
            <a:gradFill rotWithShape="0">
              <a:gsLst>
                <a:gs pos="0">
                  <a:srgbClr val="f00100"/>
                </a:gs>
                <a:gs pos="50000">
                  <a:srgbClr val="ccccff"/>
                </a:gs>
                <a:gs pos="100000">
                  <a:srgbClr val="f001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6720" y="3405240"/>
              <a:ext cx="1236600" cy="210960"/>
            </a:xfrm>
            <a:prstGeom prst="ellipse">
              <a:avLst/>
            </a:prstGeom>
            <a:gradFill rotWithShape="0">
              <a:gsLst>
                <a:gs pos="0">
                  <a:srgbClr val="f00100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600200" y="4954680"/>
            <a:ext cx="5429160" cy="744480"/>
            <a:chOff x="1600200" y="4954680"/>
            <a:chExt cx="5429160" cy="744480"/>
          </a:xfrm>
        </p:grpSpPr>
        <p:sp>
          <p:nvSpPr>
            <p:cNvPr id="210" name=""/>
            <p:cNvSpPr/>
            <p:nvPr/>
          </p:nvSpPr>
          <p:spPr>
            <a:xfrm flipV="1">
              <a:off x="1600200" y="4981680"/>
              <a:ext cx="398520" cy="6429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438280" y="4981680"/>
              <a:ext cx="0" cy="6429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2819520" y="5013360"/>
              <a:ext cx="398520" cy="685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122640" y="4981680"/>
              <a:ext cx="739800" cy="6429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00760" y="4954680"/>
              <a:ext cx="0" cy="576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5240" y="4954680"/>
              <a:ext cx="0" cy="576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9360" y="4954680"/>
              <a:ext cx="0" cy="576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963960" y="3809880"/>
            <a:ext cx="1652760" cy="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40280" y="4114800"/>
            <a:ext cx="1652400" cy="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7640" y="3505320"/>
            <a:ext cx="1652760" cy="0"/>
          </a:xfrm>
          <a:prstGeom prst="line">
            <a:avLst/>
          </a:prstGeom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94240" y="4280040"/>
            <a:ext cx="21034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ba00"/>
                </a:solidFill>
                <a:latin typeface="Arial Cyr"/>
                <a:ea typeface="Arial Cyr"/>
              </a:rPr>
              <a:t>Загруз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17520" y="5956200"/>
            <a:ext cx="5019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ba00"/>
                </a:solidFill>
                <a:latin typeface="Arial Cyr"/>
                <a:ea typeface="Arial Cyr"/>
              </a:rPr>
              <a:t>Обновления  Удаления  Вставки  За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489720" y="5803920"/>
            <a:ext cx="11905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ba00"/>
                </a:solidFill>
                <a:latin typeface="Arial Cyr"/>
                <a:ea typeface="Arial Cyr"/>
              </a:rPr>
              <a:t>За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Временно-зависимые 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Являются историче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именимы для анализа тенденций и прогно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 Cyr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одержат временные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4192560"/>
            <a:ext cx="0" cy="232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4116240"/>
            <a:ext cx="0" cy="2322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447920" y="4724280"/>
            <a:ext cx="5979960" cy="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3000" y="4280040"/>
            <a:ext cx="2108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ef9100"/>
                </a:solidFill>
                <a:latin typeface="Arial Cyr"/>
                <a:ea typeface="Arial Cyr"/>
              </a:rPr>
              <a:t>Опер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651640" y="4203720"/>
            <a:ext cx="24192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440"/>
              </a:spcBef>
            </a:pPr>
            <a:r>
              <a:rPr b="1" lang="en-US" sz="1800" spc="-1" strike="noStrike">
                <a:solidFill>
                  <a:srgbClr val="ef9100"/>
                </a:solidFill>
                <a:latin typeface="Arial Cyr"/>
                <a:ea typeface="Arial Cyr"/>
              </a:rPr>
              <a:t>Хранилищ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2440" y="4965840"/>
            <a:ext cx="14461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ef9100"/>
                </a:solidFill>
                <a:latin typeface="Arial Cyr"/>
                <a:ea typeface="Arial Cyr"/>
              </a:rPr>
              <a:t>Актуа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600" y="5499000"/>
            <a:ext cx="26208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ef9100"/>
                </a:solidFill>
                <a:latin typeface="Arial Cyr"/>
                <a:ea typeface="Arial Cyr"/>
              </a:rPr>
              <a:t>Ключевой компон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98400" y="6032520"/>
            <a:ext cx="13460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ef9100"/>
                </a:solidFill>
                <a:latin typeface="Arial Cyr"/>
                <a:ea typeface="Arial Cyr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137040" y="4965840"/>
            <a:ext cx="1833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440"/>
              </a:spcBef>
            </a:pPr>
            <a:r>
              <a:rPr b="1" lang="en-US" sz="1800" spc="-1" strike="noStrike">
                <a:solidFill>
                  <a:srgbClr val="f6bf69"/>
                </a:solidFill>
                <a:latin typeface="Arial Cyr"/>
                <a:ea typeface="Arial Cyr"/>
              </a:rPr>
              <a:t>60-90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440"/>
              </a:spcBef>
            </a:pPr>
            <a:r>
              <a:rPr b="1" lang="en-US" sz="1800" spc="-1" strike="noStrike">
                <a:solidFill>
                  <a:srgbClr val="f6bf69"/>
                </a:solidFill>
                <a:latin typeface="Arial Cyr"/>
                <a:ea typeface="Arial Cyr"/>
              </a:rPr>
              <a:t>Не дата-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440"/>
              </a:spcBef>
            </a:pPr>
            <a:r>
              <a:rPr b="1" lang="en-US" sz="1800" spc="-1" strike="noStrike">
                <a:solidFill>
                  <a:srgbClr val="f6bf69"/>
                </a:solidFill>
                <a:latin typeface="Arial Cyr"/>
                <a:ea typeface="Arial Cyr"/>
              </a:rPr>
              <a:t>Обно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803920" y="4965840"/>
            <a:ext cx="2133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440"/>
              </a:spcBef>
            </a:pPr>
            <a:r>
              <a:rPr b="1" lang="en-US" sz="1800" spc="-1" strike="noStrike">
                <a:solidFill>
                  <a:srgbClr val="f6bf69"/>
                </a:solidFill>
                <a:latin typeface="Arial Cyr"/>
                <a:ea typeface="Arial Cyr"/>
              </a:rPr>
              <a:t>2-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440"/>
              </a:spcBef>
            </a:pPr>
            <a:r>
              <a:rPr b="1" lang="en-US" sz="1800" spc="-1" strike="noStrike">
                <a:solidFill>
                  <a:srgbClr val="f6bf69"/>
                </a:solidFill>
                <a:latin typeface="Arial Cyr"/>
                <a:ea typeface="Arial Cyr"/>
              </a:rPr>
              <a:t>Дата-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440"/>
              </a:spcBef>
            </a:pPr>
            <a:r>
              <a:rPr b="1" lang="en-US" sz="1800" spc="-1" strike="noStrike">
                <a:solidFill>
                  <a:srgbClr val="f6bf69"/>
                </a:solidFill>
                <a:latin typeface="Arial Cyr"/>
                <a:ea typeface="Arial Cyr"/>
              </a:rPr>
              <a:t>Не обно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Оперативные системы и хранилища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09480" y="2209680"/>
            <a:ext cx="8228160" cy="3914640"/>
            <a:chOff x="609480" y="2209680"/>
            <a:chExt cx="8228160" cy="3914640"/>
          </a:xfrm>
        </p:grpSpPr>
        <p:sp>
          <p:nvSpPr>
            <p:cNvPr id="241" name=""/>
            <p:cNvSpPr txBox="1"/>
            <p:nvPr/>
          </p:nvSpPr>
          <p:spPr>
            <a:xfrm>
              <a:off x="609480" y="2209680"/>
              <a:ext cx="1828800" cy="3892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81d5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Характери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Размер баз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Источники дан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Досту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Период време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Нагруз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Активность пользова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2444760" y="2209680"/>
              <a:ext cx="2978280" cy="3914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81d5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Оператив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&lt; 100 Г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Внутрен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Чтение и запис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Текущие 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Прогнозируем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Операции и отче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5419800" y="2209680"/>
              <a:ext cx="3417840" cy="3914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81d5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Хранилищ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От 500 Гб до 2 T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Внутренние и внеш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Только чт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Исторические 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Непрогнозируем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Анализ,планирование итп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Информационные особенности хранилищ данных</a:t>
            </a:r>
            <a:r>
              <a:rPr b="0" lang="en-US" sz="4400" spc="-1" strike="noStrike">
                <a:solidFill>
                  <a:srgbClr val="cbcbcb"/>
                </a:solidFill>
                <a:latin typeface="Times New Roman Cyr"/>
                <a:ea typeface="Times New Roman Cy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2666880"/>
            <a:ext cx="9142560" cy="3419640"/>
            <a:chOff x="0" y="2666880"/>
            <a:chExt cx="9142560" cy="3419640"/>
          </a:xfrm>
        </p:grpSpPr>
        <p:sp>
          <p:nvSpPr>
            <p:cNvPr id="248" name=""/>
            <p:cNvSpPr txBox="1"/>
            <p:nvPr/>
          </p:nvSpPr>
          <p:spPr>
            <a:xfrm>
              <a:off x="0" y="2666880"/>
              <a:ext cx="2008080" cy="3400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7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Характеристик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Соеди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Перио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Загрузка 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Акти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Пользов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957320" y="2666880"/>
              <a:ext cx="1936800" cy="3419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Оператив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Интенс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Текущ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Транзакц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Предсказу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Отче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End 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3916440" y="2666880"/>
              <a:ext cx="5211720" cy="3419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Хранилищ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Минималь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Исторические 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Временные,предвычисленные,суммар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Непредсказу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Анализ, прогностика, планирование итп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44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 Cyr"/>
                  <a:ea typeface="Arial Cyr"/>
                </a:rPr>
                <a:t>ЛПР,аналитики,исследов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480" y="3125880"/>
              <a:ext cx="910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80" y="3637080"/>
              <a:ext cx="910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80" y="4194000"/>
              <a:ext cx="910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0" y="4692600"/>
              <a:ext cx="910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80" y="5180040"/>
              <a:ext cx="910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80" y="5654520"/>
              <a:ext cx="910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</cp:lastModifiedBy>
  <cp:revision>0</cp:revision>
  <dc:subject/>
  <dc:title>Õðàíèëèùà äàííûõ</dc:title>
</cp:coreProperties>
</file>