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4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56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68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0" y="3693960"/>
              <a:ext cx="1910160" cy="1910160"/>
              <a:chOff x="0" y="3693960"/>
              <a:chExt cx="1910160" cy="1910160"/>
            </a:xfrm>
          </p:grpSpPr>
          <p:sp>
            <p:nvSpPr>
              <p:cNvPr id="78" name=""/>
              <p:cNvSpPr/>
              <p:nvPr/>
            </p:nvSpPr>
            <p:spPr>
              <a:xfrm>
                <a:off x="0" y="3800520"/>
                <a:ext cx="703800" cy="1640160"/>
              </a:xfrm>
              <a:custGeom>
                <a:avLst/>
                <a:gdLst/>
                <a:ahLst/>
                <a:rect l="0" t="0" r="r" b="b"/>
                <a:pathLst>
                  <a:path w="1955" h="4556">
                    <a:moveTo>
                      <a:pt x="1203" y="4556"/>
                    </a:moveTo>
                    <a:lnTo>
                      <a:pt x="1282" y="4485"/>
                    </a:lnTo>
                    <a:lnTo>
                      <a:pt x="1331" y="4379"/>
                    </a:lnTo>
                    <a:lnTo>
                      <a:pt x="1397" y="4300"/>
                    </a:lnTo>
                    <a:lnTo>
                      <a:pt x="1450" y="4216"/>
                    </a:lnTo>
                    <a:lnTo>
                      <a:pt x="1566" y="4061"/>
                    </a:lnTo>
                    <a:lnTo>
                      <a:pt x="1650" y="3991"/>
                    </a:lnTo>
                    <a:lnTo>
                      <a:pt x="1699" y="3902"/>
                    </a:lnTo>
                    <a:lnTo>
                      <a:pt x="1725" y="3744"/>
                    </a:lnTo>
                    <a:lnTo>
                      <a:pt x="1685" y="3673"/>
                    </a:lnTo>
                    <a:lnTo>
                      <a:pt x="1659" y="3585"/>
                    </a:lnTo>
                    <a:lnTo>
                      <a:pt x="1637" y="3505"/>
                    </a:lnTo>
                    <a:lnTo>
                      <a:pt x="1597" y="3417"/>
                    </a:lnTo>
                    <a:lnTo>
                      <a:pt x="1597" y="3355"/>
                    </a:lnTo>
                    <a:lnTo>
                      <a:pt x="1597" y="3298"/>
                    </a:lnTo>
                    <a:lnTo>
                      <a:pt x="1597" y="3240"/>
                    </a:lnTo>
                    <a:lnTo>
                      <a:pt x="1588" y="3187"/>
                    </a:lnTo>
                    <a:lnTo>
                      <a:pt x="1588" y="3121"/>
                    </a:lnTo>
                    <a:lnTo>
                      <a:pt x="1610" y="3081"/>
                    </a:lnTo>
                    <a:lnTo>
                      <a:pt x="1650" y="3051"/>
                    </a:lnTo>
                    <a:lnTo>
                      <a:pt x="1725" y="3028"/>
                    </a:lnTo>
                    <a:lnTo>
                      <a:pt x="1730" y="3028"/>
                    </a:lnTo>
                    <a:lnTo>
                      <a:pt x="1747" y="3011"/>
                    </a:lnTo>
                    <a:lnTo>
                      <a:pt x="1747" y="3002"/>
                    </a:lnTo>
                    <a:lnTo>
                      <a:pt x="1747" y="2989"/>
                    </a:lnTo>
                    <a:lnTo>
                      <a:pt x="1725" y="2962"/>
                    </a:lnTo>
                    <a:lnTo>
                      <a:pt x="1708" y="2940"/>
                    </a:lnTo>
                    <a:lnTo>
                      <a:pt x="1708" y="2914"/>
                    </a:lnTo>
                    <a:lnTo>
                      <a:pt x="1747" y="2892"/>
                    </a:lnTo>
                    <a:lnTo>
                      <a:pt x="1933" y="2803"/>
                    </a:lnTo>
                    <a:lnTo>
                      <a:pt x="1955" y="2764"/>
                    </a:lnTo>
                    <a:lnTo>
                      <a:pt x="1955" y="2733"/>
                    </a:lnTo>
                    <a:lnTo>
                      <a:pt x="1955" y="2706"/>
                    </a:lnTo>
                    <a:lnTo>
                      <a:pt x="1937" y="2667"/>
                    </a:lnTo>
                    <a:lnTo>
                      <a:pt x="1845" y="2547"/>
                    </a:lnTo>
                    <a:lnTo>
                      <a:pt x="1769" y="2397"/>
                    </a:lnTo>
                    <a:lnTo>
                      <a:pt x="1730" y="2255"/>
                    </a:lnTo>
                    <a:lnTo>
                      <a:pt x="1699" y="2092"/>
                    </a:lnTo>
                    <a:lnTo>
                      <a:pt x="1628" y="2052"/>
                    </a:lnTo>
                    <a:lnTo>
                      <a:pt x="1566" y="2008"/>
                    </a:lnTo>
                    <a:lnTo>
                      <a:pt x="1500" y="1959"/>
                    </a:lnTo>
                    <a:lnTo>
                      <a:pt x="1441" y="1911"/>
                    </a:lnTo>
                    <a:lnTo>
                      <a:pt x="1402" y="1862"/>
                    </a:lnTo>
                    <a:lnTo>
                      <a:pt x="1379" y="1814"/>
                    </a:lnTo>
                    <a:lnTo>
                      <a:pt x="1362" y="1774"/>
                    </a:lnTo>
                    <a:lnTo>
                      <a:pt x="1357" y="1725"/>
                    </a:lnTo>
                    <a:lnTo>
                      <a:pt x="1260" y="1602"/>
                    </a:lnTo>
                    <a:lnTo>
                      <a:pt x="1282" y="1496"/>
                    </a:lnTo>
                    <a:lnTo>
                      <a:pt x="1331" y="1385"/>
                    </a:lnTo>
                    <a:lnTo>
                      <a:pt x="1362" y="1275"/>
                    </a:lnTo>
                    <a:lnTo>
                      <a:pt x="1362" y="1178"/>
                    </a:lnTo>
                    <a:lnTo>
                      <a:pt x="1318" y="1227"/>
                    </a:lnTo>
                    <a:lnTo>
                      <a:pt x="1269" y="1297"/>
                    </a:lnTo>
                    <a:lnTo>
                      <a:pt x="1238" y="1355"/>
                    </a:lnTo>
                    <a:lnTo>
                      <a:pt x="1203" y="1385"/>
                    </a:lnTo>
                    <a:lnTo>
                      <a:pt x="1189" y="1249"/>
                    </a:lnTo>
                    <a:lnTo>
                      <a:pt x="1198" y="1121"/>
                    </a:lnTo>
                    <a:lnTo>
                      <a:pt x="1203" y="988"/>
                    </a:lnTo>
                    <a:lnTo>
                      <a:pt x="1203" y="860"/>
                    </a:lnTo>
                    <a:lnTo>
                      <a:pt x="1238" y="781"/>
                    </a:lnTo>
                    <a:lnTo>
                      <a:pt x="1238" y="723"/>
                    </a:lnTo>
                    <a:lnTo>
                      <a:pt x="1238" y="644"/>
                    </a:lnTo>
                    <a:lnTo>
                      <a:pt x="1242" y="587"/>
                    </a:lnTo>
                    <a:lnTo>
                      <a:pt x="1242" y="542"/>
                    </a:lnTo>
                    <a:lnTo>
                      <a:pt x="1260" y="498"/>
                    </a:lnTo>
                    <a:lnTo>
                      <a:pt x="1282" y="459"/>
                    </a:lnTo>
                    <a:lnTo>
                      <a:pt x="1309" y="428"/>
                    </a:lnTo>
                    <a:lnTo>
                      <a:pt x="1318" y="414"/>
                    </a:lnTo>
                    <a:lnTo>
                      <a:pt x="1331" y="406"/>
                    </a:lnTo>
                    <a:lnTo>
                      <a:pt x="1340" y="379"/>
                    </a:lnTo>
                    <a:lnTo>
                      <a:pt x="1357" y="366"/>
                    </a:lnTo>
                    <a:lnTo>
                      <a:pt x="1362" y="366"/>
                    </a:lnTo>
                    <a:lnTo>
                      <a:pt x="1402" y="348"/>
                    </a:lnTo>
                    <a:lnTo>
                      <a:pt x="1428" y="339"/>
                    </a:lnTo>
                    <a:lnTo>
                      <a:pt x="1450" y="339"/>
                    </a:lnTo>
                    <a:lnTo>
                      <a:pt x="1478" y="326"/>
                    </a:lnTo>
                    <a:lnTo>
                      <a:pt x="1491" y="326"/>
                    </a:lnTo>
                    <a:lnTo>
                      <a:pt x="1500" y="317"/>
                    </a:lnTo>
                    <a:lnTo>
                      <a:pt x="1526" y="295"/>
                    </a:lnTo>
                    <a:lnTo>
                      <a:pt x="1526" y="278"/>
                    </a:lnTo>
                    <a:lnTo>
                      <a:pt x="1491" y="220"/>
                    </a:lnTo>
                    <a:lnTo>
                      <a:pt x="1491" y="207"/>
                    </a:lnTo>
                    <a:lnTo>
                      <a:pt x="1491" y="189"/>
                    </a:lnTo>
                    <a:lnTo>
                      <a:pt x="1491" y="180"/>
                    </a:lnTo>
                    <a:lnTo>
                      <a:pt x="1478" y="180"/>
                    </a:lnTo>
                    <a:lnTo>
                      <a:pt x="1478" y="167"/>
                    </a:lnTo>
                    <a:lnTo>
                      <a:pt x="1450" y="132"/>
                    </a:lnTo>
                    <a:lnTo>
                      <a:pt x="1419" y="92"/>
                    </a:lnTo>
                    <a:lnTo>
                      <a:pt x="1402" y="48"/>
                    </a:lnTo>
                    <a:lnTo>
                      <a:pt x="1397" y="0"/>
                    </a:lnTo>
                    <a:lnTo>
                      <a:pt x="1101" y="180"/>
                    </a:lnTo>
                    <a:lnTo>
                      <a:pt x="831" y="414"/>
                    </a:lnTo>
                    <a:lnTo>
                      <a:pt x="588" y="666"/>
                    </a:lnTo>
                    <a:lnTo>
                      <a:pt x="388" y="962"/>
                    </a:lnTo>
                    <a:lnTo>
                      <a:pt x="220" y="1275"/>
                    </a:lnTo>
                    <a:lnTo>
                      <a:pt x="92" y="1615"/>
                    </a:lnTo>
                    <a:lnTo>
                      <a:pt x="22" y="1968"/>
                    </a:lnTo>
                    <a:lnTo>
                      <a:pt x="0" y="2340"/>
                    </a:lnTo>
                    <a:lnTo>
                      <a:pt x="22" y="2684"/>
                    </a:lnTo>
                    <a:lnTo>
                      <a:pt x="88" y="3002"/>
                    </a:lnTo>
                    <a:lnTo>
                      <a:pt x="198" y="3315"/>
                    </a:lnTo>
                    <a:lnTo>
                      <a:pt x="327" y="3616"/>
                    </a:lnTo>
                    <a:lnTo>
                      <a:pt x="504" y="3880"/>
                    </a:lnTo>
                    <a:lnTo>
                      <a:pt x="708" y="4141"/>
                    </a:lnTo>
                    <a:lnTo>
                      <a:pt x="951" y="4357"/>
                    </a:lnTo>
                    <a:lnTo>
                      <a:pt x="1203" y="455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1560" y="3693960"/>
                <a:ext cx="1308600" cy="1910160"/>
              </a:xfrm>
              <a:custGeom>
                <a:avLst/>
                <a:gdLst/>
                <a:ahLst/>
                <a:rect l="0" t="0" r="r" b="b"/>
                <a:pathLst>
                  <a:path w="3635" h="5306">
                    <a:moveTo>
                      <a:pt x="3547" y="3249"/>
                    </a:moveTo>
                    <a:lnTo>
                      <a:pt x="3564" y="3196"/>
                    </a:lnTo>
                    <a:lnTo>
                      <a:pt x="3569" y="3147"/>
                    </a:lnTo>
                    <a:lnTo>
                      <a:pt x="3587" y="3099"/>
                    </a:lnTo>
                    <a:lnTo>
                      <a:pt x="3595" y="3050"/>
                    </a:lnTo>
                    <a:lnTo>
                      <a:pt x="3547" y="3050"/>
                    </a:lnTo>
                    <a:lnTo>
                      <a:pt x="3516" y="3037"/>
                    </a:lnTo>
                    <a:lnTo>
                      <a:pt x="3459" y="3028"/>
                    </a:lnTo>
                    <a:lnTo>
                      <a:pt x="3428" y="3002"/>
                    </a:lnTo>
                    <a:lnTo>
                      <a:pt x="3401" y="2980"/>
                    </a:lnTo>
                    <a:lnTo>
                      <a:pt x="3388" y="2940"/>
                    </a:lnTo>
                    <a:lnTo>
                      <a:pt x="3361" y="2918"/>
                    </a:lnTo>
                    <a:lnTo>
                      <a:pt x="3357" y="2891"/>
                    </a:lnTo>
                    <a:lnTo>
                      <a:pt x="3339" y="2829"/>
                    </a:lnTo>
                    <a:lnTo>
                      <a:pt x="3339" y="2754"/>
                    </a:lnTo>
                    <a:lnTo>
                      <a:pt x="3357" y="2693"/>
                    </a:lnTo>
                    <a:lnTo>
                      <a:pt x="3388" y="2644"/>
                    </a:lnTo>
                    <a:lnTo>
                      <a:pt x="3450" y="2635"/>
                    </a:lnTo>
                    <a:lnTo>
                      <a:pt x="3498" y="2644"/>
                    </a:lnTo>
                    <a:lnTo>
                      <a:pt x="3547" y="2684"/>
                    </a:lnTo>
                    <a:lnTo>
                      <a:pt x="3587" y="2715"/>
                    </a:lnTo>
                    <a:lnTo>
                      <a:pt x="3617" y="2772"/>
                    </a:lnTo>
                    <a:lnTo>
                      <a:pt x="3635" y="2732"/>
                    </a:lnTo>
                    <a:lnTo>
                      <a:pt x="3635" y="2693"/>
                    </a:lnTo>
                    <a:lnTo>
                      <a:pt x="3635" y="2671"/>
                    </a:lnTo>
                    <a:lnTo>
                      <a:pt x="3635" y="2635"/>
                    </a:lnTo>
                    <a:lnTo>
                      <a:pt x="3617" y="2423"/>
                    </a:lnTo>
                    <a:lnTo>
                      <a:pt x="3595" y="2216"/>
                    </a:lnTo>
                    <a:lnTo>
                      <a:pt x="3564" y="2009"/>
                    </a:lnTo>
                    <a:lnTo>
                      <a:pt x="3498" y="1814"/>
                    </a:lnTo>
                    <a:lnTo>
                      <a:pt x="3428" y="1616"/>
                    </a:lnTo>
                    <a:lnTo>
                      <a:pt x="3339" y="1435"/>
                    </a:lnTo>
                    <a:lnTo>
                      <a:pt x="3242" y="1257"/>
                    </a:lnTo>
                    <a:lnTo>
                      <a:pt x="3132" y="1090"/>
                    </a:lnTo>
                    <a:lnTo>
                      <a:pt x="3114" y="1090"/>
                    </a:lnTo>
                    <a:lnTo>
                      <a:pt x="3101" y="1076"/>
                    </a:lnTo>
                    <a:lnTo>
                      <a:pt x="3083" y="1076"/>
                    </a:lnTo>
                    <a:lnTo>
                      <a:pt x="3061" y="1068"/>
                    </a:lnTo>
                    <a:lnTo>
                      <a:pt x="2991" y="1116"/>
                    </a:lnTo>
                    <a:lnTo>
                      <a:pt x="2951" y="1121"/>
                    </a:lnTo>
                    <a:lnTo>
                      <a:pt x="2915" y="1138"/>
                    </a:lnTo>
                    <a:lnTo>
                      <a:pt x="2876" y="1156"/>
                    </a:lnTo>
                    <a:lnTo>
                      <a:pt x="2836" y="1165"/>
                    </a:lnTo>
                    <a:lnTo>
                      <a:pt x="2787" y="1178"/>
                    </a:lnTo>
                    <a:lnTo>
                      <a:pt x="2734" y="1204"/>
                    </a:lnTo>
                    <a:lnTo>
                      <a:pt x="2676" y="1226"/>
                    </a:lnTo>
                    <a:lnTo>
                      <a:pt x="2623" y="1248"/>
                    </a:lnTo>
                    <a:lnTo>
                      <a:pt x="2574" y="1257"/>
                    </a:lnTo>
                    <a:lnTo>
                      <a:pt x="2535" y="1275"/>
                    </a:lnTo>
                    <a:lnTo>
                      <a:pt x="2504" y="1284"/>
                    </a:lnTo>
                    <a:lnTo>
                      <a:pt x="2460" y="1275"/>
                    </a:lnTo>
                    <a:lnTo>
                      <a:pt x="2446" y="1257"/>
                    </a:lnTo>
                    <a:lnTo>
                      <a:pt x="2420" y="1235"/>
                    </a:lnTo>
                    <a:lnTo>
                      <a:pt x="2416" y="1226"/>
                    </a:lnTo>
                    <a:lnTo>
                      <a:pt x="2398" y="1204"/>
                    </a:lnTo>
                    <a:lnTo>
                      <a:pt x="2367" y="1138"/>
                    </a:lnTo>
                    <a:lnTo>
                      <a:pt x="2349" y="1076"/>
                    </a:lnTo>
                    <a:lnTo>
                      <a:pt x="2349" y="1019"/>
                    </a:lnTo>
                    <a:lnTo>
                      <a:pt x="2340" y="957"/>
                    </a:lnTo>
                    <a:lnTo>
                      <a:pt x="2349" y="891"/>
                    </a:lnTo>
                    <a:lnTo>
                      <a:pt x="2389" y="838"/>
                    </a:lnTo>
                    <a:lnTo>
                      <a:pt x="2438" y="781"/>
                    </a:lnTo>
                    <a:lnTo>
                      <a:pt x="2486" y="750"/>
                    </a:lnTo>
                    <a:lnTo>
                      <a:pt x="2535" y="701"/>
                    </a:lnTo>
                    <a:lnTo>
                      <a:pt x="2574" y="644"/>
                    </a:lnTo>
                    <a:lnTo>
                      <a:pt x="2597" y="591"/>
                    </a:lnTo>
                    <a:lnTo>
                      <a:pt x="2597" y="525"/>
                    </a:lnTo>
                    <a:lnTo>
                      <a:pt x="2508" y="463"/>
                    </a:lnTo>
                    <a:lnTo>
                      <a:pt x="2438" y="406"/>
                    </a:lnTo>
                    <a:lnTo>
                      <a:pt x="2349" y="357"/>
                    </a:lnTo>
                    <a:lnTo>
                      <a:pt x="2261" y="308"/>
                    </a:lnTo>
                    <a:lnTo>
                      <a:pt x="2168" y="255"/>
                    </a:lnTo>
                    <a:lnTo>
                      <a:pt x="2080" y="207"/>
                    </a:lnTo>
                    <a:lnTo>
                      <a:pt x="1983" y="167"/>
                    </a:lnTo>
                    <a:lnTo>
                      <a:pt x="1890" y="136"/>
                    </a:lnTo>
                    <a:lnTo>
                      <a:pt x="1952" y="198"/>
                    </a:lnTo>
                    <a:lnTo>
                      <a:pt x="2009" y="247"/>
                    </a:lnTo>
                    <a:lnTo>
                      <a:pt x="2054" y="278"/>
                    </a:lnTo>
                    <a:lnTo>
                      <a:pt x="2137" y="326"/>
                    </a:lnTo>
                    <a:lnTo>
                      <a:pt x="2142" y="388"/>
                    </a:lnTo>
                    <a:lnTo>
                      <a:pt x="2137" y="463"/>
                    </a:lnTo>
                    <a:lnTo>
                      <a:pt x="2111" y="542"/>
                    </a:lnTo>
                    <a:lnTo>
                      <a:pt x="2111" y="595"/>
                    </a:lnTo>
                    <a:lnTo>
                      <a:pt x="2137" y="662"/>
                    </a:lnTo>
                    <a:lnTo>
                      <a:pt x="2137" y="684"/>
                    </a:lnTo>
                    <a:lnTo>
                      <a:pt x="2120" y="710"/>
                    </a:lnTo>
                    <a:lnTo>
                      <a:pt x="2093" y="732"/>
                    </a:lnTo>
                    <a:lnTo>
                      <a:pt x="2071" y="750"/>
                    </a:lnTo>
                    <a:lnTo>
                      <a:pt x="2054" y="772"/>
                    </a:lnTo>
                    <a:lnTo>
                      <a:pt x="2054" y="794"/>
                    </a:lnTo>
                    <a:lnTo>
                      <a:pt x="2054" y="838"/>
                    </a:lnTo>
                    <a:lnTo>
                      <a:pt x="2049" y="860"/>
                    </a:lnTo>
                    <a:lnTo>
                      <a:pt x="2031" y="869"/>
                    </a:lnTo>
                    <a:lnTo>
                      <a:pt x="2023" y="882"/>
                    </a:lnTo>
                    <a:lnTo>
                      <a:pt x="2009" y="882"/>
                    </a:lnTo>
                    <a:lnTo>
                      <a:pt x="2001" y="882"/>
                    </a:lnTo>
                    <a:lnTo>
                      <a:pt x="1974" y="869"/>
                    </a:lnTo>
                    <a:lnTo>
                      <a:pt x="1952" y="882"/>
                    </a:lnTo>
                    <a:lnTo>
                      <a:pt x="1912" y="891"/>
                    </a:lnTo>
                    <a:lnTo>
                      <a:pt x="1890" y="891"/>
                    </a:lnTo>
                    <a:lnTo>
                      <a:pt x="1872" y="882"/>
                    </a:lnTo>
                    <a:lnTo>
                      <a:pt x="1872" y="869"/>
                    </a:lnTo>
                    <a:lnTo>
                      <a:pt x="1864" y="860"/>
                    </a:lnTo>
                    <a:lnTo>
                      <a:pt x="1850" y="723"/>
                    </a:lnTo>
                    <a:lnTo>
                      <a:pt x="1815" y="701"/>
                    </a:lnTo>
                    <a:lnTo>
                      <a:pt x="1793" y="662"/>
                    </a:lnTo>
                    <a:lnTo>
                      <a:pt x="1753" y="622"/>
                    </a:lnTo>
                    <a:lnTo>
                      <a:pt x="1722" y="591"/>
                    </a:lnTo>
                    <a:lnTo>
                      <a:pt x="1705" y="551"/>
                    </a:lnTo>
                    <a:lnTo>
                      <a:pt x="1696" y="516"/>
                    </a:lnTo>
                    <a:lnTo>
                      <a:pt x="1683" y="476"/>
                    </a:lnTo>
                    <a:lnTo>
                      <a:pt x="1696" y="454"/>
                    </a:lnTo>
                    <a:lnTo>
                      <a:pt x="1705" y="436"/>
                    </a:lnTo>
                    <a:lnTo>
                      <a:pt x="1722" y="436"/>
                    </a:lnTo>
                    <a:lnTo>
                      <a:pt x="1722" y="428"/>
                    </a:lnTo>
                    <a:lnTo>
                      <a:pt x="1727" y="428"/>
                    </a:lnTo>
                    <a:lnTo>
                      <a:pt x="1753" y="454"/>
                    </a:lnTo>
                    <a:lnTo>
                      <a:pt x="1793" y="476"/>
                    </a:lnTo>
                    <a:lnTo>
                      <a:pt x="1824" y="485"/>
                    </a:lnTo>
                    <a:lnTo>
                      <a:pt x="1864" y="485"/>
                    </a:lnTo>
                    <a:lnTo>
                      <a:pt x="1872" y="485"/>
                    </a:lnTo>
                    <a:lnTo>
                      <a:pt x="1872" y="476"/>
                    </a:lnTo>
                    <a:lnTo>
                      <a:pt x="1872" y="317"/>
                    </a:lnTo>
                    <a:lnTo>
                      <a:pt x="1815" y="247"/>
                    </a:lnTo>
                    <a:lnTo>
                      <a:pt x="1744" y="185"/>
                    </a:lnTo>
                    <a:lnTo>
                      <a:pt x="1665" y="119"/>
                    </a:lnTo>
                    <a:lnTo>
                      <a:pt x="1608" y="39"/>
                    </a:lnTo>
                    <a:lnTo>
                      <a:pt x="1546" y="22"/>
                    </a:lnTo>
                    <a:lnTo>
                      <a:pt x="1497" y="8"/>
                    </a:lnTo>
                    <a:lnTo>
                      <a:pt x="1435" y="0"/>
                    </a:lnTo>
                    <a:lnTo>
                      <a:pt x="1378" y="0"/>
                    </a:lnTo>
                    <a:lnTo>
                      <a:pt x="1360" y="0"/>
                    </a:lnTo>
                    <a:lnTo>
                      <a:pt x="1360" y="8"/>
                    </a:lnTo>
                    <a:lnTo>
                      <a:pt x="1360" y="22"/>
                    </a:lnTo>
                    <a:lnTo>
                      <a:pt x="1356" y="39"/>
                    </a:lnTo>
                    <a:lnTo>
                      <a:pt x="1276" y="61"/>
                    </a:lnTo>
                    <a:lnTo>
                      <a:pt x="1241" y="119"/>
                    </a:lnTo>
                    <a:lnTo>
                      <a:pt x="1219" y="185"/>
                    </a:lnTo>
                    <a:lnTo>
                      <a:pt x="1170" y="247"/>
                    </a:lnTo>
                    <a:lnTo>
                      <a:pt x="1148" y="247"/>
                    </a:lnTo>
                    <a:lnTo>
                      <a:pt x="1131" y="247"/>
                    </a:lnTo>
                    <a:lnTo>
                      <a:pt x="1109" y="247"/>
                    </a:lnTo>
                    <a:lnTo>
                      <a:pt x="1100" y="255"/>
                    </a:lnTo>
                    <a:lnTo>
                      <a:pt x="1060" y="317"/>
                    </a:lnTo>
                    <a:lnTo>
                      <a:pt x="1020" y="383"/>
                    </a:lnTo>
                    <a:lnTo>
                      <a:pt x="989" y="436"/>
                    </a:lnTo>
                    <a:lnTo>
                      <a:pt x="941" y="485"/>
                    </a:lnTo>
                    <a:lnTo>
                      <a:pt x="923" y="485"/>
                    </a:lnTo>
                    <a:lnTo>
                      <a:pt x="923" y="503"/>
                    </a:lnTo>
                    <a:lnTo>
                      <a:pt x="812" y="613"/>
                    </a:lnTo>
                    <a:lnTo>
                      <a:pt x="812" y="622"/>
                    </a:lnTo>
                    <a:lnTo>
                      <a:pt x="860" y="644"/>
                    </a:lnTo>
                    <a:lnTo>
                      <a:pt x="923" y="662"/>
                    </a:lnTo>
                    <a:lnTo>
                      <a:pt x="989" y="675"/>
                    </a:lnTo>
                    <a:lnTo>
                      <a:pt x="1034" y="675"/>
                    </a:lnTo>
                    <a:lnTo>
                      <a:pt x="1042" y="684"/>
                    </a:lnTo>
                    <a:lnTo>
                      <a:pt x="1060" y="684"/>
                    </a:lnTo>
                    <a:lnTo>
                      <a:pt x="1060" y="701"/>
                    </a:lnTo>
                    <a:lnTo>
                      <a:pt x="1069" y="710"/>
                    </a:lnTo>
                    <a:lnTo>
                      <a:pt x="1060" y="723"/>
                    </a:lnTo>
                    <a:lnTo>
                      <a:pt x="1034" y="732"/>
                    </a:lnTo>
                    <a:lnTo>
                      <a:pt x="1020" y="750"/>
                    </a:lnTo>
                    <a:lnTo>
                      <a:pt x="994" y="754"/>
                    </a:lnTo>
                    <a:lnTo>
                      <a:pt x="972" y="794"/>
                    </a:lnTo>
                    <a:lnTo>
                      <a:pt x="950" y="860"/>
                    </a:lnTo>
                    <a:lnTo>
                      <a:pt x="923" y="917"/>
                    </a:lnTo>
                    <a:lnTo>
                      <a:pt x="923" y="979"/>
                    </a:lnTo>
                    <a:lnTo>
                      <a:pt x="941" y="1001"/>
                    </a:lnTo>
                    <a:lnTo>
                      <a:pt x="950" y="1001"/>
                    </a:lnTo>
                    <a:lnTo>
                      <a:pt x="941" y="1019"/>
                    </a:lnTo>
                    <a:lnTo>
                      <a:pt x="923" y="1050"/>
                    </a:lnTo>
                    <a:lnTo>
                      <a:pt x="941" y="1068"/>
                    </a:lnTo>
                    <a:lnTo>
                      <a:pt x="950" y="1076"/>
                    </a:lnTo>
                    <a:lnTo>
                      <a:pt x="1020" y="1028"/>
                    </a:lnTo>
                    <a:lnTo>
                      <a:pt x="1148" y="1019"/>
                    </a:lnTo>
                    <a:lnTo>
                      <a:pt x="1148" y="1001"/>
                    </a:lnTo>
                    <a:lnTo>
                      <a:pt x="1157" y="997"/>
                    </a:lnTo>
                    <a:lnTo>
                      <a:pt x="1170" y="997"/>
                    </a:lnTo>
                    <a:lnTo>
                      <a:pt x="1179" y="979"/>
                    </a:lnTo>
                    <a:lnTo>
                      <a:pt x="1179" y="882"/>
                    </a:lnTo>
                    <a:lnTo>
                      <a:pt x="1276" y="684"/>
                    </a:lnTo>
                    <a:lnTo>
                      <a:pt x="1290" y="684"/>
                    </a:lnTo>
                    <a:lnTo>
                      <a:pt x="1338" y="750"/>
                    </a:lnTo>
                    <a:lnTo>
                      <a:pt x="1378" y="794"/>
                    </a:lnTo>
                    <a:lnTo>
                      <a:pt x="1427" y="860"/>
                    </a:lnTo>
                    <a:lnTo>
                      <a:pt x="1484" y="909"/>
                    </a:lnTo>
                    <a:lnTo>
                      <a:pt x="1515" y="931"/>
                    </a:lnTo>
                    <a:lnTo>
                      <a:pt x="1524" y="957"/>
                    </a:lnTo>
                    <a:lnTo>
                      <a:pt x="1546" y="997"/>
                    </a:lnTo>
                    <a:lnTo>
                      <a:pt x="1563" y="1019"/>
                    </a:lnTo>
                    <a:lnTo>
                      <a:pt x="1563" y="1076"/>
                    </a:lnTo>
                    <a:lnTo>
                      <a:pt x="1563" y="1138"/>
                    </a:lnTo>
                    <a:lnTo>
                      <a:pt x="1586" y="1204"/>
                    </a:lnTo>
                    <a:lnTo>
                      <a:pt x="1608" y="1248"/>
                    </a:lnTo>
                    <a:lnTo>
                      <a:pt x="1616" y="1257"/>
                    </a:lnTo>
                    <a:lnTo>
                      <a:pt x="1634" y="1275"/>
                    </a:lnTo>
                    <a:lnTo>
                      <a:pt x="1643" y="1284"/>
                    </a:lnTo>
                    <a:lnTo>
                      <a:pt x="1656" y="1297"/>
                    </a:lnTo>
                    <a:lnTo>
                      <a:pt x="1656" y="1315"/>
                    </a:lnTo>
                    <a:lnTo>
                      <a:pt x="1643" y="1324"/>
                    </a:lnTo>
                    <a:lnTo>
                      <a:pt x="1643" y="1347"/>
                    </a:lnTo>
                    <a:lnTo>
                      <a:pt x="1634" y="1364"/>
                    </a:lnTo>
                    <a:lnTo>
                      <a:pt x="1586" y="1347"/>
                    </a:lnTo>
                    <a:lnTo>
                      <a:pt x="1537" y="1297"/>
                    </a:lnTo>
                    <a:lnTo>
                      <a:pt x="1484" y="1257"/>
                    </a:lnTo>
                    <a:lnTo>
                      <a:pt x="1427" y="1248"/>
                    </a:lnTo>
                    <a:lnTo>
                      <a:pt x="1387" y="1275"/>
                    </a:lnTo>
                    <a:lnTo>
                      <a:pt x="1360" y="1297"/>
                    </a:lnTo>
                    <a:lnTo>
                      <a:pt x="1321" y="1324"/>
                    </a:lnTo>
                    <a:lnTo>
                      <a:pt x="1307" y="1347"/>
                    </a:lnTo>
                    <a:lnTo>
                      <a:pt x="1316" y="1364"/>
                    </a:lnTo>
                    <a:lnTo>
                      <a:pt x="1321" y="1369"/>
                    </a:lnTo>
                    <a:lnTo>
                      <a:pt x="1321" y="1386"/>
                    </a:lnTo>
                    <a:lnTo>
                      <a:pt x="1338" y="1386"/>
                    </a:lnTo>
                    <a:lnTo>
                      <a:pt x="1378" y="1386"/>
                    </a:lnTo>
                    <a:lnTo>
                      <a:pt x="1400" y="1395"/>
                    </a:lnTo>
                    <a:lnTo>
                      <a:pt x="1409" y="1417"/>
                    </a:lnTo>
                    <a:lnTo>
                      <a:pt x="1427" y="1457"/>
                    </a:lnTo>
                    <a:lnTo>
                      <a:pt x="1409" y="1475"/>
                    </a:lnTo>
                    <a:lnTo>
                      <a:pt x="1400" y="1497"/>
                    </a:lnTo>
                    <a:lnTo>
                      <a:pt x="1148" y="1444"/>
                    </a:lnTo>
                    <a:lnTo>
                      <a:pt x="1148" y="1475"/>
                    </a:lnTo>
                    <a:lnTo>
                      <a:pt x="1148" y="1497"/>
                    </a:lnTo>
                    <a:lnTo>
                      <a:pt x="1148" y="1523"/>
                    </a:lnTo>
                    <a:lnTo>
                      <a:pt x="1131" y="1532"/>
                    </a:lnTo>
                    <a:lnTo>
                      <a:pt x="1109" y="1572"/>
                    </a:lnTo>
                    <a:lnTo>
                      <a:pt x="1100" y="1576"/>
                    </a:lnTo>
                    <a:lnTo>
                      <a:pt x="1069" y="1616"/>
                    </a:lnTo>
                    <a:lnTo>
                      <a:pt x="994" y="1735"/>
                    </a:lnTo>
                    <a:lnTo>
                      <a:pt x="834" y="1814"/>
                    </a:lnTo>
                    <a:lnTo>
                      <a:pt x="830" y="1823"/>
                    </a:lnTo>
                    <a:lnTo>
                      <a:pt x="812" y="1850"/>
                    </a:lnTo>
                    <a:lnTo>
                      <a:pt x="812" y="1872"/>
                    </a:lnTo>
                    <a:lnTo>
                      <a:pt x="812" y="1898"/>
                    </a:lnTo>
                    <a:lnTo>
                      <a:pt x="812" y="1938"/>
                    </a:lnTo>
                    <a:lnTo>
                      <a:pt x="812" y="2000"/>
                    </a:lnTo>
                    <a:lnTo>
                      <a:pt x="812" y="2070"/>
                    </a:lnTo>
                    <a:lnTo>
                      <a:pt x="812" y="2110"/>
                    </a:lnTo>
                    <a:lnTo>
                      <a:pt x="763" y="2110"/>
                    </a:lnTo>
                    <a:lnTo>
                      <a:pt x="724" y="2097"/>
                    </a:lnTo>
                    <a:lnTo>
                      <a:pt x="693" y="2070"/>
                    </a:lnTo>
                    <a:lnTo>
                      <a:pt x="666" y="2048"/>
                    </a:lnTo>
                    <a:lnTo>
                      <a:pt x="666" y="1982"/>
                    </a:lnTo>
                    <a:lnTo>
                      <a:pt x="653" y="1920"/>
                    </a:lnTo>
                    <a:lnTo>
                      <a:pt x="622" y="1872"/>
                    </a:lnTo>
                    <a:lnTo>
                      <a:pt x="573" y="1823"/>
                    </a:lnTo>
                    <a:lnTo>
                      <a:pt x="516" y="1841"/>
                    </a:lnTo>
                    <a:lnTo>
                      <a:pt x="485" y="1841"/>
                    </a:lnTo>
                    <a:lnTo>
                      <a:pt x="445" y="1823"/>
                    </a:lnTo>
                    <a:lnTo>
                      <a:pt x="415" y="1801"/>
                    </a:lnTo>
                    <a:lnTo>
                      <a:pt x="366" y="1775"/>
                    </a:lnTo>
                    <a:lnTo>
                      <a:pt x="317" y="1753"/>
                    </a:lnTo>
                    <a:lnTo>
                      <a:pt x="260" y="1735"/>
                    </a:lnTo>
                    <a:lnTo>
                      <a:pt x="216" y="1731"/>
                    </a:lnTo>
                    <a:lnTo>
                      <a:pt x="167" y="1775"/>
                    </a:lnTo>
                    <a:lnTo>
                      <a:pt x="92" y="1872"/>
                    </a:lnTo>
                    <a:lnTo>
                      <a:pt x="22" y="1978"/>
                    </a:lnTo>
                    <a:lnTo>
                      <a:pt x="0" y="2009"/>
                    </a:lnTo>
                    <a:lnTo>
                      <a:pt x="92" y="2097"/>
                    </a:lnTo>
                    <a:lnTo>
                      <a:pt x="110" y="2278"/>
                    </a:lnTo>
                    <a:lnTo>
                      <a:pt x="128" y="2278"/>
                    </a:lnTo>
                    <a:lnTo>
                      <a:pt x="167" y="2265"/>
                    </a:lnTo>
                    <a:lnTo>
                      <a:pt x="189" y="2256"/>
                    </a:lnTo>
                    <a:lnTo>
                      <a:pt x="216" y="2229"/>
                    </a:lnTo>
                    <a:lnTo>
                      <a:pt x="238" y="2190"/>
                    </a:lnTo>
                    <a:lnTo>
                      <a:pt x="256" y="2167"/>
                    </a:lnTo>
                    <a:lnTo>
                      <a:pt x="278" y="2141"/>
                    </a:lnTo>
                    <a:lnTo>
                      <a:pt x="317" y="2119"/>
                    </a:lnTo>
                    <a:lnTo>
                      <a:pt x="326" y="2119"/>
                    </a:lnTo>
                    <a:lnTo>
                      <a:pt x="326" y="2137"/>
                    </a:lnTo>
                    <a:lnTo>
                      <a:pt x="326" y="2141"/>
                    </a:lnTo>
                    <a:lnTo>
                      <a:pt x="278" y="2375"/>
                    </a:lnTo>
                    <a:lnTo>
                      <a:pt x="348" y="2454"/>
                    </a:lnTo>
                    <a:lnTo>
                      <a:pt x="339" y="2503"/>
                    </a:lnTo>
                    <a:lnTo>
                      <a:pt x="300" y="2534"/>
                    </a:lnTo>
                    <a:lnTo>
                      <a:pt x="260" y="2574"/>
                    </a:lnTo>
                    <a:lnTo>
                      <a:pt x="238" y="2635"/>
                    </a:lnTo>
                    <a:lnTo>
                      <a:pt x="238" y="2684"/>
                    </a:lnTo>
                    <a:lnTo>
                      <a:pt x="278" y="2732"/>
                    </a:lnTo>
                    <a:lnTo>
                      <a:pt x="326" y="2781"/>
                    </a:lnTo>
                    <a:lnTo>
                      <a:pt x="388" y="2829"/>
                    </a:lnTo>
                    <a:lnTo>
                      <a:pt x="445" y="2852"/>
                    </a:lnTo>
                    <a:lnTo>
                      <a:pt x="503" y="2852"/>
                    </a:lnTo>
                    <a:lnTo>
                      <a:pt x="547" y="2843"/>
                    </a:lnTo>
                    <a:lnTo>
                      <a:pt x="582" y="2829"/>
                    </a:lnTo>
                    <a:lnTo>
                      <a:pt x="622" y="2803"/>
                    </a:lnTo>
                    <a:lnTo>
                      <a:pt x="653" y="2803"/>
                    </a:lnTo>
                    <a:lnTo>
                      <a:pt x="675" y="2821"/>
                    </a:lnTo>
                    <a:lnTo>
                      <a:pt x="706" y="2829"/>
                    </a:lnTo>
                    <a:lnTo>
                      <a:pt x="741" y="2843"/>
                    </a:lnTo>
                    <a:lnTo>
                      <a:pt x="812" y="2878"/>
                    </a:lnTo>
                    <a:lnTo>
                      <a:pt x="860" y="2918"/>
                    </a:lnTo>
                    <a:lnTo>
                      <a:pt x="923" y="2957"/>
                    </a:lnTo>
                    <a:lnTo>
                      <a:pt x="972" y="2988"/>
                    </a:lnTo>
                    <a:lnTo>
                      <a:pt x="994" y="3050"/>
                    </a:lnTo>
                    <a:lnTo>
                      <a:pt x="1012" y="3116"/>
                    </a:lnTo>
                    <a:lnTo>
                      <a:pt x="1020" y="3187"/>
                    </a:lnTo>
                    <a:lnTo>
                      <a:pt x="1034" y="3258"/>
                    </a:lnTo>
                    <a:lnTo>
                      <a:pt x="1100" y="3284"/>
                    </a:lnTo>
                    <a:lnTo>
                      <a:pt x="1157" y="3306"/>
                    </a:lnTo>
                    <a:lnTo>
                      <a:pt x="1219" y="3346"/>
                    </a:lnTo>
                    <a:lnTo>
                      <a:pt x="1268" y="3408"/>
                    </a:lnTo>
                    <a:lnTo>
                      <a:pt x="1316" y="3531"/>
                    </a:lnTo>
                    <a:lnTo>
                      <a:pt x="1360" y="3664"/>
                    </a:lnTo>
                    <a:lnTo>
                      <a:pt x="1409" y="3800"/>
                    </a:lnTo>
                    <a:lnTo>
                      <a:pt x="1475" y="3911"/>
                    </a:lnTo>
                    <a:lnTo>
                      <a:pt x="1546" y="3991"/>
                    </a:lnTo>
                    <a:lnTo>
                      <a:pt x="1616" y="4079"/>
                    </a:lnTo>
                    <a:lnTo>
                      <a:pt x="1683" y="4168"/>
                    </a:lnTo>
                    <a:lnTo>
                      <a:pt x="1744" y="4265"/>
                    </a:lnTo>
                    <a:lnTo>
                      <a:pt x="1753" y="4327"/>
                    </a:lnTo>
                    <a:lnTo>
                      <a:pt x="1753" y="4384"/>
                    </a:lnTo>
                    <a:lnTo>
                      <a:pt x="1727" y="4446"/>
                    </a:lnTo>
                    <a:lnTo>
                      <a:pt x="1683" y="4494"/>
                    </a:lnTo>
                    <a:lnTo>
                      <a:pt x="1608" y="4512"/>
                    </a:lnTo>
                    <a:lnTo>
                      <a:pt x="1537" y="4534"/>
                    </a:lnTo>
                    <a:lnTo>
                      <a:pt x="1475" y="4556"/>
                    </a:lnTo>
                    <a:lnTo>
                      <a:pt x="1409" y="4583"/>
                    </a:lnTo>
                    <a:lnTo>
                      <a:pt x="1356" y="4605"/>
                    </a:lnTo>
                    <a:lnTo>
                      <a:pt x="1290" y="4644"/>
                    </a:lnTo>
                    <a:lnTo>
                      <a:pt x="1228" y="4693"/>
                    </a:lnTo>
                    <a:lnTo>
                      <a:pt x="1157" y="4741"/>
                    </a:lnTo>
                    <a:lnTo>
                      <a:pt x="1100" y="4781"/>
                    </a:lnTo>
                    <a:lnTo>
                      <a:pt x="1020" y="4812"/>
                    </a:lnTo>
                    <a:lnTo>
                      <a:pt x="950" y="4830"/>
                    </a:lnTo>
                    <a:lnTo>
                      <a:pt x="874" y="4852"/>
                    </a:lnTo>
                    <a:lnTo>
                      <a:pt x="803" y="4878"/>
                    </a:lnTo>
                    <a:lnTo>
                      <a:pt x="724" y="4900"/>
                    </a:lnTo>
                    <a:lnTo>
                      <a:pt x="666" y="4940"/>
                    </a:lnTo>
                    <a:lnTo>
                      <a:pt x="622" y="4997"/>
                    </a:lnTo>
                    <a:lnTo>
                      <a:pt x="547" y="5059"/>
                    </a:lnTo>
                    <a:lnTo>
                      <a:pt x="467" y="5121"/>
                    </a:lnTo>
                    <a:lnTo>
                      <a:pt x="388" y="5170"/>
                    </a:lnTo>
                    <a:lnTo>
                      <a:pt x="300" y="5209"/>
                    </a:lnTo>
                    <a:lnTo>
                      <a:pt x="388" y="5236"/>
                    </a:lnTo>
                    <a:lnTo>
                      <a:pt x="467" y="5245"/>
                    </a:lnTo>
                    <a:lnTo>
                      <a:pt x="547" y="5267"/>
                    </a:lnTo>
                    <a:lnTo>
                      <a:pt x="626" y="5284"/>
                    </a:lnTo>
                    <a:lnTo>
                      <a:pt x="715" y="5289"/>
                    </a:lnTo>
                    <a:lnTo>
                      <a:pt x="803" y="5289"/>
                    </a:lnTo>
                    <a:lnTo>
                      <a:pt x="883" y="5306"/>
                    </a:lnTo>
                    <a:lnTo>
                      <a:pt x="972" y="5306"/>
                    </a:lnTo>
                    <a:lnTo>
                      <a:pt x="1113" y="5306"/>
                    </a:lnTo>
                    <a:lnTo>
                      <a:pt x="1268" y="5289"/>
                    </a:lnTo>
                    <a:lnTo>
                      <a:pt x="1409" y="5267"/>
                    </a:lnTo>
                    <a:lnTo>
                      <a:pt x="1563" y="5236"/>
                    </a:lnTo>
                    <a:lnTo>
                      <a:pt x="1705" y="5196"/>
                    </a:lnTo>
                    <a:lnTo>
                      <a:pt x="1842" y="5156"/>
                    </a:lnTo>
                    <a:lnTo>
                      <a:pt x="1974" y="5099"/>
                    </a:lnTo>
                    <a:lnTo>
                      <a:pt x="2111" y="5037"/>
                    </a:lnTo>
                    <a:lnTo>
                      <a:pt x="2230" y="4971"/>
                    </a:lnTo>
                    <a:lnTo>
                      <a:pt x="2367" y="4900"/>
                    </a:lnTo>
                    <a:lnTo>
                      <a:pt x="2469" y="4830"/>
                    </a:lnTo>
                    <a:lnTo>
                      <a:pt x="2597" y="4741"/>
                    </a:lnTo>
                    <a:lnTo>
                      <a:pt x="2707" y="4644"/>
                    </a:lnTo>
                    <a:lnTo>
                      <a:pt x="2814" y="4543"/>
                    </a:lnTo>
                    <a:lnTo>
                      <a:pt x="2915" y="4446"/>
                    </a:lnTo>
                    <a:lnTo>
                      <a:pt x="3013" y="4335"/>
                    </a:lnTo>
                    <a:lnTo>
                      <a:pt x="2942" y="4265"/>
                    </a:lnTo>
                    <a:lnTo>
                      <a:pt x="2854" y="4216"/>
                    </a:lnTo>
                    <a:lnTo>
                      <a:pt x="2765" y="4150"/>
                    </a:lnTo>
                    <a:lnTo>
                      <a:pt x="2694" y="4102"/>
                    </a:lnTo>
                    <a:lnTo>
                      <a:pt x="2605" y="4071"/>
                    </a:lnTo>
                    <a:lnTo>
                      <a:pt x="2535" y="4049"/>
                    </a:lnTo>
                    <a:lnTo>
                      <a:pt x="2460" y="3991"/>
                    </a:lnTo>
                    <a:lnTo>
                      <a:pt x="2416" y="3942"/>
                    </a:lnTo>
                    <a:lnTo>
                      <a:pt x="2416" y="3937"/>
                    </a:lnTo>
                    <a:lnTo>
                      <a:pt x="2416" y="3920"/>
                    </a:lnTo>
                    <a:lnTo>
                      <a:pt x="2398" y="3920"/>
                    </a:lnTo>
                    <a:lnTo>
                      <a:pt x="2398" y="3911"/>
                    </a:lnTo>
                    <a:lnTo>
                      <a:pt x="2398" y="3858"/>
                    </a:lnTo>
                    <a:lnTo>
                      <a:pt x="2416" y="3809"/>
                    </a:lnTo>
                    <a:lnTo>
                      <a:pt x="2416" y="3774"/>
                    </a:lnTo>
                    <a:lnTo>
                      <a:pt x="2420" y="3730"/>
                    </a:lnTo>
                    <a:lnTo>
                      <a:pt x="2460" y="3615"/>
                    </a:lnTo>
                    <a:lnTo>
                      <a:pt x="2504" y="3491"/>
                    </a:lnTo>
                    <a:lnTo>
                      <a:pt x="2557" y="3394"/>
                    </a:lnTo>
                    <a:lnTo>
                      <a:pt x="2654" y="3324"/>
                    </a:lnTo>
                    <a:lnTo>
                      <a:pt x="2707" y="3306"/>
                    </a:lnTo>
                    <a:lnTo>
                      <a:pt x="2757" y="3284"/>
                    </a:lnTo>
                    <a:lnTo>
                      <a:pt x="2787" y="3275"/>
                    </a:lnTo>
                    <a:lnTo>
                      <a:pt x="2836" y="3258"/>
                    </a:lnTo>
                    <a:lnTo>
                      <a:pt x="2893" y="3258"/>
                    </a:lnTo>
                    <a:lnTo>
                      <a:pt x="2942" y="3249"/>
                    </a:lnTo>
                    <a:lnTo>
                      <a:pt x="2973" y="3218"/>
                    </a:lnTo>
                    <a:lnTo>
                      <a:pt x="3021" y="3209"/>
                    </a:lnTo>
                    <a:lnTo>
                      <a:pt x="3070" y="3209"/>
                    </a:lnTo>
                    <a:lnTo>
                      <a:pt x="3110" y="3187"/>
                    </a:lnTo>
                    <a:lnTo>
                      <a:pt x="3158" y="3169"/>
                    </a:lnTo>
                    <a:lnTo>
                      <a:pt x="3202" y="3147"/>
                    </a:lnTo>
                    <a:lnTo>
                      <a:pt x="3251" y="3138"/>
                    </a:lnTo>
                    <a:lnTo>
                      <a:pt x="3308" y="3121"/>
                    </a:lnTo>
                    <a:lnTo>
                      <a:pt x="3357" y="3121"/>
                    </a:lnTo>
                    <a:lnTo>
                      <a:pt x="3401" y="3138"/>
                    </a:lnTo>
                    <a:lnTo>
                      <a:pt x="3428" y="3165"/>
                    </a:lnTo>
                    <a:lnTo>
                      <a:pt x="3459" y="3187"/>
                    </a:lnTo>
                    <a:lnTo>
                      <a:pt x="3498" y="3218"/>
                    </a:lnTo>
                    <a:lnTo>
                      <a:pt x="3547" y="3249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1320" y="4498920"/>
                <a:ext cx="100440" cy="116280"/>
              </a:xfrm>
              <a:custGeom>
                <a:avLst/>
                <a:gdLst/>
                <a:ahLst/>
                <a:rect l="0" t="0" r="r" b="b"/>
                <a:pathLst>
                  <a:path w="279" h="323">
                    <a:moveTo>
                      <a:pt x="189" y="292"/>
                    </a:moveTo>
                    <a:lnTo>
                      <a:pt x="261" y="323"/>
                    </a:lnTo>
                    <a:lnTo>
                      <a:pt x="279" y="323"/>
                    </a:lnTo>
                    <a:lnTo>
                      <a:pt x="279" y="301"/>
                    </a:lnTo>
                    <a:lnTo>
                      <a:pt x="261" y="292"/>
                    </a:lnTo>
                    <a:lnTo>
                      <a:pt x="261" y="279"/>
                    </a:lnTo>
                    <a:lnTo>
                      <a:pt x="198" y="252"/>
                    </a:lnTo>
                    <a:lnTo>
                      <a:pt x="166" y="202"/>
                    </a:lnTo>
                    <a:lnTo>
                      <a:pt x="139" y="153"/>
                    </a:lnTo>
                    <a:lnTo>
                      <a:pt x="117" y="90"/>
                    </a:lnTo>
                    <a:lnTo>
                      <a:pt x="40" y="0"/>
                    </a:lnTo>
                    <a:lnTo>
                      <a:pt x="26" y="17"/>
                    </a:lnTo>
                    <a:lnTo>
                      <a:pt x="8" y="40"/>
                    </a:lnTo>
                    <a:lnTo>
                      <a:pt x="0" y="4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40" y="139"/>
                    </a:lnTo>
                    <a:lnTo>
                      <a:pt x="90" y="202"/>
                    </a:lnTo>
                    <a:lnTo>
                      <a:pt x="139" y="252"/>
                    </a:lnTo>
                    <a:lnTo>
                      <a:pt x="189" y="29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Хранилища данных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57400" y="4114800"/>
            <a:ext cx="64008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Технологии и методы хранилищ данных 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Copyright © Yuri Voinov, Arina &amp; COM,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Для кого предназначен и кем используется DW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Разработч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недрен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Руководителями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Что позволяет DW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окрывает информационные нужды и будущие инициативы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Удовлетворяет потребности роста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рименение DW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Фаза выбора страте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2895480"/>
            <a:ext cx="1583280" cy="3467520"/>
            <a:chOff x="1066680" y="2895480"/>
            <a:chExt cx="1583280" cy="3467520"/>
          </a:xfrm>
        </p:grpSpPr>
        <p:sp>
          <p:nvSpPr>
            <p:cNvPr id="356" name=""/>
            <p:cNvSpPr/>
            <p:nvPr/>
          </p:nvSpPr>
          <p:spPr>
            <a:xfrm>
              <a:off x="1066680" y="2895480"/>
              <a:ext cx="1551240" cy="1795680"/>
            </a:xfrm>
            <a:custGeom>
              <a:avLst/>
              <a:gdLst/>
              <a:ahLst/>
              <a:rect l="0" t="0" r="r" b="b"/>
              <a:pathLst>
                <a:path w="4309" h="4988">
                  <a:moveTo>
                    <a:pt x="2525" y="0"/>
                  </a:moveTo>
                  <a:lnTo>
                    <a:pt x="2415" y="0"/>
                  </a:lnTo>
                  <a:lnTo>
                    <a:pt x="2247" y="17"/>
                  </a:lnTo>
                  <a:lnTo>
                    <a:pt x="2052" y="79"/>
                  </a:lnTo>
                  <a:lnTo>
                    <a:pt x="1906" y="180"/>
                  </a:lnTo>
                  <a:lnTo>
                    <a:pt x="1765" y="308"/>
                  </a:lnTo>
                  <a:lnTo>
                    <a:pt x="1637" y="445"/>
                  </a:lnTo>
                  <a:lnTo>
                    <a:pt x="1544" y="587"/>
                  </a:lnTo>
                  <a:lnTo>
                    <a:pt x="1408" y="785"/>
                  </a:lnTo>
                  <a:lnTo>
                    <a:pt x="1288" y="988"/>
                  </a:lnTo>
                  <a:lnTo>
                    <a:pt x="1191" y="1213"/>
                  </a:lnTo>
                  <a:lnTo>
                    <a:pt x="1085" y="1496"/>
                  </a:lnTo>
                  <a:lnTo>
                    <a:pt x="971" y="1805"/>
                  </a:lnTo>
                  <a:lnTo>
                    <a:pt x="926" y="2017"/>
                  </a:lnTo>
                  <a:lnTo>
                    <a:pt x="851" y="2259"/>
                  </a:lnTo>
                  <a:lnTo>
                    <a:pt x="807" y="2484"/>
                  </a:lnTo>
                  <a:lnTo>
                    <a:pt x="772" y="2693"/>
                  </a:lnTo>
                  <a:lnTo>
                    <a:pt x="750" y="2847"/>
                  </a:lnTo>
                  <a:lnTo>
                    <a:pt x="723" y="3002"/>
                  </a:lnTo>
                  <a:lnTo>
                    <a:pt x="688" y="3240"/>
                  </a:lnTo>
                  <a:lnTo>
                    <a:pt x="666" y="3501"/>
                  </a:lnTo>
                  <a:lnTo>
                    <a:pt x="626" y="3814"/>
                  </a:lnTo>
                  <a:lnTo>
                    <a:pt x="0" y="3814"/>
                  </a:lnTo>
                  <a:lnTo>
                    <a:pt x="1544" y="4988"/>
                  </a:lnTo>
                  <a:lnTo>
                    <a:pt x="3289" y="3814"/>
                  </a:lnTo>
                  <a:lnTo>
                    <a:pt x="2587" y="3814"/>
                  </a:lnTo>
                  <a:lnTo>
                    <a:pt x="2609" y="3606"/>
                  </a:lnTo>
                  <a:lnTo>
                    <a:pt x="2640" y="3368"/>
                  </a:lnTo>
                  <a:lnTo>
                    <a:pt x="2676" y="3103"/>
                  </a:lnTo>
                  <a:lnTo>
                    <a:pt x="2715" y="2847"/>
                  </a:lnTo>
                  <a:lnTo>
                    <a:pt x="2759" y="2622"/>
                  </a:lnTo>
                  <a:lnTo>
                    <a:pt x="2799" y="2409"/>
                  </a:lnTo>
                  <a:lnTo>
                    <a:pt x="2887" y="2061"/>
                  </a:lnTo>
                  <a:lnTo>
                    <a:pt x="2971" y="1756"/>
                  </a:lnTo>
                  <a:lnTo>
                    <a:pt x="3033" y="1540"/>
                  </a:lnTo>
                  <a:lnTo>
                    <a:pt x="3095" y="1359"/>
                  </a:lnTo>
                  <a:lnTo>
                    <a:pt x="3170" y="1187"/>
                  </a:lnTo>
                  <a:lnTo>
                    <a:pt x="3232" y="1050"/>
                  </a:lnTo>
                  <a:lnTo>
                    <a:pt x="3302" y="904"/>
                  </a:lnTo>
                  <a:lnTo>
                    <a:pt x="3360" y="785"/>
                  </a:lnTo>
                  <a:lnTo>
                    <a:pt x="3430" y="684"/>
                  </a:lnTo>
                  <a:lnTo>
                    <a:pt x="3497" y="587"/>
                  </a:lnTo>
                  <a:lnTo>
                    <a:pt x="3580" y="472"/>
                  </a:lnTo>
                  <a:lnTo>
                    <a:pt x="3655" y="388"/>
                  </a:lnTo>
                  <a:lnTo>
                    <a:pt x="3739" y="300"/>
                  </a:lnTo>
                  <a:lnTo>
                    <a:pt x="3819" y="225"/>
                  </a:lnTo>
                  <a:lnTo>
                    <a:pt x="3894" y="172"/>
                  </a:lnTo>
                  <a:lnTo>
                    <a:pt x="3982" y="110"/>
                  </a:lnTo>
                  <a:lnTo>
                    <a:pt x="4070" y="70"/>
                  </a:lnTo>
                  <a:lnTo>
                    <a:pt x="4150" y="35"/>
                  </a:lnTo>
                  <a:lnTo>
                    <a:pt x="4212" y="17"/>
                  </a:lnTo>
                  <a:lnTo>
                    <a:pt x="4309" y="0"/>
                  </a:lnTo>
                  <a:lnTo>
                    <a:pt x="252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81240" y="4614840"/>
              <a:ext cx="1368720" cy="1748160"/>
            </a:xfrm>
            <a:custGeom>
              <a:avLst/>
              <a:gdLst/>
              <a:ahLst/>
              <a:rect l="0" t="0" r="r" b="b"/>
              <a:pathLst>
                <a:path w="3802" h="4856">
                  <a:moveTo>
                    <a:pt x="1970" y="0"/>
                  </a:moveTo>
                  <a:lnTo>
                    <a:pt x="940" y="697"/>
                  </a:lnTo>
                  <a:lnTo>
                    <a:pt x="0" y="39"/>
                  </a:lnTo>
                  <a:lnTo>
                    <a:pt x="0" y="331"/>
                  </a:lnTo>
                  <a:lnTo>
                    <a:pt x="8" y="745"/>
                  </a:lnTo>
                  <a:lnTo>
                    <a:pt x="44" y="1107"/>
                  </a:lnTo>
                  <a:lnTo>
                    <a:pt x="83" y="1513"/>
                  </a:lnTo>
                  <a:lnTo>
                    <a:pt x="141" y="1933"/>
                  </a:lnTo>
                  <a:lnTo>
                    <a:pt x="211" y="2334"/>
                  </a:lnTo>
                  <a:lnTo>
                    <a:pt x="269" y="2583"/>
                  </a:lnTo>
                  <a:lnTo>
                    <a:pt x="353" y="2891"/>
                  </a:lnTo>
                  <a:lnTo>
                    <a:pt x="428" y="3165"/>
                  </a:lnTo>
                  <a:lnTo>
                    <a:pt x="512" y="3395"/>
                  </a:lnTo>
                  <a:lnTo>
                    <a:pt x="600" y="3602"/>
                  </a:lnTo>
                  <a:lnTo>
                    <a:pt x="693" y="3840"/>
                  </a:lnTo>
                  <a:lnTo>
                    <a:pt x="790" y="4017"/>
                  </a:lnTo>
                  <a:lnTo>
                    <a:pt x="900" y="4189"/>
                  </a:lnTo>
                  <a:lnTo>
                    <a:pt x="1010" y="4344"/>
                  </a:lnTo>
                  <a:lnTo>
                    <a:pt x="1094" y="4445"/>
                  </a:lnTo>
                  <a:lnTo>
                    <a:pt x="1192" y="4538"/>
                  </a:lnTo>
                  <a:lnTo>
                    <a:pt x="1284" y="4626"/>
                  </a:lnTo>
                  <a:lnTo>
                    <a:pt x="1408" y="4719"/>
                  </a:lnTo>
                  <a:lnTo>
                    <a:pt x="1523" y="4772"/>
                  </a:lnTo>
                  <a:lnTo>
                    <a:pt x="1629" y="4811"/>
                  </a:lnTo>
                  <a:lnTo>
                    <a:pt x="1726" y="4842"/>
                  </a:lnTo>
                  <a:lnTo>
                    <a:pt x="1823" y="4856"/>
                  </a:lnTo>
                  <a:lnTo>
                    <a:pt x="1917" y="4856"/>
                  </a:lnTo>
                  <a:lnTo>
                    <a:pt x="3802" y="4856"/>
                  </a:lnTo>
                  <a:lnTo>
                    <a:pt x="3669" y="4829"/>
                  </a:lnTo>
                  <a:lnTo>
                    <a:pt x="3546" y="4798"/>
                  </a:lnTo>
                  <a:lnTo>
                    <a:pt x="3426" y="4745"/>
                  </a:lnTo>
                  <a:lnTo>
                    <a:pt x="3307" y="4675"/>
                  </a:lnTo>
                  <a:lnTo>
                    <a:pt x="3188" y="4578"/>
                  </a:lnTo>
                  <a:lnTo>
                    <a:pt x="3073" y="4467"/>
                  </a:lnTo>
                  <a:lnTo>
                    <a:pt x="2967" y="4335"/>
                  </a:lnTo>
                  <a:lnTo>
                    <a:pt x="2844" y="4154"/>
                  </a:lnTo>
                  <a:lnTo>
                    <a:pt x="2716" y="3938"/>
                  </a:lnTo>
                  <a:lnTo>
                    <a:pt x="2649" y="3801"/>
                  </a:lnTo>
                  <a:lnTo>
                    <a:pt x="2566" y="3624"/>
                  </a:lnTo>
                  <a:lnTo>
                    <a:pt x="2495" y="3443"/>
                  </a:lnTo>
                  <a:lnTo>
                    <a:pt x="2424" y="3240"/>
                  </a:lnTo>
                  <a:lnTo>
                    <a:pt x="2376" y="3072"/>
                  </a:lnTo>
                  <a:lnTo>
                    <a:pt x="2283" y="2737"/>
                  </a:lnTo>
                  <a:lnTo>
                    <a:pt x="2208" y="2450"/>
                  </a:lnTo>
                  <a:lnTo>
                    <a:pt x="2146" y="2105"/>
                  </a:lnTo>
                  <a:lnTo>
                    <a:pt x="2071" y="1699"/>
                  </a:lnTo>
                  <a:lnTo>
                    <a:pt x="2014" y="1297"/>
                  </a:lnTo>
                  <a:lnTo>
                    <a:pt x="1992" y="993"/>
                  </a:lnTo>
                  <a:lnTo>
                    <a:pt x="1970" y="631"/>
                  </a:lnTo>
                  <a:lnTo>
                    <a:pt x="1956" y="233"/>
                  </a:lnTo>
                  <a:lnTo>
                    <a:pt x="197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484360" y="2895480"/>
            <a:ext cx="1359360" cy="3467520"/>
          </a:xfrm>
          <a:custGeom>
            <a:avLst/>
            <a:gdLst/>
            <a:ahLst/>
            <a:rect l="0" t="0" r="r" b="b"/>
            <a:pathLst>
              <a:path w="3776" h="9632">
                <a:moveTo>
                  <a:pt x="1868" y="0"/>
                </a:moveTo>
                <a:lnTo>
                  <a:pt x="123" y="0"/>
                </a:lnTo>
                <a:lnTo>
                  <a:pt x="384" y="105"/>
                </a:lnTo>
                <a:lnTo>
                  <a:pt x="604" y="269"/>
                </a:lnTo>
                <a:lnTo>
                  <a:pt x="807" y="494"/>
                </a:lnTo>
                <a:lnTo>
                  <a:pt x="994" y="745"/>
                </a:lnTo>
                <a:lnTo>
                  <a:pt x="1179" y="1107"/>
                </a:lnTo>
                <a:lnTo>
                  <a:pt x="1338" y="1495"/>
                </a:lnTo>
                <a:lnTo>
                  <a:pt x="1479" y="1932"/>
                </a:lnTo>
                <a:lnTo>
                  <a:pt x="1608" y="2484"/>
                </a:lnTo>
                <a:lnTo>
                  <a:pt x="1691" y="2943"/>
                </a:lnTo>
                <a:lnTo>
                  <a:pt x="1762" y="3433"/>
                </a:lnTo>
                <a:lnTo>
                  <a:pt x="1802" y="3923"/>
                </a:lnTo>
                <a:lnTo>
                  <a:pt x="1837" y="4527"/>
                </a:lnTo>
                <a:lnTo>
                  <a:pt x="1837" y="5303"/>
                </a:lnTo>
                <a:lnTo>
                  <a:pt x="1771" y="5970"/>
                </a:lnTo>
                <a:lnTo>
                  <a:pt x="1700" y="6548"/>
                </a:lnTo>
                <a:lnTo>
                  <a:pt x="1594" y="7178"/>
                </a:lnTo>
                <a:lnTo>
                  <a:pt x="1479" y="7682"/>
                </a:lnTo>
                <a:lnTo>
                  <a:pt x="1351" y="8071"/>
                </a:lnTo>
                <a:lnTo>
                  <a:pt x="1210" y="8410"/>
                </a:lnTo>
                <a:lnTo>
                  <a:pt x="1100" y="8649"/>
                </a:lnTo>
                <a:lnTo>
                  <a:pt x="994" y="8860"/>
                </a:lnTo>
                <a:lnTo>
                  <a:pt x="829" y="9063"/>
                </a:lnTo>
                <a:lnTo>
                  <a:pt x="715" y="9231"/>
                </a:lnTo>
                <a:lnTo>
                  <a:pt x="551" y="9390"/>
                </a:lnTo>
                <a:lnTo>
                  <a:pt x="467" y="9460"/>
                </a:lnTo>
                <a:lnTo>
                  <a:pt x="348" y="9535"/>
                </a:lnTo>
                <a:lnTo>
                  <a:pt x="211" y="9588"/>
                </a:lnTo>
                <a:lnTo>
                  <a:pt x="0" y="9632"/>
                </a:lnTo>
                <a:lnTo>
                  <a:pt x="2000" y="9632"/>
                </a:lnTo>
                <a:lnTo>
                  <a:pt x="2195" y="9593"/>
                </a:lnTo>
                <a:lnTo>
                  <a:pt x="2385" y="9487"/>
                </a:lnTo>
                <a:lnTo>
                  <a:pt x="2543" y="9368"/>
                </a:lnTo>
                <a:lnTo>
                  <a:pt x="2672" y="9231"/>
                </a:lnTo>
                <a:lnTo>
                  <a:pt x="2777" y="9107"/>
                </a:lnTo>
                <a:lnTo>
                  <a:pt x="2880" y="8949"/>
                </a:lnTo>
                <a:lnTo>
                  <a:pt x="2982" y="8776"/>
                </a:lnTo>
                <a:lnTo>
                  <a:pt x="3105" y="8547"/>
                </a:lnTo>
                <a:lnTo>
                  <a:pt x="3216" y="8300"/>
                </a:lnTo>
                <a:lnTo>
                  <a:pt x="3321" y="8022"/>
                </a:lnTo>
                <a:lnTo>
                  <a:pt x="3423" y="7709"/>
                </a:lnTo>
                <a:lnTo>
                  <a:pt x="3520" y="7343"/>
                </a:lnTo>
                <a:lnTo>
                  <a:pt x="3604" y="6905"/>
                </a:lnTo>
                <a:lnTo>
                  <a:pt x="3679" y="6411"/>
                </a:lnTo>
                <a:lnTo>
                  <a:pt x="3741" y="5798"/>
                </a:lnTo>
                <a:lnTo>
                  <a:pt x="3776" y="5220"/>
                </a:lnTo>
                <a:lnTo>
                  <a:pt x="3776" y="4474"/>
                </a:lnTo>
                <a:lnTo>
                  <a:pt x="3741" y="3870"/>
                </a:lnTo>
                <a:lnTo>
                  <a:pt x="3706" y="3486"/>
                </a:lnTo>
                <a:lnTo>
                  <a:pt x="3661" y="3146"/>
                </a:lnTo>
                <a:lnTo>
                  <a:pt x="3622" y="2842"/>
                </a:lnTo>
                <a:lnTo>
                  <a:pt x="3564" y="2590"/>
                </a:lnTo>
                <a:lnTo>
                  <a:pt x="3516" y="2285"/>
                </a:lnTo>
                <a:lnTo>
                  <a:pt x="3423" y="1932"/>
                </a:lnTo>
                <a:lnTo>
                  <a:pt x="3344" y="1672"/>
                </a:lnTo>
                <a:lnTo>
                  <a:pt x="3246" y="1402"/>
                </a:lnTo>
                <a:lnTo>
                  <a:pt x="3185" y="1261"/>
                </a:lnTo>
                <a:lnTo>
                  <a:pt x="3114" y="1089"/>
                </a:lnTo>
                <a:lnTo>
                  <a:pt x="3035" y="917"/>
                </a:lnTo>
                <a:lnTo>
                  <a:pt x="2920" y="714"/>
                </a:lnTo>
                <a:lnTo>
                  <a:pt x="2836" y="595"/>
                </a:lnTo>
                <a:lnTo>
                  <a:pt x="2760" y="494"/>
                </a:lnTo>
                <a:lnTo>
                  <a:pt x="2676" y="383"/>
                </a:lnTo>
                <a:lnTo>
                  <a:pt x="2574" y="273"/>
                </a:lnTo>
                <a:lnTo>
                  <a:pt x="2482" y="189"/>
                </a:lnTo>
                <a:lnTo>
                  <a:pt x="2354" y="105"/>
                </a:lnTo>
                <a:lnTo>
                  <a:pt x="2217" y="39"/>
                </a:lnTo>
                <a:lnTo>
                  <a:pt x="2111" y="13"/>
                </a:lnTo>
                <a:lnTo>
                  <a:pt x="1996" y="0"/>
                </a:lnTo>
                <a:lnTo>
                  <a:pt x="1868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08440" y="1990800"/>
            <a:ext cx="5549760" cy="609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908440" y="1990800"/>
            <a:ext cx="5549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Стра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259092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0" y="422"/>
                </a:moveTo>
                <a:lnTo>
                  <a:pt x="0" y="846"/>
                </a:lnTo>
                <a:lnTo>
                  <a:pt x="890" y="846"/>
                </a:lnTo>
                <a:lnTo>
                  <a:pt x="890" y="1271"/>
                </a:lnTo>
                <a:lnTo>
                  <a:pt x="1271" y="635"/>
                </a:lnTo>
                <a:lnTo>
                  <a:pt x="890" y="0"/>
                </a:lnTo>
                <a:lnTo>
                  <a:pt x="890" y="422"/>
                </a:lnTo>
                <a:lnTo>
                  <a:pt x="0" y="422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259092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0" y="422"/>
                </a:moveTo>
                <a:lnTo>
                  <a:pt x="0" y="846"/>
                </a:lnTo>
                <a:lnTo>
                  <a:pt x="890" y="846"/>
                </a:lnTo>
                <a:lnTo>
                  <a:pt x="890" y="1271"/>
                </a:lnTo>
                <a:lnTo>
                  <a:pt x="1271" y="635"/>
                </a:lnTo>
                <a:lnTo>
                  <a:pt x="890" y="0"/>
                </a:lnTo>
                <a:lnTo>
                  <a:pt x="890" y="422"/>
                </a:lnTo>
                <a:lnTo>
                  <a:pt x="0" y="422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10280" y="259092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0" y="422"/>
                </a:moveTo>
                <a:lnTo>
                  <a:pt x="0" y="846"/>
                </a:lnTo>
                <a:lnTo>
                  <a:pt x="890" y="846"/>
                </a:lnTo>
                <a:lnTo>
                  <a:pt x="890" y="1271"/>
                </a:lnTo>
                <a:lnTo>
                  <a:pt x="1271" y="635"/>
                </a:lnTo>
                <a:lnTo>
                  <a:pt x="890" y="0"/>
                </a:lnTo>
                <a:lnTo>
                  <a:pt x="890" y="422"/>
                </a:lnTo>
                <a:lnTo>
                  <a:pt x="0" y="422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3048120"/>
            <a:ext cx="1523880" cy="2060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952880" y="3048120"/>
            <a:ext cx="152388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Предпроект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обслед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048120"/>
            <a:ext cx="1447920" cy="2060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705720" y="3048120"/>
            <a:ext cx="144792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Опре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Архите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32120" y="302256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832120" y="302256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32120" y="357984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32120" y="357984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32120" y="412416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32120" y="412416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32120" y="462276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32120" y="462276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32120" y="511956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32120" y="511956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32120" y="5692680"/>
            <a:ext cx="196056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832120" y="5692680"/>
            <a:ext cx="196056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65680" y="6194520"/>
            <a:ext cx="10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ba00"/>
                </a:solidFill>
                <a:latin typeface="Arial CYR"/>
                <a:ea typeface="Arial CYR"/>
              </a:rPr>
              <a:t>Ста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Инкрементальная разраб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20800" y="1700280"/>
            <a:ext cx="6699240" cy="4654440"/>
            <a:chOff x="820800" y="1700280"/>
            <a:chExt cx="6699240" cy="4654440"/>
          </a:xfrm>
        </p:grpSpPr>
        <p:grpSp>
          <p:nvGrpSpPr>
            <p:cNvPr id="383" name=""/>
            <p:cNvGrpSpPr/>
            <p:nvPr/>
          </p:nvGrpSpPr>
          <p:grpSpPr>
            <a:xfrm>
              <a:off x="820800" y="1700280"/>
              <a:ext cx="6699240" cy="4654440"/>
              <a:chOff x="820800" y="1700280"/>
              <a:chExt cx="6699240" cy="4654440"/>
            </a:xfrm>
          </p:grpSpPr>
          <p:sp>
            <p:nvSpPr>
              <p:cNvPr id="384" name=""/>
              <p:cNvSpPr/>
              <p:nvPr/>
            </p:nvSpPr>
            <p:spPr>
              <a:xfrm>
                <a:off x="3325680" y="1700280"/>
                <a:ext cx="1687680" cy="738360"/>
              </a:xfrm>
              <a:prstGeom prst="rect">
                <a:avLst/>
              </a:prstGeom>
              <a:solidFill>
                <a:srgbClr val="729fcf"/>
              </a:solidFill>
              <a:ln w="0">
                <a:solidFill>
                  <a:srgbClr val="3465a4"/>
                </a:solidFill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3325680" y="1700280"/>
                <a:ext cx="1687680" cy="73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Предпроект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об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95480" y="2592360"/>
                <a:ext cx="2548080" cy="727200"/>
              </a:xfrm>
              <a:prstGeom prst="rect">
                <a:avLst/>
              </a:prstGeom>
              <a:solidFill>
                <a:srgbClr val="729fcf"/>
              </a:solidFill>
              <a:ln w="0">
                <a:solidFill>
                  <a:srgbClr val="3465a4"/>
                </a:solidFill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2895480" y="2592360"/>
                <a:ext cx="2548080" cy="72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Техническа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архитекту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820800" y="3863880"/>
                <a:ext cx="6699240" cy="2490840"/>
                <a:chOff x="820800" y="3863880"/>
                <a:chExt cx="6699240" cy="24908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060640" y="3867120"/>
                  <a:ext cx="2038320" cy="80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001e5"/>
                    </a:gs>
                    <a:gs pos="50000">
                      <a:srgbClr val="99ffcc"/>
                    </a:gs>
                    <a:gs pos="100000">
                      <a:srgbClr val="f001e5"/>
                    </a:gs>
                  </a:gsLst>
                  <a:lin ang="2700000"/>
                </a:gra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268880" y="3863880"/>
                  <a:ext cx="1979640" cy="80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001e5"/>
                    </a:gs>
                    <a:gs pos="50000">
                      <a:srgbClr val="99ffcc"/>
                    </a:gs>
                    <a:gs pos="100000">
                      <a:srgbClr val="f001e5"/>
                    </a:gs>
                  </a:gsLst>
                  <a:lin ang="2700000"/>
                </a:gra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278160" y="4233960"/>
                  <a:ext cx="1936800" cy="581040"/>
                </a:xfrm>
                <a:prstGeom prst="rect">
                  <a:avLst/>
                </a:prstGeom>
                <a:solidFill>
                  <a:srgbClr val="729fcf"/>
                </a:solidFill>
                <a:ln w="0">
                  <a:solidFill>
                    <a:srgbClr val="3465a4"/>
                  </a:solidFill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 txBox="1"/>
                <p:nvPr/>
              </p:nvSpPr>
              <p:spPr>
                <a:xfrm>
                  <a:off x="3278160" y="4233960"/>
                  <a:ext cx="193680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CYR"/>
                      <a:ea typeface="Arial CYR"/>
                    </a:rPr>
                    <a:t>Тестиров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 CYR"/>
                      <a:ea typeface="Arial CYR"/>
                    </a:rPr>
                    <a:t>концепци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820800" y="4532400"/>
                  <a:ext cx="2766960" cy="1728720"/>
                  <a:chOff x="820800" y="4532400"/>
                  <a:chExt cx="2766960" cy="17287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1719360" y="453240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 txBox="1"/>
                  <p:nvPr/>
                </p:nvSpPr>
                <p:spPr>
                  <a:xfrm>
                    <a:off x="1719360" y="453240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332000" y="508644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>
                    <a:off x="1332000" y="508644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20800" y="560556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 txBox="1"/>
                  <p:nvPr/>
                </p:nvSpPr>
                <p:spPr>
                  <a:xfrm>
                    <a:off x="820800" y="560556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4807080" y="4564080"/>
                  <a:ext cx="2712960" cy="1790640"/>
                  <a:chOff x="4807080" y="4564080"/>
                  <a:chExt cx="2712960" cy="17906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807080" y="456408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 txBox="1"/>
                  <p:nvPr/>
                </p:nvSpPr>
                <p:spPr>
                  <a:xfrm>
                    <a:off x="4807080" y="456408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5245200" y="514368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 txBox="1"/>
                  <p:nvPr/>
                </p:nvSpPr>
                <p:spPr>
                  <a:xfrm>
                    <a:off x="5245200" y="514332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651640" y="5699160"/>
                    <a:ext cx="1868400" cy="655560"/>
                  </a:xfrm>
                  <a:prstGeom prst="rect">
                    <a:avLst/>
                  </a:prstGeom>
                  <a:solidFill>
                    <a:srgbClr val="729fcf"/>
                  </a:solidFill>
                  <a:ln w="0">
                    <a:solidFill>
                      <a:srgbClr val="3465a4"/>
                    </a:solidFill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>
                    <a:off x="5651640" y="5699160"/>
                    <a:ext cx="186840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CYR"/>
                        <a:ea typeface="Arial CYR"/>
                      </a:rPr>
                      <a:t>Инкремент Z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 txBox="1"/>
                <p:nvPr/>
              </p:nvSpPr>
              <p:spPr>
                <a:xfrm>
                  <a:off x="2338560" y="3897360"/>
                  <a:ext cx="16048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CYR"/>
                      <a:ea typeface="Arial CYR"/>
                    </a:rPr>
                    <a:t>Инкремент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 txBox="1"/>
                <p:nvPr/>
              </p:nvSpPr>
              <p:spPr>
                <a:xfrm>
                  <a:off x="4572000" y="3886200"/>
                  <a:ext cx="16430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CYR"/>
                      <a:ea typeface="Arial CYR"/>
                    </a:rPr>
                    <a:t>Инкремент 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637080" y="3343320"/>
              <a:ext cx="1065240" cy="465120"/>
              <a:chOff x="3637080" y="3343320"/>
              <a:chExt cx="1065240" cy="46512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3637080" y="3343320"/>
                <a:ext cx="102960" cy="465120"/>
              </a:xfrm>
              <a:prstGeom prst="line">
                <a:avLst/>
              </a:prstGeom>
              <a:ln w="25560">
                <a:solidFill>
                  <a:srgbClr val="33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67320" y="3367080"/>
                <a:ext cx="135000" cy="417600"/>
              </a:xfrm>
              <a:prstGeom prst="line">
                <a:avLst/>
              </a:prstGeom>
              <a:ln w="25560">
                <a:solidFill>
                  <a:srgbClr val="33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 txBox="1"/>
          <p:nvPr/>
        </p:nvSpPr>
        <p:spPr>
          <a:xfrm>
            <a:off x="155520" y="1928880"/>
            <a:ext cx="2205000" cy="3096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Бизнес-стра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43320" y="2085840"/>
            <a:ext cx="833400" cy="1116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43000" y="2806560"/>
            <a:ext cx="2205000" cy="309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IT -стра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06680" y="2957400"/>
            <a:ext cx="403200" cy="1440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548480" y="1706400"/>
            <a:ext cx="1509840" cy="4714920"/>
            <a:chOff x="7548480" y="1706400"/>
            <a:chExt cx="1509840" cy="4714920"/>
          </a:xfrm>
        </p:grpSpPr>
        <p:sp>
          <p:nvSpPr>
            <p:cNvPr id="417" name=""/>
            <p:cNvSpPr/>
            <p:nvPr/>
          </p:nvSpPr>
          <p:spPr>
            <a:xfrm>
              <a:off x="8236080" y="1706400"/>
              <a:ext cx="822240" cy="47149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8236080" y="1706400"/>
              <a:ext cx="822240" cy="471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7548480" y="2216160"/>
              <a:ext cx="690480" cy="3695760"/>
              <a:chOff x="7548480" y="2216160"/>
              <a:chExt cx="690480" cy="369576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7548480" y="221616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548480" y="283212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548480" y="344808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548480" y="406404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548480" y="468000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548480" y="529596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548480" y="5911920"/>
                <a:ext cx="690480" cy="0"/>
              </a:xfrm>
              <a:prstGeom prst="line">
                <a:avLst/>
              </a:prstGeom>
              <a:ln w="12708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3360" rIns="153360" tIns="-108360" bIns="-10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Инициатива “Технологии хранилищ данных“ (WTI) партнеров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очетание баз данных Oracle и специализированных инструментов от избранных поставщиков решений либо инструментария 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 настоящий момент предлагается широкий спектр инструментов для дизайна,построения, анализа и управления хранилищам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родукты членов W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оделин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LogicWorks, ERwin/ERX, Prism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E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Carleton PASSPORT, Praxis Omni Series,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Prism Warehouse Manager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Доступ к дан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Brio Query, Business Objects, Cognos PowerPlay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рограмма “Test-to-Sca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23840" y="2016000"/>
            <a:ext cx="6377040" cy="3017880"/>
            <a:chOff x="1023840" y="2016000"/>
            <a:chExt cx="6377040" cy="3017880"/>
          </a:xfrm>
        </p:grpSpPr>
        <p:sp>
          <p:nvSpPr>
            <p:cNvPr id="433" name=""/>
            <p:cNvSpPr/>
            <p:nvPr/>
          </p:nvSpPr>
          <p:spPr>
            <a:xfrm>
              <a:off x="4311720" y="315900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cc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83000" y="3214800"/>
              <a:ext cx="130320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383000" y="3214800"/>
              <a:ext cx="1303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P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4760" y="3159000"/>
              <a:ext cx="144468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ffcc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24600" y="3214800"/>
              <a:ext cx="130176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024600" y="3214800"/>
              <a:ext cx="13017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Uni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3840" y="428292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ffcc99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95480" y="4338720"/>
              <a:ext cx="1303200" cy="6382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1095480" y="4338720"/>
              <a:ext cx="130320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D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9840" y="3159000"/>
              <a:ext cx="144468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ffcc99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49680" y="3214800"/>
              <a:ext cx="130176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2749680" y="3214800"/>
              <a:ext cx="13017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N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Clar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9840" y="2025720"/>
              <a:ext cx="144468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ffcc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9680" y="2081160"/>
              <a:ext cx="130176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749680" y="2081160"/>
              <a:ext cx="13017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E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44720" y="2016000"/>
              <a:ext cx="1446120" cy="75240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14560" y="2071800"/>
              <a:ext cx="1303200" cy="6382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1114560" y="2071800"/>
              <a:ext cx="130320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11720" y="202572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83000" y="2081160"/>
              <a:ext cx="130320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383000" y="2081160"/>
              <a:ext cx="1303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11720" y="4280040"/>
              <a:ext cx="1446120" cy="75240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83000" y="4335480"/>
              <a:ext cx="130320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4383000" y="4335480"/>
              <a:ext cx="1303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C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79840" y="4282920"/>
              <a:ext cx="144468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99ffcc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49680" y="4338720"/>
              <a:ext cx="1301760" cy="6382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2749680" y="4338720"/>
              <a:ext cx="130176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N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23840" y="315900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cc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95480" y="3214800"/>
              <a:ext cx="130320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095480" y="3214800"/>
              <a:ext cx="1303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Amda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4760" y="202572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ffcc99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24600" y="2081160"/>
              <a:ext cx="1303200" cy="6397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6024600" y="2081160"/>
              <a:ext cx="1303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IB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54760" y="4282920"/>
              <a:ext cx="1446120" cy="750960"/>
            </a:xfrm>
            <a:prstGeom prst="rect">
              <a:avLst/>
            </a:prstGeom>
            <a:gradFill rotWithShape="0">
              <a:gsLst>
                <a:gs pos="0">
                  <a:srgbClr val="f001e5"/>
                </a:gs>
                <a:gs pos="50000">
                  <a:srgbClr val="ccccff"/>
                </a:gs>
                <a:gs pos="100000">
                  <a:srgbClr val="f001e5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24600" y="4338720"/>
              <a:ext cx="1303200" cy="6382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024600" y="4338720"/>
              <a:ext cx="130320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Sequ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 txBox="1"/>
          <p:nvPr/>
        </p:nvSpPr>
        <p:spPr>
          <a:xfrm>
            <a:off x="304920" y="5257800"/>
            <a:ext cx="8458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5000"/>
              </a:lnSpc>
              <a:spcBef>
                <a:spcPts val="839"/>
              </a:spcBef>
              <a:buClr>
                <a:srgbClr val="8cf4ea"/>
              </a:buClr>
              <a:buSzPct val="45000"/>
              <a:buFont typeface="CP1251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 CYR"/>
                <a:ea typeface="Arial CYR"/>
              </a:rPr>
              <a:t>Лабораторная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CYR"/>
                <a:ea typeface="Arial CYR"/>
              </a:rPr>
              <a:t>сертификация базы данных Oracle обьемом 1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39"/>
              </a:spcBef>
              <a:buClr>
                <a:srgbClr val="8cf4ea"/>
              </a:buClr>
              <a:buSzPct val="45000"/>
              <a:buFont typeface="CP1251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 CYR"/>
                <a:ea typeface="Arial CYR"/>
              </a:rPr>
              <a:t>Применение Windows NT для построения киосков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39"/>
              </a:spcBef>
              <a:buClr>
                <a:srgbClr val="8cf4ea"/>
              </a:buClr>
              <a:buSzPct val="45000"/>
              <a:buFont typeface="CP1251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 CYR"/>
                <a:ea typeface="Arial CYR"/>
              </a:rPr>
              <a:t>Базовая спецификация Test-to-Scale для СУБД обьемом 100 Г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ектирование хранилищ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етод Oracle (Oracle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етод хранилищ данных Oracle (DW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именение DW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Инициатива “Технологии хранилищ данных“ (W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грамма “Test-to-S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роектирование хранилищ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Нетехнически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ыбор метод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авильная реализация метод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Технически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Нетехнические а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ект хранилища данных задача трудо- и ресурсоем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ект хранилища данных - крупная инвест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оддержка рук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ектная команда должна тесно сотрудничать с руководством для дост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озможно более быстрого возврата инвестиций в проект (Return Of Investments - R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 целях обеспечения оптимального исползования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 целях оперативного управления изме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932520" y="4724280"/>
            <a:ext cx="2135520" cy="1907280"/>
            <a:chOff x="6932520" y="4724280"/>
            <a:chExt cx="2135520" cy="1907280"/>
          </a:xfrm>
        </p:grpSpPr>
        <p:sp>
          <p:nvSpPr>
            <p:cNvPr id="130" name=""/>
            <p:cNvSpPr/>
            <p:nvPr/>
          </p:nvSpPr>
          <p:spPr>
            <a:xfrm>
              <a:off x="6932520" y="5425920"/>
              <a:ext cx="513000" cy="198720"/>
            </a:xfrm>
            <a:custGeom>
              <a:avLst/>
              <a:gdLst/>
              <a:ahLst/>
              <a:rect l="0" t="0" r="r" b="b"/>
              <a:pathLst>
                <a:path w="1425" h="552">
                  <a:moveTo>
                    <a:pt x="0" y="552"/>
                  </a:moveTo>
                  <a:lnTo>
                    <a:pt x="172" y="244"/>
                  </a:lnTo>
                  <a:lnTo>
                    <a:pt x="1274" y="0"/>
                  </a:lnTo>
                  <a:lnTo>
                    <a:pt x="1425" y="22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2240" y="5283360"/>
              <a:ext cx="1538640" cy="1109880"/>
            </a:xfrm>
            <a:custGeom>
              <a:avLst/>
              <a:gdLst/>
              <a:ahLst/>
              <a:rect l="0" t="0" r="r" b="b"/>
              <a:pathLst>
                <a:path w="4274" h="3083">
                  <a:moveTo>
                    <a:pt x="4274" y="2195"/>
                  </a:moveTo>
                  <a:lnTo>
                    <a:pt x="4274" y="0"/>
                  </a:lnTo>
                  <a:lnTo>
                    <a:pt x="0" y="883"/>
                  </a:lnTo>
                  <a:lnTo>
                    <a:pt x="0" y="3083"/>
                  </a:lnTo>
                  <a:lnTo>
                    <a:pt x="4274" y="2195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18240" y="4933800"/>
              <a:ext cx="473400" cy="1165680"/>
            </a:xfrm>
            <a:custGeom>
              <a:avLst/>
              <a:gdLst/>
              <a:ahLst/>
              <a:rect l="0" t="0" r="r" b="b"/>
              <a:pathLst>
                <a:path w="1315" h="3238">
                  <a:moveTo>
                    <a:pt x="1315" y="1493"/>
                  </a:moveTo>
                  <a:lnTo>
                    <a:pt x="1080" y="1528"/>
                  </a:lnTo>
                  <a:lnTo>
                    <a:pt x="1080" y="1520"/>
                  </a:lnTo>
                  <a:lnTo>
                    <a:pt x="1080" y="1515"/>
                  </a:lnTo>
                  <a:lnTo>
                    <a:pt x="1080" y="1497"/>
                  </a:lnTo>
                  <a:lnTo>
                    <a:pt x="1071" y="1484"/>
                  </a:lnTo>
                  <a:lnTo>
                    <a:pt x="1071" y="1471"/>
                  </a:lnTo>
                  <a:lnTo>
                    <a:pt x="1062" y="1467"/>
                  </a:lnTo>
                  <a:lnTo>
                    <a:pt x="1045" y="1458"/>
                  </a:lnTo>
                  <a:lnTo>
                    <a:pt x="1027" y="1449"/>
                  </a:lnTo>
                  <a:lnTo>
                    <a:pt x="1000" y="1312"/>
                  </a:lnTo>
                  <a:lnTo>
                    <a:pt x="1009" y="1285"/>
                  </a:lnTo>
                  <a:lnTo>
                    <a:pt x="1027" y="1241"/>
                  </a:lnTo>
                  <a:lnTo>
                    <a:pt x="1045" y="1188"/>
                  </a:lnTo>
                  <a:lnTo>
                    <a:pt x="1071" y="1131"/>
                  </a:lnTo>
                  <a:lnTo>
                    <a:pt x="1089" y="1078"/>
                  </a:lnTo>
                  <a:lnTo>
                    <a:pt x="1098" y="1029"/>
                  </a:lnTo>
                  <a:lnTo>
                    <a:pt x="1115" y="985"/>
                  </a:lnTo>
                  <a:lnTo>
                    <a:pt x="1115" y="972"/>
                  </a:lnTo>
                  <a:lnTo>
                    <a:pt x="1115" y="945"/>
                  </a:lnTo>
                  <a:lnTo>
                    <a:pt x="1107" y="892"/>
                  </a:lnTo>
                  <a:lnTo>
                    <a:pt x="1098" y="813"/>
                  </a:lnTo>
                  <a:lnTo>
                    <a:pt x="1080" y="733"/>
                  </a:lnTo>
                  <a:lnTo>
                    <a:pt x="1062" y="649"/>
                  </a:lnTo>
                  <a:lnTo>
                    <a:pt x="1036" y="578"/>
                  </a:lnTo>
                  <a:lnTo>
                    <a:pt x="1009" y="525"/>
                  </a:lnTo>
                  <a:lnTo>
                    <a:pt x="974" y="503"/>
                  </a:lnTo>
                  <a:lnTo>
                    <a:pt x="903" y="481"/>
                  </a:lnTo>
                  <a:lnTo>
                    <a:pt x="846" y="468"/>
                  </a:lnTo>
                  <a:lnTo>
                    <a:pt x="819" y="454"/>
                  </a:lnTo>
                  <a:lnTo>
                    <a:pt x="801" y="441"/>
                  </a:lnTo>
                  <a:lnTo>
                    <a:pt x="801" y="432"/>
                  </a:lnTo>
                  <a:lnTo>
                    <a:pt x="801" y="428"/>
                  </a:lnTo>
                  <a:lnTo>
                    <a:pt x="810" y="428"/>
                  </a:lnTo>
                  <a:lnTo>
                    <a:pt x="877" y="335"/>
                  </a:lnTo>
                  <a:lnTo>
                    <a:pt x="863" y="335"/>
                  </a:lnTo>
                  <a:lnTo>
                    <a:pt x="854" y="335"/>
                  </a:lnTo>
                  <a:lnTo>
                    <a:pt x="837" y="335"/>
                  </a:lnTo>
                  <a:lnTo>
                    <a:pt x="828" y="331"/>
                  </a:lnTo>
                  <a:lnTo>
                    <a:pt x="810" y="322"/>
                  </a:lnTo>
                  <a:lnTo>
                    <a:pt x="792" y="300"/>
                  </a:lnTo>
                  <a:lnTo>
                    <a:pt x="784" y="273"/>
                  </a:lnTo>
                  <a:lnTo>
                    <a:pt x="775" y="238"/>
                  </a:lnTo>
                  <a:lnTo>
                    <a:pt x="792" y="203"/>
                  </a:lnTo>
                  <a:lnTo>
                    <a:pt x="801" y="172"/>
                  </a:lnTo>
                  <a:lnTo>
                    <a:pt x="819" y="128"/>
                  </a:lnTo>
                  <a:lnTo>
                    <a:pt x="819" y="92"/>
                  </a:lnTo>
                  <a:lnTo>
                    <a:pt x="801" y="61"/>
                  </a:lnTo>
                  <a:lnTo>
                    <a:pt x="757" y="26"/>
                  </a:lnTo>
                  <a:lnTo>
                    <a:pt x="669" y="0"/>
                  </a:lnTo>
                  <a:lnTo>
                    <a:pt x="641" y="0"/>
                  </a:lnTo>
                  <a:lnTo>
                    <a:pt x="588" y="4"/>
                  </a:lnTo>
                  <a:lnTo>
                    <a:pt x="535" y="17"/>
                  </a:lnTo>
                  <a:lnTo>
                    <a:pt x="473" y="30"/>
                  </a:lnTo>
                  <a:lnTo>
                    <a:pt x="407" y="52"/>
                  </a:lnTo>
                  <a:lnTo>
                    <a:pt x="362" y="75"/>
                  </a:lnTo>
                  <a:lnTo>
                    <a:pt x="327" y="92"/>
                  </a:lnTo>
                  <a:lnTo>
                    <a:pt x="318" y="110"/>
                  </a:lnTo>
                  <a:lnTo>
                    <a:pt x="318" y="123"/>
                  </a:lnTo>
                  <a:lnTo>
                    <a:pt x="318" y="136"/>
                  </a:lnTo>
                  <a:lnTo>
                    <a:pt x="318" y="150"/>
                  </a:lnTo>
                  <a:lnTo>
                    <a:pt x="318" y="158"/>
                  </a:lnTo>
                  <a:lnTo>
                    <a:pt x="309" y="163"/>
                  </a:lnTo>
                  <a:lnTo>
                    <a:pt x="309" y="172"/>
                  </a:lnTo>
                  <a:lnTo>
                    <a:pt x="309" y="176"/>
                  </a:lnTo>
                  <a:lnTo>
                    <a:pt x="309" y="185"/>
                  </a:lnTo>
                  <a:lnTo>
                    <a:pt x="309" y="189"/>
                  </a:lnTo>
                  <a:lnTo>
                    <a:pt x="300" y="203"/>
                  </a:lnTo>
                  <a:lnTo>
                    <a:pt x="300" y="225"/>
                  </a:lnTo>
                  <a:lnTo>
                    <a:pt x="300" y="251"/>
                  </a:lnTo>
                  <a:lnTo>
                    <a:pt x="300" y="287"/>
                  </a:lnTo>
                  <a:lnTo>
                    <a:pt x="309" y="322"/>
                  </a:lnTo>
                  <a:lnTo>
                    <a:pt x="327" y="366"/>
                  </a:lnTo>
                  <a:lnTo>
                    <a:pt x="327" y="384"/>
                  </a:lnTo>
                  <a:lnTo>
                    <a:pt x="327" y="397"/>
                  </a:lnTo>
                  <a:lnTo>
                    <a:pt x="318" y="406"/>
                  </a:lnTo>
                  <a:lnTo>
                    <a:pt x="309" y="406"/>
                  </a:lnTo>
                  <a:lnTo>
                    <a:pt x="292" y="410"/>
                  </a:lnTo>
                  <a:lnTo>
                    <a:pt x="283" y="419"/>
                  </a:lnTo>
                  <a:lnTo>
                    <a:pt x="274" y="428"/>
                  </a:lnTo>
                  <a:lnTo>
                    <a:pt x="274" y="445"/>
                  </a:lnTo>
                  <a:lnTo>
                    <a:pt x="274" y="454"/>
                  </a:lnTo>
                  <a:lnTo>
                    <a:pt x="283" y="459"/>
                  </a:lnTo>
                  <a:lnTo>
                    <a:pt x="300" y="476"/>
                  </a:lnTo>
                  <a:lnTo>
                    <a:pt x="309" y="481"/>
                  </a:lnTo>
                  <a:lnTo>
                    <a:pt x="327" y="490"/>
                  </a:lnTo>
                  <a:lnTo>
                    <a:pt x="336" y="494"/>
                  </a:lnTo>
                  <a:lnTo>
                    <a:pt x="353" y="503"/>
                  </a:lnTo>
                  <a:lnTo>
                    <a:pt x="362" y="507"/>
                  </a:lnTo>
                  <a:lnTo>
                    <a:pt x="362" y="525"/>
                  </a:lnTo>
                  <a:lnTo>
                    <a:pt x="345" y="529"/>
                  </a:lnTo>
                  <a:lnTo>
                    <a:pt x="336" y="551"/>
                  </a:lnTo>
                  <a:lnTo>
                    <a:pt x="309" y="565"/>
                  </a:lnTo>
                  <a:lnTo>
                    <a:pt x="292" y="578"/>
                  </a:lnTo>
                  <a:lnTo>
                    <a:pt x="274" y="587"/>
                  </a:lnTo>
                  <a:lnTo>
                    <a:pt x="256" y="600"/>
                  </a:lnTo>
                  <a:lnTo>
                    <a:pt x="247" y="600"/>
                  </a:lnTo>
                  <a:lnTo>
                    <a:pt x="238" y="604"/>
                  </a:lnTo>
                  <a:lnTo>
                    <a:pt x="221" y="604"/>
                  </a:lnTo>
                  <a:lnTo>
                    <a:pt x="203" y="618"/>
                  </a:lnTo>
                  <a:lnTo>
                    <a:pt x="185" y="635"/>
                  </a:lnTo>
                  <a:lnTo>
                    <a:pt x="159" y="649"/>
                  </a:lnTo>
                  <a:lnTo>
                    <a:pt x="141" y="666"/>
                  </a:lnTo>
                  <a:lnTo>
                    <a:pt x="132" y="702"/>
                  </a:lnTo>
                  <a:lnTo>
                    <a:pt x="70" y="897"/>
                  </a:lnTo>
                  <a:lnTo>
                    <a:pt x="44" y="1034"/>
                  </a:lnTo>
                  <a:lnTo>
                    <a:pt x="35" y="1140"/>
                  </a:lnTo>
                  <a:lnTo>
                    <a:pt x="53" y="1210"/>
                  </a:lnTo>
                  <a:lnTo>
                    <a:pt x="70" y="1259"/>
                  </a:lnTo>
                  <a:lnTo>
                    <a:pt x="79" y="1299"/>
                  </a:lnTo>
                  <a:lnTo>
                    <a:pt x="79" y="1347"/>
                  </a:lnTo>
                  <a:lnTo>
                    <a:pt x="44" y="1409"/>
                  </a:lnTo>
                  <a:lnTo>
                    <a:pt x="26" y="1449"/>
                  </a:lnTo>
                  <a:lnTo>
                    <a:pt x="8" y="1484"/>
                  </a:lnTo>
                  <a:lnTo>
                    <a:pt x="0" y="1520"/>
                  </a:lnTo>
                  <a:lnTo>
                    <a:pt x="8" y="1542"/>
                  </a:lnTo>
                  <a:lnTo>
                    <a:pt x="8" y="1559"/>
                  </a:lnTo>
                  <a:lnTo>
                    <a:pt x="17" y="1581"/>
                  </a:lnTo>
                  <a:lnTo>
                    <a:pt x="35" y="1595"/>
                  </a:lnTo>
                  <a:lnTo>
                    <a:pt x="44" y="1608"/>
                  </a:lnTo>
                  <a:lnTo>
                    <a:pt x="53" y="1643"/>
                  </a:lnTo>
                  <a:lnTo>
                    <a:pt x="61" y="1705"/>
                  </a:lnTo>
                  <a:lnTo>
                    <a:pt x="61" y="1789"/>
                  </a:lnTo>
                  <a:lnTo>
                    <a:pt x="53" y="1882"/>
                  </a:lnTo>
                  <a:lnTo>
                    <a:pt x="53" y="1970"/>
                  </a:lnTo>
                  <a:lnTo>
                    <a:pt x="53" y="2045"/>
                  </a:lnTo>
                  <a:lnTo>
                    <a:pt x="44" y="2102"/>
                  </a:lnTo>
                  <a:lnTo>
                    <a:pt x="44" y="2120"/>
                  </a:lnTo>
                  <a:lnTo>
                    <a:pt x="53" y="2169"/>
                  </a:lnTo>
                  <a:lnTo>
                    <a:pt x="61" y="2204"/>
                  </a:lnTo>
                  <a:lnTo>
                    <a:pt x="70" y="2230"/>
                  </a:lnTo>
                  <a:lnTo>
                    <a:pt x="88" y="2248"/>
                  </a:lnTo>
                  <a:lnTo>
                    <a:pt x="97" y="2253"/>
                  </a:lnTo>
                  <a:lnTo>
                    <a:pt x="106" y="2261"/>
                  </a:lnTo>
                  <a:lnTo>
                    <a:pt x="115" y="2261"/>
                  </a:lnTo>
                  <a:lnTo>
                    <a:pt x="123" y="2261"/>
                  </a:lnTo>
                  <a:lnTo>
                    <a:pt x="123" y="2279"/>
                  </a:lnTo>
                  <a:lnTo>
                    <a:pt x="132" y="2336"/>
                  </a:lnTo>
                  <a:lnTo>
                    <a:pt x="141" y="2411"/>
                  </a:lnTo>
                  <a:lnTo>
                    <a:pt x="150" y="2510"/>
                  </a:lnTo>
                  <a:lnTo>
                    <a:pt x="168" y="2607"/>
                  </a:lnTo>
                  <a:lnTo>
                    <a:pt x="176" y="2704"/>
                  </a:lnTo>
                  <a:lnTo>
                    <a:pt x="176" y="2788"/>
                  </a:lnTo>
                  <a:lnTo>
                    <a:pt x="185" y="2841"/>
                  </a:lnTo>
                  <a:lnTo>
                    <a:pt x="176" y="2889"/>
                  </a:lnTo>
                  <a:lnTo>
                    <a:pt x="168" y="2947"/>
                  </a:lnTo>
                  <a:lnTo>
                    <a:pt x="150" y="3000"/>
                  </a:lnTo>
                  <a:lnTo>
                    <a:pt x="132" y="3048"/>
                  </a:lnTo>
                  <a:lnTo>
                    <a:pt x="106" y="3097"/>
                  </a:lnTo>
                  <a:lnTo>
                    <a:pt x="88" y="3141"/>
                  </a:lnTo>
                  <a:lnTo>
                    <a:pt x="79" y="3159"/>
                  </a:lnTo>
                  <a:lnTo>
                    <a:pt x="70" y="3172"/>
                  </a:lnTo>
                  <a:lnTo>
                    <a:pt x="61" y="3229"/>
                  </a:lnTo>
                  <a:lnTo>
                    <a:pt x="70" y="3238"/>
                  </a:lnTo>
                  <a:lnTo>
                    <a:pt x="79" y="3238"/>
                  </a:lnTo>
                  <a:lnTo>
                    <a:pt x="97" y="3238"/>
                  </a:lnTo>
                  <a:lnTo>
                    <a:pt x="123" y="3229"/>
                  </a:lnTo>
                  <a:lnTo>
                    <a:pt x="159" y="3229"/>
                  </a:lnTo>
                  <a:lnTo>
                    <a:pt x="185" y="3221"/>
                  </a:lnTo>
                  <a:lnTo>
                    <a:pt x="221" y="3207"/>
                  </a:lnTo>
                  <a:lnTo>
                    <a:pt x="256" y="3194"/>
                  </a:lnTo>
                  <a:lnTo>
                    <a:pt x="283" y="3168"/>
                  </a:lnTo>
                  <a:lnTo>
                    <a:pt x="300" y="3119"/>
                  </a:lnTo>
                  <a:lnTo>
                    <a:pt x="309" y="3062"/>
                  </a:lnTo>
                  <a:lnTo>
                    <a:pt x="318" y="3009"/>
                  </a:lnTo>
                  <a:lnTo>
                    <a:pt x="318" y="2951"/>
                  </a:lnTo>
                  <a:lnTo>
                    <a:pt x="318" y="2903"/>
                  </a:lnTo>
                  <a:lnTo>
                    <a:pt x="309" y="2867"/>
                  </a:lnTo>
                  <a:lnTo>
                    <a:pt x="309" y="2854"/>
                  </a:lnTo>
                  <a:lnTo>
                    <a:pt x="318" y="2850"/>
                  </a:lnTo>
                  <a:lnTo>
                    <a:pt x="318" y="2823"/>
                  </a:lnTo>
                  <a:lnTo>
                    <a:pt x="336" y="2788"/>
                  </a:lnTo>
                  <a:lnTo>
                    <a:pt x="345" y="2739"/>
                  </a:lnTo>
                  <a:lnTo>
                    <a:pt x="362" y="2691"/>
                  </a:lnTo>
                  <a:lnTo>
                    <a:pt x="371" y="2629"/>
                  </a:lnTo>
                  <a:lnTo>
                    <a:pt x="389" y="2571"/>
                  </a:lnTo>
                  <a:lnTo>
                    <a:pt x="398" y="2523"/>
                  </a:lnTo>
                  <a:lnTo>
                    <a:pt x="407" y="2483"/>
                  </a:lnTo>
                  <a:lnTo>
                    <a:pt x="407" y="2439"/>
                  </a:lnTo>
                  <a:lnTo>
                    <a:pt x="415" y="2398"/>
                  </a:lnTo>
                  <a:lnTo>
                    <a:pt x="415" y="2372"/>
                  </a:lnTo>
                  <a:lnTo>
                    <a:pt x="415" y="2341"/>
                  </a:lnTo>
                  <a:lnTo>
                    <a:pt x="415" y="2323"/>
                  </a:lnTo>
                  <a:lnTo>
                    <a:pt x="415" y="2301"/>
                  </a:lnTo>
                  <a:lnTo>
                    <a:pt x="508" y="2279"/>
                  </a:lnTo>
                  <a:lnTo>
                    <a:pt x="508" y="2363"/>
                  </a:lnTo>
                  <a:lnTo>
                    <a:pt x="553" y="2359"/>
                  </a:lnTo>
                  <a:lnTo>
                    <a:pt x="632" y="2775"/>
                  </a:lnTo>
                  <a:lnTo>
                    <a:pt x="579" y="3000"/>
                  </a:lnTo>
                  <a:lnTo>
                    <a:pt x="579" y="3009"/>
                  </a:lnTo>
                  <a:lnTo>
                    <a:pt x="588" y="3013"/>
                  </a:lnTo>
                  <a:lnTo>
                    <a:pt x="588" y="3031"/>
                  </a:lnTo>
                  <a:lnTo>
                    <a:pt x="597" y="3048"/>
                  </a:lnTo>
                  <a:lnTo>
                    <a:pt x="606" y="3070"/>
                  </a:lnTo>
                  <a:lnTo>
                    <a:pt x="615" y="3084"/>
                  </a:lnTo>
                  <a:lnTo>
                    <a:pt x="632" y="3106"/>
                  </a:lnTo>
                  <a:lnTo>
                    <a:pt x="650" y="3110"/>
                  </a:lnTo>
                  <a:lnTo>
                    <a:pt x="669" y="3119"/>
                  </a:lnTo>
                  <a:lnTo>
                    <a:pt x="695" y="3110"/>
                  </a:lnTo>
                  <a:lnTo>
                    <a:pt x="713" y="3097"/>
                  </a:lnTo>
                  <a:lnTo>
                    <a:pt x="739" y="3084"/>
                  </a:lnTo>
                  <a:lnTo>
                    <a:pt x="757" y="3070"/>
                  </a:lnTo>
                  <a:lnTo>
                    <a:pt x="775" y="3057"/>
                  </a:lnTo>
                  <a:lnTo>
                    <a:pt x="784" y="3048"/>
                  </a:lnTo>
                  <a:lnTo>
                    <a:pt x="784" y="3044"/>
                  </a:lnTo>
                  <a:lnTo>
                    <a:pt x="810" y="2867"/>
                  </a:lnTo>
                  <a:lnTo>
                    <a:pt x="748" y="2775"/>
                  </a:lnTo>
                  <a:lnTo>
                    <a:pt x="748" y="2766"/>
                  </a:lnTo>
                  <a:lnTo>
                    <a:pt x="757" y="2730"/>
                  </a:lnTo>
                  <a:lnTo>
                    <a:pt x="775" y="2691"/>
                  </a:lnTo>
                  <a:lnTo>
                    <a:pt x="792" y="2633"/>
                  </a:lnTo>
                  <a:lnTo>
                    <a:pt x="810" y="2580"/>
                  </a:lnTo>
                  <a:lnTo>
                    <a:pt x="819" y="2523"/>
                  </a:lnTo>
                  <a:lnTo>
                    <a:pt x="828" y="2470"/>
                  </a:lnTo>
                  <a:lnTo>
                    <a:pt x="828" y="2435"/>
                  </a:lnTo>
                  <a:lnTo>
                    <a:pt x="828" y="2411"/>
                  </a:lnTo>
                  <a:lnTo>
                    <a:pt x="828" y="2398"/>
                  </a:lnTo>
                  <a:lnTo>
                    <a:pt x="819" y="2385"/>
                  </a:lnTo>
                  <a:lnTo>
                    <a:pt x="819" y="2363"/>
                  </a:lnTo>
                  <a:lnTo>
                    <a:pt x="819" y="2350"/>
                  </a:lnTo>
                  <a:lnTo>
                    <a:pt x="819" y="2328"/>
                  </a:lnTo>
                  <a:lnTo>
                    <a:pt x="810" y="2314"/>
                  </a:lnTo>
                  <a:lnTo>
                    <a:pt x="810" y="2301"/>
                  </a:lnTo>
                  <a:lnTo>
                    <a:pt x="1315" y="2191"/>
                  </a:lnTo>
                  <a:lnTo>
                    <a:pt x="1315" y="1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62880" y="4903920"/>
              <a:ext cx="471960" cy="1165680"/>
            </a:xfrm>
            <a:custGeom>
              <a:avLst/>
              <a:gdLst/>
              <a:ahLst/>
              <a:rect l="0" t="0" r="r" b="b"/>
              <a:pathLst>
                <a:path w="1311" h="3238">
                  <a:moveTo>
                    <a:pt x="1311" y="1493"/>
                  </a:moveTo>
                  <a:lnTo>
                    <a:pt x="1086" y="1533"/>
                  </a:lnTo>
                  <a:lnTo>
                    <a:pt x="1086" y="1528"/>
                  </a:lnTo>
                  <a:lnTo>
                    <a:pt x="1086" y="1515"/>
                  </a:lnTo>
                  <a:lnTo>
                    <a:pt x="1077" y="1506"/>
                  </a:lnTo>
                  <a:lnTo>
                    <a:pt x="1077" y="1493"/>
                  </a:lnTo>
                  <a:lnTo>
                    <a:pt x="1068" y="1480"/>
                  </a:lnTo>
                  <a:lnTo>
                    <a:pt x="1059" y="1471"/>
                  </a:lnTo>
                  <a:lnTo>
                    <a:pt x="1041" y="1467"/>
                  </a:lnTo>
                  <a:lnTo>
                    <a:pt x="1032" y="1458"/>
                  </a:lnTo>
                  <a:lnTo>
                    <a:pt x="997" y="1321"/>
                  </a:lnTo>
                  <a:lnTo>
                    <a:pt x="1015" y="1290"/>
                  </a:lnTo>
                  <a:lnTo>
                    <a:pt x="1032" y="1241"/>
                  </a:lnTo>
                  <a:lnTo>
                    <a:pt x="1050" y="1193"/>
                  </a:lnTo>
                  <a:lnTo>
                    <a:pt x="1068" y="1131"/>
                  </a:lnTo>
                  <a:lnTo>
                    <a:pt x="1086" y="1078"/>
                  </a:lnTo>
                  <a:lnTo>
                    <a:pt x="1103" y="1029"/>
                  </a:lnTo>
                  <a:lnTo>
                    <a:pt x="1112" y="994"/>
                  </a:lnTo>
                  <a:lnTo>
                    <a:pt x="1112" y="972"/>
                  </a:lnTo>
                  <a:lnTo>
                    <a:pt x="1112" y="945"/>
                  </a:lnTo>
                  <a:lnTo>
                    <a:pt x="1103" y="892"/>
                  </a:lnTo>
                  <a:lnTo>
                    <a:pt x="1094" y="822"/>
                  </a:lnTo>
                  <a:lnTo>
                    <a:pt x="1077" y="737"/>
                  </a:lnTo>
                  <a:lnTo>
                    <a:pt x="1059" y="653"/>
                  </a:lnTo>
                  <a:lnTo>
                    <a:pt x="1041" y="587"/>
                  </a:lnTo>
                  <a:lnTo>
                    <a:pt x="1006" y="529"/>
                  </a:lnTo>
                  <a:lnTo>
                    <a:pt x="974" y="503"/>
                  </a:lnTo>
                  <a:lnTo>
                    <a:pt x="894" y="490"/>
                  </a:lnTo>
                  <a:lnTo>
                    <a:pt x="850" y="468"/>
                  </a:lnTo>
                  <a:lnTo>
                    <a:pt x="815" y="459"/>
                  </a:lnTo>
                  <a:lnTo>
                    <a:pt x="806" y="445"/>
                  </a:lnTo>
                  <a:lnTo>
                    <a:pt x="797" y="441"/>
                  </a:lnTo>
                  <a:lnTo>
                    <a:pt x="806" y="432"/>
                  </a:lnTo>
                  <a:lnTo>
                    <a:pt x="815" y="428"/>
                  </a:lnTo>
                  <a:lnTo>
                    <a:pt x="877" y="344"/>
                  </a:lnTo>
                  <a:lnTo>
                    <a:pt x="868" y="344"/>
                  </a:lnTo>
                  <a:lnTo>
                    <a:pt x="850" y="344"/>
                  </a:lnTo>
                  <a:lnTo>
                    <a:pt x="841" y="344"/>
                  </a:lnTo>
                  <a:lnTo>
                    <a:pt x="823" y="335"/>
                  </a:lnTo>
                  <a:lnTo>
                    <a:pt x="806" y="322"/>
                  </a:lnTo>
                  <a:lnTo>
                    <a:pt x="788" y="300"/>
                  </a:lnTo>
                  <a:lnTo>
                    <a:pt x="779" y="282"/>
                  </a:lnTo>
                  <a:lnTo>
                    <a:pt x="779" y="247"/>
                  </a:lnTo>
                  <a:lnTo>
                    <a:pt x="788" y="211"/>
                  </a:lnTo>
                  <a:lnTo>
                    <a:pt x="806" y="172"/>
                  </a:lnTo>
                  <a:lnTo>
                    <a:pt x="815" y="136"/>
                  </a:lnTo>
                  <a:lnTo>
                    <a:pt x="815" y="101"/>
                  </a:lnTo>
                  <a:lnTo>
                    <a:pt x="797" y="66"/>
                  </a:lnTo>
                  <a:lnTo>
                    <a:pt x="753" y="30"/>
                  </a:lnTo>
                  <a:lnTo>
                    <a:pt x="664" y="0"/>
                  </a:lnTo>
                  <a:lnTo>
                    <a:pt x="633" y="0"/>
                  </a:lnTo>
                  <a:lnTo>
                    <a:pt x="580" y="4"/>
                  </a:lnTo>
                  <a:lnTo>
                    <a:pt x="527" y="17"/>
                  </a:lnTo>
                  <a:lnTo>
                    <a:pt x="465" y="39"/>
                  </a:lnTo>
                  <a:lnTo>
                    <a:pt x="412" y="61"/>
                  </a:lnTo>
                  <a:lnTo>
                    <a:pt x="359" y="79"/>
                  </a:lnTo>
                  <a:lnTo>
                    <a:pt x="318" y="101"/>
                  </a:lnTo>
                  <a:lnTo>
                    <a:pt x="309" y="114"/>
                  </a:lnTo>
                  <a:lnTo>
                    <a:pt x="309" y="128"/>
                  </a:lnTo>
                  <a:lnTo>
                    <a:pt x="309" y="141"/>
                  </a:lnTo>
                  <a:lnTo>
                    <a:pt x="309" y="150"/>
                  </a:lnTo>
                  <a:lnTo>
                    <a:pt x="309" y="163"/>
                  </a:lnTo>
                  <a:lnTo>
                    <a:pt x="309" y="172"/>
                  </a:lnTo>
                  <a:lnTo>
                    <a:pt x="309" y="176"/>
                  </a:lnTo>
                  <a:lnTo>
                    <a:pt x="309" y="185"/>
                  </a:lnTo>
                  <a:lnTo>
                    <a:pt x="300" y="185"/>
                  </a:lnTo>
                  <a:lnTo>
                    <a:pt x="300" y="198"/>
                  </a:lnTo>
                  <a:lnTo>
                    <a:pt x="300" y="211"/>
                  </a:lnTo>
                  <a:lnTo>
                    <a:pt x="292" y="234"/>
                  </a:lnTo>
                  <a:lnTo>
                    <a:pt x="292" y="260"/>
                  </a:lnTo>
                  <a:lnTo>
                    <a:pt x="292" y="287"/>
                  </a:lnTo>
                  <a:lnTo>
                    <a:pt x="300" y="331"/>
                  </a:lnTo>
                  <a:lnTo>
                    <a:pt x="318" y="370"/>
                  </a:lnTo>
                  <a:lnTo>
                    <a:pt x="332" y="393"/>
                  </a:lnTo>
                  <a:lnTo>
                    <a:pt x="318" y="397"/>
                  </a:lnTo>
                  <a:lnTo>
                    <a:pt x="309" y="406"/>
                  </a:lnTo>
                  <a:lnTo>
                    <a:pt x="300" y="410"/>
                  </a:lnTo>
                  <a:lnTo>
                    <a:pt x="283" y="410"/>
                  </a:lnTo>
                  <a:lnTo>
                    <a:pt x="274" y="419"/>
                  </a:lnTo>
                  <a:lnTo>
                    <a:pt x="265" y="432"/>
                  </a:lnTo>
                  <a:lnTo>
                    <a:pt x="265" y="445"/>
                  </a:lnTo>
                  <a:lnTo>
                    <a:pt x="274" y="459"/>
                  </a:lnTo>
                  <a:lnTo>
                    <a:pt x="283" y="468"/>
                  </a:lnTo>
                  <a:lnTo>
                    <a:pt x="292" y="476"/>
                  </a:lnTo>
                  <a:lnTo>
                    <a:pt x="309" y="490"/>
                  </a:lnTo>
                  <a:lnTo>
                    <a:pt x="318" y="494"/>
                  </a:lnTo>
                  <a:lnTo>
                    <a:pt x="341" y="503"/>
                  </a:lnTo>
                  <a:lnTo>
                    <a:pt x="350" y="507"/>
                  </a:lnTo>
                  <a:lnTo>
                    <a:pt x="359" y="516"/>
                  </a:lnTo>
                  <a:lnTo>
                    <a:pt x="359" y="525"/>
                  </a:lnTo>
                  <a:lnTo>
                    <a:pt x="350" y="538"/>
                  </a:lnTo>
                  <a:lnTo>
                    <a:pt x="332" y="551"/>
                  </a:lnTo>
                  <a:lnTo>
                    <a:pt x="309" y="565"/>
                  </a:lnTo>
                  <a:lnTo>
                    <a:pt x="283" y="578"/>
                  </a:lnTo>
                  <a:lnTo>
                    <a:pt x="265" y="591"/>
                  </a:lnTo>
                  <a:lnTo>
                    <a:pt x="247" y="600"/>
                  </a:lnTo>
                  <a:lnTo>
                    <a:pt x="247" y="604"/>
                  </a:lnTo>
                  <a:lnTo>
                    <a:pt x="238" y="604"/>
                  </a:lnTo>
                  <a:lnTo>
                    <a:pt x="230" y="604"/>
                  </a:lnTo>
                  <a:lnTo>
                    <a:pt x="212" y="613"/>
                  </a:lnTo>
                  <a:lnTo>
                    <a:pt x="194" y="618"/>
                  </a:lnTo>
                  <a:lnTo>
                    <a:pt x="176" y="635"/>
                  </a:lnTo>
                  <a:lnTo>
                    <a:pt x="159" y="653"/>
                  </a:lnTo>
                  <a:lnTo>
                    <a:pt x="141" y="675"/>
                  </a:lnTo>
                  <a:lnTo>
                    <a:pt x="123" y="702"/>
                  </a:lnTo>
                  <a:lnTo>
                    <a:pt x="61" y="906"/>
                  </a:lnTo>
                  <a:lnTo>
                    <a:pt x="35" y="1043"/>
                  </a:lnTo>
                  <a:lnTo>
                    <a:pt x="35" y="1144"/>
                  </a:lnTo>
                  <a:lnTo>
                    <a:pt x="44" y="1210"/>
                  </a:lnTo>
                  <a:lnTo>
                    <a:pt x="61" y="1263"/>
                  </a:lnTo>
                  <a:lnTo>
                    <a:pt x="70" y="1308"/>
                  </a:lnTo>
                  <a:lnTo>
                    <a:pt x="70" y="1352"/>
                  </a:lnTo>
                  <a:lnTo>
                    <a:pt x="35" y="1418"/>
                  </a:lnTo>
                  <a:lnTo>
                    <a:pt x="17" y="1458"/>
                  </a:lnTo>
                  <a:lnTo>
                    <a:pt x="0" y="1493"/>
                  </a:lnTo>
                  <a:lnTo>
                    <a:pt x="0" y="1520"/>
                  </a:lnTo>
                  <a:lnTo>
                    <a:pt x="0" y="1546"/>
                  </a:lnTo>
                  <a:lnTo>
                    <a:pt x="8" y="1568"/>
                  </a:lnTo>
                  <a:lnTo>
                    <a:pt x="17" y="1590"/>
                  </a:lnTo>
                  <a:lnTo>
                    <a:pt x="26" y="1603"/>
                  </a:lnTo>
                  <a:lnTo>
                    <a:pt x="35" y="1617"/>
                  </a:lnTo>
                  <a:lnTo>
                    <a:pt x="44" y="1643"/>
                  </a:lnTo>
                  <a:lnTo>
                    <a:pt x="53" y="1705"/>
                  </a:lnTo>
                  <a:lnTo>
                    <a:pt x="53" y="1789"/>
                  </a:lnTo>
                  <a:lnTo>
                    <a:pt x="53" y="1886"/>
                  </a:lnTo>
                  <a:lnTo>
                    <a:pt x="44" y="1970"/>
                  </a:lnTo>
                  <a:lnTo>
                    <a:pt x="44" y="2054"/>
                  </a:lnTo>
                  <a:lnTo>
                    <a:pt x="44" y="2102"/>
                  </a:lnTo>
                  <a:lnTo>
                    <a:pt x="35" y="2120"/>
                  </a:lnTo>
                  <a:lnTo>
                    <a:pt x="44" y="2169"/>
                  </a:lnTo>
                  <a:lnTo>
                    <a:pt x="53" y="2213"/>
                  </a:lnTo>
                  <a:lnTo>
                    <a:pt x="70" y="2230"/>
                  </a:lnTo>
                  <a:lnTo>
                    <a:pt x="79" y="2253"/>
                  </a:lnTo>
                  <a:lnTo>
                    <a:pt x="88" y="2261"/>
                  </a:lnTo>
                  <a:lnTo>
                    <a:pt x="106" y="2266"/>
                  </a:lnTo>
                  <a:lnTo>
                    <a:pt x="115" y="2266"/>
                  </a:lnTo>
                  <a:lnTo>
                    <a:pt x="115" y="2288"/>
                  </a:lnTo>
                  <a:lnTo>
                    <a:pt x="123" y="2341"/>
                  </a:lnTo>
                  <a:lnTo>
                    <a:pt x="132" y="2420"/>
                  </a:lnTo>
                  <a:lnTo>
                    <a:pt x="141" y="2510"/>
                  </a:lnTo>
                  <a:lnTo>
                    <a:pt x="159" y="2616"/>
                  </a:lnTo>
                  <a:lnTo>
                    <a:pt x="168" y="2704"/>
                  </a:lnTo>
                  <a:lnTo>
                    <a:pt x="176" y="2788"/>
                  </a:lnTo>
                  <a:lnTo>
                    <a:pt x="176" y="2850"/>
                  </a:lnTo>
                  <a:lnTo>
                    <a:pt x="176" y="2898"/>
                  </a:lnTo>
                  <a:lnTo>
                    <a:pt x="159" y="2947"/>
                  </a:lnTo>
                  <a:lnTo>
                    <a:pt x="141" y="3000"/>
                  </a:lnTo>
                  <a:lnTo>
                    <a:pt x="123" y="3057"/>
                  </a:lnTo>
                  <a:lnTo>
                    <a:pt x="106" y="3106"/>
                  </a:lnTo>
                  <a:lnTo>
                    <a:pt x="88" y="3141"/>
                  </a:lnTo>
                  <a:lnTo>
                    <a:pt x="70" y="3168"/>
                  </a:lnTo>
                  <a:lnTo>
                    <a:pt x="70" y="3172"/>
                  </a:lnTo>
                  <a:lnTo>
                    <a:pt x="53" y="3238"/>
                  </a:lnTo>
                  <a:lnTo>
                    <a:pt x="61" y="3238"/>
                  </a:lnTo>
                  <a:lnTo>
                    <a:pt x="70" y="3238"/>
                  </a:lnTo>
                  <a:lnTo>
                    <a:pt x="97" y="3238"/>
                  </a:lnTo>
                  <a:lnTo>
                    <a:pt x="123" y="3238"/>
                  </a:lnTo>
                  <a:lnTo>
                    <a:pt x="150" y="3229"/>
                  </a:lnTo>
                  <a:lnTo>
                    <a:pt x="185" y="3221"/>
                  </a:lnTo>
                  <a:lnTo>
                    <a:pt x="212" y="3216"/>
                  </a:lnTo>
                  <a:lnTo>
                    <a:pt x="247" y="3194"/>
                  </a:lnTo>
                  <a:lnTo>
                    <a:pt x="274" y="3168"/>
                  </a:lnTo>
                  <a:lnTo>
                    <a:pt x="292" y="3123"/>
                  </a:lnTo>
                  <a:lnTo>
                    <a:pt x="300" y="3070"/>
                  </a:lnTo>
                  <a:lnTo>
                    <a:pt x="309" y="3009"/>
                  </a:lnTo>
                  <a:lnTo>
                    <a:pt x="309" y="2951"/>
                  </a:lnTo>
                  <a:lnTo>
                    <a:pt x="309" y="2903"/>
                  </a:lnTo>
                  <a:lnTo>
                    <a:pt x="309" y="2876"/>
                  </a:lnTo>
                  <a:lnTo>
                    <a:pt x="309" y="2863"/>
                  </a:lnTo>
                  <a:lnTo>
                    <a:pt x="309" y="2850"/>
                  </a:lnTo>
                  <a:lnTo>
                    <a:pt x="318" y="2828"/>
                  </a:lnTo>
                  <a:lnTo>
                    <a:pt x="332" y="2792"/>
                  </a:lnTo>
                  <a:lnTo>
                    <a:pt x="341" y="2744"/>
                  </a:lnTo>
                  <a:lnTo>
                    <a:pt x="359" y="2691"/>
                  </a:lnTo>
                  <a:lnTo>
                    <a:pt x="368" y="2633"/>
                  </a:lnTo>
                  <a:lnTo>
                    <a:pt x="385" y="2580"/>
                  </a:lnTo>
                  <a:lnTo>
                    <a:pt x="394" y="2523"/>
                  </a:lnTo>
                  <a:lnTo>
                    <a:pt x="403" y="2483"/>
                  </a:lnTo>
                  <a:lnTo>
                    <a:pt x="412" y="2448"/>
                  </a:lnTo>
                  <a:lnTo>
                    <a:pt x="412" y="2407"/>
                  </a:lnTo>
                  <a:lnTo>
                    <a:pt x="412" y="2372"/>
                  </a:lnTo>
                  <a:lnTo>
                    <a:pt x="412" y="2341"/>
                  </a:lnTo>
                  <a:lnTo>
                    <a:pt x="421" y="2323"/>
                  </a:lnTo>
                  <a:lnTo>
                    <a:pt x="421" y="2310"/>
                  </a:lnTo>
                  <a:lnTo>
                    <a:pt x="421" y="2301"/>
                  </a:lnTo>
                  <a:lnTo>
                    <a:pt x="500" y="2288"/>
                  </a:lnTo>
                  <a:lnTo>
                    <a:pt x="509" y="2372"/>
                  </a:lnTo>
                  <a:lnTo>
                    <a:pt x="545" y="2363"/>
                  </a:lnTo>
                  <a:lnTo>
                    <a:pt x="633" y="2779"/>
                  </a:lnTo>
                  <a:lnTo>
                    <a:pt x="580" y="3009"/>
                  </a:lnTo>
                  <a:lnTo>
                    <a:pt x="580" y="3022"/>
                  </a:lnTo>
                  <a:lnTo>
                    <a:pt x="580" y="3035"/>
                  </a:lnTo>
                  <a:lnTo>
                    <a:pt x="589" y="3057"/>
                  </a:lnTo>
                  <a:lnTo>
                    <a:pt x="598" y="3070"/>
                  </a:lnTo>
                  <a:lnTo>
                    <a:pt x="607" y="3093"/>
                  </a:lnTo>
                  <a:lnTo>
                    <a:pt x="624" y="3106"/>
                  </a:lnTo>
                  <a:lnTo>
                    <a:pt x="642" y="3119"/>
                  </a:lnTo>
                  <a:lnTo>
                    <a:pt x="664" y="3119"/>
                  </a:lnTo>
                  <a:lnTo>
                    <a:pt x="691" y="3119"/>
                  </a:lnTo>
                  <a:lnTo>
                    <a:pt x="717" y="3106"/>
                  </a:lnTo>
                  <a:lnTo>
                    <a:pt x="735" y="3093"/>
                  </a:lnTo>
                  <a:lnTo>
                    <a:pt x="753" y="3075"/>
                  </a:lnTo>
                  <a:lnTo>
                    <a:pt x="770" y="3062"/>
                  </a:lnTo>
                  <a:lnTo>
                    <a:pt x="779" y="3048"/>
                  </a:lnTo>
                  <a:lnTo>
                    <a:pt x="788" y="3048"/>
                  </a:lnTo>
                  <a:lnTo>
                    <a:pt x="806" y="2876"/>
                  </a:lnTo>
                  <a:lnTo>
                    <a:pt x="744" y="2779"/>
                  </a:lnTo>
                  <a:lnTo>
                    <a:pt x="744" y="2766"/>
                  </a:lnTo>
                  <a:lnTo>
                    <a:pt x="753" y="2739"/>
                  </a:lnTo>
                  <a:lnTo>
                    <a:pt x="770" y="2691"/>
                  </a:lnTo>
                  <a:lnTo>
                    <a:pt x="788" y="2642"/>
                  </a:lnTo>
                  <a:lnTo>
                    <a:pt x="806" y="2580"/>
                  </a:lnTo>
                  <a:lnTo>
                    <a:pt x="815" y="2523"/>
                  </a:lnTo>
                  <a:lnTo>
                    <a:pt x="823" y="2474"/>
                  </a:lnTo>
                  <a:lnTo>
                    <a:pt x="823" y="2435"/>
                  </a:lnTo>
                  <a:lnTo>
                    <a:pt x="823" y="2420"/>
                  </a:lnTo>
                  <a:lnTo>
                    <a:pt x="823" y="2407"/>
                  </a:lnTo>
                  <a:lnTo>
                    <a:pt x="823" y="2385"/>
                  </a:lnTo>
                  <a:lnTo>
                    <a:pt x="815" y="2372"/>
                  </a:lnTo>
                  <a:lnTo>
                    <a:pt x="815" y="2350"/>
                  </a:lnTo>
                  <a:lnTo>
                    <a:pt x="815" y="2336"/>
                  </a:lnTo>
                  <a:lnTo>
                    <a:pt x="815" y="2323"/>
                  </a:lnTo>
                  <a:lnTo>
                    <a:pt x="806" y="2301"/>
                  </a:lnTo>
                  <a:lnTo>
                    <a:pt x="1311" y="2200"/>
                  </a:lnTo>
                  <a:lnTo>
                    <a:pt x="1311" y="1493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75520" y="4732200"/>
              <a:ext cx="466920" cy="1213200"/>
            </a:xfrm>
            <a:custGeom>
              <a:avLst/>
              <a:gdLst/>
              <a:ahLst/>
              <a:rect l="0" t="0" r="r" b="b"/>
              <a:pathLst>
                <a:path w="1297" h="3370">
                  <a:moveTo>
                    <a:pt x="1036" y="1886"/>
                  </a:moveTo>
                  <a:lnTo>
                    <a:pt x="1036" y="2676"/>
                  </a:lnTo>
                  <a:lnTo>
                    <a:pt x="1297" y="2619"/>
                  </a:lnTo>
                  <a:lnTo>
                    <a:pt x="1297" y="1833"/>
                  </a:lnTo>
                  <a:lnTo>
                    <a:pt x="1204" y="1851"/>
                  </a:lnTo>
                  <a:lnTo>
                    <a:pt x="1204" y="1789"/>
                  </a:lnTo>
                  <a:lnTo>
                    <a:pt x="1213" y="1784"/>
                  </a:lnTo>
                  <a:lnTo>
                    <a:pt x="1222" y="1771"/>
                  </a:lnTo>
                  <a:lnTo>
                    <a:pt x="1231" y="1753"/>
                  </a:lnTo>
                  <a:lnTo>
                    <a:pt x="1239" y="1740"/>
                  </a:lnTo>
                  <a:lnTo>
                    <a:pt x="1248" y="1727"/>
                  </a:lnTo>
                  <a:lnTo>
                    <a:pt x="1257" y="1714"/>
                  </a:lnTo>
                  <a:lnTo>
                    <a:pt x="1257" y="1705"/>
                  </a:lnTo>
                  <a:lnTo>
                    <a:pt x="1231" y="1616"/>
                  </a:lnTo>
                  <a:lnTo>
                    <a:pt x="1239" y="1616"/>
                  </a:lnTo>
                  <a:lnTo>
                    <a:pt x="1248" y="1262"/>
                  </a:lnTo>
                  <a:lnTo>
                    <a:pt x="1239" y="1236"/>
                  </a:lnTo>
                  <a:lnTo>
                    <a:pt x="1239" y="1165"/>
                  </a:lnTo>
                  <a:lnTo>
                    <a:pt x="1231" y="1077"/>
                  </a:lnTo>
                  <a:lnTo>
                    <a:pt x="1222" y="966"/>
                  </a:lnTo>
                  <a:lnTo>
                    <a:pt x="1213" y="847"/>
                  </a:lnTo>
                  <a:lnTo>
                    <a:pt x="1186" y="737"/>
                  </a:lnTo>
                  <a:lnTo>
                    <a:pt x="1169" y="653"/>
                  </a:lnTo>
                  <a:lnTo>
                    <a:pt x="1133" y="604"/>
                  </a:lnTo>
                  <a:lnTo>
                    <a:pt x="1089" y="578"/>
                  </a:lnTo>
                  <a:lnTo>
                    <a:pt x="1036" y="551"/>
                  </a:lnTo>
                  <a:lnTo>
                    <a:pt x="974" y="525"/>
                  </a:lnTo>
                  <a:lnTo>
                    <a:pt x="903" y="503"/>
                  </a:lnTo>
                  <a:lnTo>
                    <a:pt x="846" y="481"/>
                  </a:lnTo>
                  <a:lnTo>
                    <a:pt x="793" y="476"/>
                  </a:lnTo>
                  <a:lnTo>
                    <a:pt x="757" y="459"/>
                  </a:lnTo>
                  <a:lnTo>
                    <a:pt x="748" y="459"/>
                  </a:lnTo>
                  <a:lnTo>
                    <a:pt x="757" y="370"/>
                  </a:lnTo>
                  <a:lnTo>
                    <a:pt x="819" y="260"/>
                  </a:lnTo>
                  <a:lnTo>
                    <a:pt x="828" y="238"/>
                  </a:lnTo>
                  <a:lnTo>
                    <a:pt x="828" y="220"/>
                  </a:lnTo>
                  <a:lnTo>
                    <a:pt x="837" y="189"/>
                  </a:lnTo>
                  <a:lnTo>
                    <a:pt x="837" y="158"/>
                  </a:lnTo>
                  <a:lnTo>
                    <a:pt x="828" y="123"/>
                  </a:lnTo>
                  <a:lnTo>
                    <a:pt x="819" y="92"/>
                  </a:lnTo>
                  <a:lnTo>
                    <a:pt x="793" y="75"/>
                  </a:lnTo>
                  <a:lnTo>
                    <a:pt x="775" y="52"/>
                  </a:lnTo>
                  <a:lnTo>
                    <a:pt x="757" y="30"/>
                  </a:lnTo>
                  <a:lnTo>
                    <a:pt x="748" y="17"/>
                  </a:lnTo>
                  <a:lnTo>
                    <a:pt x="739" y="4"/>
                  </a:lnTo>
                  <a:lnTo>
                    <a:pt x="722" y="0"/>
                  </a:lnTo>
                  <a:lnTo>
                    <a:pt x="695" y="0"/>
                  </a:lnTo>
                  <a:lnTo>
                    <a:pt x="651" y="0"/>
                  </a:lnTo>
                  <a:lnTo>
                    <a:pt x="588" y="13"/>
                  </a:lnTo>
                  <a:lnTo>
                    <a:pt x="526" y="26"/>
                  </a:lnTo>
                  <a:lnTo>
                    <a:pt x="482" y="39"/>
                  </a:lnTo>
                  <a:lnTo>
                    <a:pt x="455" y="44"/>
                  </a:lnTo>
                  <a:lnTo>
                    <a:pt x="446" y="61"/>
                  </a:lnTo>
                  <a:lnTo>
                    <a:pt x="438" y="66"/>
                  </a:lnTo>
                  <a:lnTo>
                    <a:pt x="424" y="79"/>
                  </a:lnTo>
                  <a:lnTo>
                    <a:pt x="407" y="101"/>
                  </a:lnTo>
                  <a:lnTo>
                    <a:pt x="371" y="128"/>
                  </a:lnTo>
                  <a:lnTo>
                    <a:pt x="353" y="158"/>
                  </a:lnTo>
                  <a:lnTo>
                    <a:pt x="336" y="189"/>
                  </a:lnTo>
                  <a:lnTo>
                    <a:pt x="336" y="220"/>
                  </a:lnTo>
                  <a:lnTo>
                    <a:pt x="336" y="251"/>
                  </a:lnTo>
                  <a:lnTo>
                    <a:pt x="345" y="287"/>
                  </a:lnTo>
                  <a:lnTo>
                    <a:pt x="353" y="309"/>
                  </a:lnTo>
                  <a:lnTo>
                    <a:pt x="353" y="331"/>
                  </a:lnTo>
                  <a:lnTo>
                    <a:pt x="362" y="335"/>
                  </a:lnTo>
                  <a:lnTo>
                    <a:pt x="446" y="468"/>
                  </a:lnTo>
                  <a:lnTo>
                    <a:pt x="464" y="516"/>
                  </a:lnTo>
                  <a:lnTo>
                    <a:pt x="446" y="529"/>
                  </a:lnTo>
                  <a:lnTo>
                    <a:pt x="398" y="556"/>
                  </a:lnTo>
                  <a:lnTo>
                    <a:pt x="345" y="600"/>
                  </a:lnTo>
                  <a:lnTo>
                    <a:pt x="283" y="649"/>
                  </a:lnTo>
                  <a:lnTo>
                    <a:pt x="212" y="697"/>
                  </a:lnTo>
                  <a:lnTo>
                    <a:pt x="159" y="737"/>
                  </a:lnTo>
                  <a:lnTo>
                    <a:pt x="115" y="772"/>
                  </a:lnTo>
                  <a:lnTo>
                    <a:pt x="97" y="799"/>
                  </a:lnTo>
                  <a:lnTo>
                    <a:pt x="97" y="834"/>
                  </a:lnTo>
                  <a:lnTo>
                    <a:pt x="88" y="896"/>
                  </a:lnTo>
                  <a:lnTo>
                    <a:pt x="70" y="989"/>
                  </a:lnTo>
                  <a:lnTo>
                    <a:pt x="61" y="1090"/>
                  </a:lnTo>
                  <a:lnTo>
                    <a:pt x="44" y="1196"/>
                  </a:lnTo>
                  <a:lnTo>
                    <a:pt x="26" y="1284"/>
                  </a:lnTo>
                  <a:lnTo>
                    <a:pt x="17" y="1359"/>
                  </a:lnTo>
                  <a:lnTo>
                    <a:pt x="17" y="1408"/>
                  </a:lnTo>
                  <a:lnTo>
                    <a:pt x="17" y="1443"/>
                  </a:lnTo>
                  <a:lnTo>
                    <a:pt x="8" y="1496"/>
                  </a:lnTo>
                  <a:lnTo>
                    <a:pt x="8" y="1580"/>
                  </a:lnTo>
                  <a:lnTo>
                    <a:pt x="0" y="1664"/>
                  </a:lnTo>
                  <a:lnTo>
                    <a:pt x="0" y="1762"/>
                  </a:lnTo>
                  <a:lnTo>
                    <a:pt x="0" y="1846"/>
                  </a:lnTo>
                  <a:lnTo>
                    <a:pt x="8" y="1921"/>
                  </a:lnTo>
                  <a:lnTo>
                    <a:pt x="26" y="1979"/>
                  </a:lnTo>
                  <a:lnTo>
                    <a:pt x="35" y="1992"/>
                  </a:lnTo>
                  <a:lnTo>
                    <a:pt x="53" y="2005"/>
                  </a:lnTo>
                  <a:lnTo>
                    <a:pt x="79" y="2005"/>
                  </a:lnTo>
                  <a:lnTo>
                    <a:pt x="97" y="2005"/>
                  </a:lnTo>
                  <a:lnTo>
                    <a:pt x="123" y="1996"/>
                  </a:lnTo>
                  <a:lnTo>
                    <a:pt x="141" y="1996"/>
                  </a:lnTo>
                  <a:lnTo>
                    <a:pt x="159" y="1992"/>
                  </a:lnTo>
                  <a:lnTo>
                    <a:pt x="88" y="1921"/>
                  </a:lnTo>
                  <a:lnTo>
                    <a:pt x="203" y="1289"/>
                  </a:lnTo>
                  <a:lnTo>
                    <a:pt x="203" y="1943"/>
                  </a:lnTo>
                  <a:lnTo>
                    <a:pt x="371" y="3113"/>
                  </a:lnTo>
                  <a:lnTo>
                    <a:pt x="238" y="3277"/>
                  </a:lnTo>
                  <a:lnTo>
                    <a:pt x="203" y="3370"/>
                  </a:lnTo>
                  <a:lnTo>
                    <a:pt x="424" y="3312"/>
                  </a:lnTo>
                  <a:lnTo>
                    <a:pt x="606" y="3175"/>
                  </a:lnTo>
                  <a:lnTo>
                    <a:pt x="615" y="3180"/>
                  </a:lnTo>
                  <a:lnTo>
                    <a:pt x="632" y="3188"/>
                  </a:lnTo>
                  <a:lnTo>
                    <a:pt x="669" y="3193"/>
                  </a:lnTo>
                  <a:lnTo>
                    <a:pt x="713" y="3202"/>
                  </a:lnTo>
                  <a:lnTo>
                    <a:pt x="766" y="3215"/>
                  </a:lnTo>
                  <a:lnTo>
                    <a:pt x="810" y="3224"/>
                  </a:lnTo>
                  <a:lnTo>
                    <a:pt x="846" y="3228"/>
                  </a:lnTo>
                  <a:lnTo>
                    <a:pt x="877" y="3228"/>
                  </a:lnTo>
                  <a:lnTo>
                    <a:pt x="903" y="3228"/>
                  </a:lnTo>
                  <a:lnTo>
                    <a:pt x="930" y="3224"/>
                  </a:lnTo>
                  <a:lnTo>
                    <a:pt x="956" y="3215"/>
                  </a:lnTo>
                  <a:lnTo>
                    <a:pt x="983" y="3202"/>
                  </a:lnTo>
                  <a:lnTo>
                    <a:pt x="1009" y="3193"/>
                  </a:lnTo>
                  <a:lnTo>
                    <a:pt x="1027" y="3188"/>
                  </a:lnTo>
                  <a:lnTo>
                    <a:pt x="1045" y="3180"/>
                  </a:lnTo>
                  <a:lnTo>
                    <a:pt x="1045" y="3175"/>
                  </a:lnTo>
                  <a:lnTo>
                    <a:pt x="1000" y="3065"/>
                  </a:lnTo>
                  <a:lnTo>
                    <a:pt x="837" y="3021"/>
                  </a:lnTo>
                  <a:lnTo>
                    <a:pt x="992" y="1859"/>
                  </a:lnTo>
                  <a:lnTo>
                    <a:pt x="1054" y="1714"/>
                  </a:lnTo>
                  <a:lnTo>
                    <a:pt x="974" y="1077"/>
                  </a:lnTo>
                  <a:lnTo>
                    <a:pt x="1142" y="1714"/>
                  </a:lnTo>
                  <a:lnTo>
                    <a:pt x="1098" y="1776"/>
                  </a:lnTo>
                  <a:lnTo>
                    <a:pt x="1098" y="1784"/>
                  </a:lnTo>
                  <a:lnTo>
                    <a:pt x="1107" y="1784"/>
                  </a:lnTo>
                  <a:lnTo>
                    <a:pt x="1107" y="1789"/>
                  </a:lnTo>
                  <a:lnTo>
                    <a:pt x="1116" y="1789"/>
                  </a:lnTo>
                  <a:lnTo>
                    <a:pt x="1124" y="1798"/>
                  </a:lnTo>
                  <a:lnTo>
                    <a:pt x="1133" y="1798"/>
                  </a:lnTo>
                  <a:lnTo>
                    <a:pt x="1133" y="1868"/>
                  </a:lnTo>
                  <a:lnTo>
                    <a:pt x="1036" y="18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13680" y="4724280"/>
              <a:ext cx="466920" cy="1214640"/>
            </a:xfrm>
            <a:custGeom>
              <a:avLst/>
              <a:gdLst/>
              <a:ahLst/>
              <a:rect l="0" t="0" r="r" b="b"/>
              <a:pathLst>
                <a:path w="1297" h="3374">
                  <a:moveTo>
                    <a:pt x="1036" y="1886"/>
                  </a:moveTo>
                  <a:lnTo>
                    <a:pt x="1036" y="2672"/>
                  </a:lnTo>
                  <a:lnTo>
                    <a:pt x="1297" y="2619"/>
                  </a:lnTo>
                  <a:lnTo>
                    <a:pt x="1297" y="1837"/>
                  </a:lnTo>
                  <a:lnTo>
                    <a:pt x="1195" y="1851"/>
                  </a:lnTo>
                  <a:lnTo>
                    <a:pt x="1195" y="1798"/>
                  </a:lnTo>
                  <a:lnTo>
                    <a:pt x="1213" y="1780"/>
                  </a:lnTo>
                  <a:lnTo>
                    <a:pt x="1222" y="1767"/>
                  </a:lnTo>
                  <a:lnTo>
                    <a:pt x="1231" y="1753"/>
                  </a:lnTo>
                  <a:lnTo>
                    <a:pt x="1239" y="1740"/>
                  </a:lnTo>
                  <a:lnTo>
                    <a:pt x="1248" y="1727"/>
                  </a:lnTo>
                  <a:lnTo>
                    <a:pt x="1248" y="1718"/>
                  </a:lnTo>
                  <a:lnTo>
                    <a:pt x="1257" y="1714"/>
                  </a:lnTo>
                  <a:lnTo>
                    <a:pt x="1257" y="1705"/>
                  </a:lnTo>
                  <a:lnTo>
                    <a:pt x="1231" y="1620"/>
                  </a:lnTo>
                  <a:lnTo>
                    <a:pt x="1239" y="1262"/>
                  </a:lnTo>
                  <a:lnTo>
                    <a:pt x="1239" y="1236"/>
                  </a:lnTo>
                  <a:lnTo>
                    <a:pt x="1239" y="1174"/>
                  </a:lnTo>
                  <a:lnTo>
                    <a:pt x="1231" y="1077"/>
                  </a:lnTo>
                  <a:lnTo>
                    <a:pt x="1222" y="966"/>
                  </a:lnTo>
                  <a:lnTo>
                    <a:pt x="1204" y="847"/>
                  </a:lnTo>
                  <a:lnTo>
                    <a:pt x="1186" y="746"/>
                  </a:lnTo>
                  <a:lnTo>
                    <a:pt x="1160" y="662"/>
                  </a:lnTo>
                  <a:lnTo>
                    <a:pt x="1133" y="604"/>
                  </a:lnTo>
                  <a:lnTo>
                    <a:pt x="1089" y="578"/>
                  </a:lnTo>
                  <a:lnTo>
                    <a:pt x="1027" y="551"/>
                  </a:lnTo>
                  <a:lnTo>
                    <a:pt x="965" y="529"/>
                  </a:lnTo>
                  <a:lnTo>
                    <a:pt x="903" y="503"/>
                  </a:lnTo>
                  <a:lnTo>
                    <a:pt x="837" y="490"/>
                  </a:lnTo>
                  <a:lnTo>
                    <a:pt x="793" y="476"/>
                  </a:lnTo>
                  <a:lnTo>
                    <a:pt x="757" y="468"/>
                  </a:lnTo>
                  <a:lnTo>
                    <a:pt x="739" y="459"/>
                  </a:lnTo>
                  <a:lnTo>
                    <a:pt x="757" y="379"/>
                  </a:lnTo>
                  <a:lnTo>
                    <a:pt x="819" y="269"/>
                  </a:lnTo>
                  <a:lnTo>
                    <a:pt x="819" y="260"/>
                  </a:lnTo>
                  <a:lnTo>
                    <a:pt x="819" y="247"/>
                  </a:lnTo>
                  <a:lnTo>
                    <a:pt x="828" y="220"/>
                  </a:lnTo>
                  <a:lnTo>
                    <a:pt x="828" y="189"/>
                  </a:lnTo>
                  <a:lnTo>
                    <a:pt x="828" y="158"/>
                  </a:lnTo>
                  <a:lnTo>
                    <a:pt x="828" y="128"/>
                  </a:lnTo>
                  <a:lnTo>
                    <a:pt x="810" y="92"/>
                  </a:lnTo>
                  <a:lnTo>
                    <a:pt x="793" y="75"/>
                  </a:lnTo>
                  <a:lnTo>
                    <a:pt x="766" y="52"/>
                  </a:lnTo>
                  <a:lnTo>
                    <a:pt x="757" y="30"/>
                  </a:lnTo>
                  <a:lnTo>
                    <a:pt x="739" y="17"/>
                  </a:lnTo>
                  <a:lnTo>
                    <a:pt x="731" y="4"/>
                  </a:lnTo>
                  <a:lnTo>
                    <a:pt x="713" y="0"/>
                  </a:lnTo>
                  <a:lnTo>
                    <a:pt x="686" y="0"/>
                  </a:lnTo>
                  <a:lnTo>
                    <a:pt x="651" y="4"/>
                  </a:lnTo>
                  <a:lnTo>
                    <a:pt x="588" y="13"/>
                  </a:lnTo>
                  <a:lnTo>
                    <a:pt x="526" y="26"/>
                  </a:lnTo>
                  <a:lnTo>
                    <a:pt x="482" y="39"/>
                  </a:lnTo>
                  <a:lnTo>
                    <a:pt x="455" y="52"/>
                  </a:lnTo>
                  <a:lnTo>
                    <a:pt x="438" y="61"/>
                  </a:lnTo>
                  <a:lnTo>
                    <a:pt x="424" y="75"/>
                  </a:lnTo>
                  <a:lnTo>
                    <a:pt x="415" y="88"/>
                  </a:lnTo>
                  <a:lnTo>
                    <a:pt x="398" y="110"/>
                  </a:lnTo>
                  <a:lnTo>
                    <a:pt x="371" y="128"/>
                  </a:lnTo>
                  <a:lnTo>
                    <a:pt x="345" y="158"/>
                  </a:lnTo>
                  <a:lnTo>
                    <a:pt x="336" y="189"/>
                  </a:lnTo>
                  <a:lnTo>
                    <a:pt x="336" y="225"/>
                  </a:lnTo>
                  <a:lnTo>
                    <a:pt x="336" y="260"/>
                  </a:lnTo>
                  <a:lnTo>
                    <a:pt x="345" y="287"/>
                  </a:lnTo>
                  <a:lnTo>
                    <a:pt x="345" y="317"/>
                  </a:lnTo>
                  <a:lnTo>
                    <a:pt x="353" y="331"/>
                  </a:lnTo>
                  <a:lnTo>
                    <a:pt x="362" y="335"/>
                  </a:lnTo>
                  <a:lnTo>
                    <a:pt x="446" y="468"/>
                  </a:lnTo>
                  <a:lnTo>
                    <a:pt x="455" y="521"/>
                  </a:lnTo>
                  <a:lnTo>
                    <a:pt x="438" y="529"/>
                  </a:lnTo>
                  <a:lnTo>
                    <a:pt x="398" y="556"/>
                  </a:lnTo>
                  <a:lnTo>
                    <a:pt x="345" y="600"/>
                  </a:lnTo>
                  <a:lnTo>
                    <a:pt x="274" y="649"/>
                  </a:lnTo>
                  <a:lnTo>
                    <a:pt x="212" y="697"/>
                  </a:lnTo>
                  <a:lnTo>
                    <a:pt x="150" y="746"/>
                  </a:lnTo>
                  <a:lnTo>
                    <a:pt x="115" y="777"/>
                  </a:lnTo>
                  <a:lnTo>
                    <a:pt x="97" y="799"/>
                  </a:lnTo>
                  <a:lnTo>
                    <a:pt x="97" y="834"/>
                  </a:lnTo>
                  <a:lnTo>
                    <a:pt x="88" y="905"/>
                  </a:lnTo>
                  <a:lnTo>
                    <a:pt x="70" y="984"/>
                  </a:lnTo>
                  <a:lnTo>
                    <a:pt x="53" y="1090"/>
                  </a:lnTo>
                  <a:lnTo>
                    <a:pt x="44" y="1192"/>
                  </a:lnTo>
                  <a:lnTo>
                    <a:pt x="26" y="1289"/>
                  </a:lnTo>
                  <a:lnTo>
                    <a:pt x="17" y="1364"/>
                  </a:lnTo>
                  <a:lnTo>
                    <a:pt x="17" y="1408"/>
                  </a:lnTo>
                  <a:lnTo>
                    <a:pt x="17" y="1443"/>
                  </a:lnTo>
                  <a:lnTo>
                    <a:pt x="8" y="1505"/>
                  </a:lnTo>
                  <a:lnTo>
                    <a:pt x="8" y="1580"/>
                  </a:lnTo>
                  <a:lnTo>
                    <a:pt x="0" y="1669"/>
                  </a:lnTo>
                  <a:lnTo>
                    <a:pt x="0" y="1762"/>
                  </a:lnTo>
                  <a:lnTo>
                    <a:pt x="0" y="1846"/>
                  </a:lnTo>
                  <a:lnTo>
                    <a:pt x="8" y="1921"/>
                  </a:lnTo>
                  <a:lnTo>
                    <a:pt x="17" y="1974"/>
                  </a:lnTo>
                  <a:lnTo>
                    <a:pt x="35" y="1987"/>
                  </a:lnTo>
                  <a:lnTo>
                    <a:pt x="53" y="2005"/>
                  </a:lnTo>
                  <a:lnTo>
                    <a:pt x="70" y="2005"/>
                  </a:lnTo>
                  <a:lnTo>
                    <a:pt x="97" y="2005"/>
                  </a:lnTo>
                  <a:lnTo>
                    <a:pt x="123" y="2005"/>
                  </a:lnTo>
                  <a:lnTo>
                    <a:pt x="141" y="1996"/>
                  </a:lnTo>
                  <a:lnTo>
                    <a:pt x="150" y="1996"/>
                  </a:lnTo>
                  <a:lnTo>
                    <a:pt x="159" y="1987"/>
                  </a:lnTo>
                  <a:lnTo>
                    <a:pt x="88" y="1921"/>
                  </a:lnTo>
                  <a:lnTo>
                    <a:pt x="203" y="1298"/>
                  </a:lnTo>
                  <a:lnTo>
                    <a:pt x="194" y="1939"/>
                  </a:lnTo>
                  <a:lnTo>
                    <a:pt x="371" y="3109"/>
                  </a:lnTo>
                  <a:lnTo>
                    <a:pt x="230" y="3277"/>
                  </a:lnTo>
                  <a:lnTo>
                    <a:pt x="203" y="3374"/>
                  </a:lnTo>
                  <a:lnTo>
                    <a:pt x="415" y="3317"/>
                  </a:lnTo>
                  <a:lnTo>
                    <a:pt x="597" y="3180"/>
                  </a:lnTo>
                  <a:lnTo>
                    <a:pt x="606" y="3180"/>
                  </a:lnTo>
                  <a:lnTo>
                    <a:pt x="632" y="3184"/>
                  </a:lnTo>
                  <a:lnTo>
                    <a:pt x="669" y="3193"/>
                  </a:lnTo>
                  <a:lnTo>
                    <a:pt x="713" y="3206"/>
                  </a:lnTo>
                  <a:lnTo>
                    <a:pt x="757" y="3211"/>
                  </a:lnTo>
                  <a:lnTo>
                    <a:pt x="801" y="3219"/>
                  </a:lnTo>
                  <a:lnTo>
                    <a:pt x="846" y="3228"/>
                  </a:lnTo>
                  <a:lnTo>
                    <a:pt x="877" y="3228"/>
                  </a:lnTo>
                  <a:lnTo>
                    <a:pt x="903" y="3228"/>
                  </a:lnTo>
                  <a:lnTo>
                    <a:pt x="930" y="3219"/>
                  </a:lnTo>
                  <a:lnTo>
                    <a:pt x="956" y="3211"/>
                  </a:lnTo>
                  <a:lnTo>
                    <a:pt x="983" y="3206"/>
                  </a:lnTo>
                  <a:lnTo>
                    <a:pt x="1009" y="3193"/>
                  </a:lnTo>
                  <a:lnTo>
                    <a:pt x="1027" y="3184"/>
                  </a:lnTo>
                  <a:lnTo>
                    <a:pt x="1036" y="3180"/>
                  </a:lnTo>
                  <a:lnTo>
                    <a:pt x="1045" y="3180"/>
                  </a:lnTo>
                  <a:lnTo>
                    <a:pt x="1000" y="3069"/>
                  </a:lnTo>
                  <a:lnTo>
                    <a:pt x="837" y="3025"/>
                  </a:lnTo>
                  <a:lnTo>
                    <a:pt x="992" y="1859"/>
                  </a:lnTo>
                  <a:lnTo>
                    <a:pt x="1054" y="1714"/>
                  </a:lnTo>
                  <a:lnTo>
                    <a:pt x="974" y="1081"/>
                  </a:lnTo>
                  <a:lnTo>
                    <a:pt x="1142" y="1714"/>
                  </a:lnTo>
                  <a:lnTo>
                    <a:pt x="1089" y="1780"/>
                  </a:lnTo>
                  <a:lnTo>
                    <a:pt x="1098" y="1780"/>
                  </a:lnTo>
                  <a:lnTo>
                    <a:pt x="1098" y="1789"/>
                  </a:lnTo>
                  <a:lnTo>
                    <a:pt x="1107" y="1789"/>
                  </a:lnTo>
                  <a:lnTo>
                    <a:pt x="1116" y="1798"/>
                  </a:lnTo>
                  <a:lnTo>
                    <a:pt x="1124" y="1802"/>
                  </a:lnTo>
                  <a:lnTo>
                    <a:pt x="1124" y="1873"/>
                  </a:lnTo>
                  <a:lnTo>
                    <a:pt x="1036" y="188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58000" y="4933800"/>
              <a:ext cx="498960" cy="1149840"/>
            </a:xfrm>
            <a:custGeom>
              <a:avLst/>
              <a:gdLst/>
              <a:ahLst/>
              <a:rect l="0" t="0" r="r" b="b"/>
              <a:pathLst>
                <a:path w="1386" h="3194">
                  <a:moveTo>
                    <a:pt x="1373" y="2894"/>
                  </a:moveTo>
                  <a:lnTo>
                    <a:pt x="1364" y="2894"/>
                  </a:lnTo>
                  <a:lnTo>
                    <a:pt x="1329" y="2889"/>
                  </a:lnTo>
                  <a:lnTo>
                    <a:pt x="1284" y="2876"/>
                  </a:lnTo>
                  <a:lnTo>
                    <a:pt x="1231" y="2854"/>
                  </a:lnTo>
                  <a:lnTo>
                    <a:pt x="1178" y="2828"/>
                  </a:lnTo>
                  <a:lnTo>
                    <a:pt x="1125" y="2792"/>
                  </a:lnTo>
                  <a:lnTo>
                    <a:pt x="1094" y="2757"/>
                  </a:lnTo>
                  <a:lnTo>
                    <a:pt x="1076" y="2717"/>
                  </a:lnTo>
                  <a:lnTo>
                    <a:pt x="1085" y="2660"/>
                  </a:lnTo>
                  <a:lnTo>
                    <a:pt x="1085" y="2572"/>
                  </a:lnTo>
                  <a:lnTo>
                    <a:pt x="1103" y="2474"/>
                  </a:lnTo>
                  <a:lnTo>
                    <a:pt x="1116" y="2367"/>
                  </a:lnTo>
                  <a:lnTo>
                    <a:pt x="1125" y="2270"/>
                  </a:lnTo>
                  <a:lnTo>
                    <a:pt x="1134" y="2191"/>
                  </a:lnTo>
                  <a:lnTo>
                    <a:pt x="1143" y="2133"/>
                  </a:lnTo>
                  <a:lnTo>
                    <a:pt x="1152" y="2111"/>
                  </a:lnTo>
                  <a:lnTo>
                    <a:pt x="1152" y="2107"/>
                  </a:lnTo>
                  <a:lnTo>
                    <a:pt x="1161" y="2107"/>
                  </a:lnTo>
                  <a:lnTo>
                    <a:pt x="1169" y="2094"/>
                  </a:lnTo>
                  <a:lnTo>
                    <a:pt x="1178" y="2080"/>
                  </a:lnTo>
                  <a:lnTo>
                    <a:pt x="1196" y="2058"/>
                  </a:lnTo>
                  <a:lnTo>
                    <a:pt x="1205" y="2032"/>
                  </a:lnTo>
                  <a:lnTo>
                    <a:pt x="1214" y="1988"/>
                  </a:lnTo>
                  <a:lnTo>
                    <a:pt x="1222" y="1935"/>
                  </a:lnTo>
                  <a:lnTo>
                    <a:pt x="1134" y="1347"/>
                  </a:lnTo>
                  <a:lnTo>
                    <a:pt x="1143" y="1338"/>
                  </a:lnTo>
                  <a:lnTo>
                    <a:pt x="1143" y="1347"/>
                  </a:lnTo>
                  <a:lnTo>
                    <a:pt x="1143" y="1361"/>
                  </a:lnTo>
                  <a:lnTo>
                    <a:pt x="1161" y="1378"/>
                  </a:lnTo>
                  <a:lnTo>
                    <a:pt x="1169" y="1400"/>
                  </a:lnTo>
                  <a:lnTo>
                    <a:pt x="1178" y="1422"/>
                  </a:lnTo>
                  <a:lnTo>
                    <a:pt x="1196" y="1436"/>
                  </a:lnTo>
                  <a:lnTo>
                    <a:pt x="1214" y="1436"/>
                  </a:lnTo>
                  <a:lnTo>
                    <a:pt x="1222" y="1427"/>
                  </a:lnTo>
                  <a:lnTo>
                    <a:pt x="1231" y="1409"/>
                  </a:lnTo>
                  <a:lnTo>
                    <a:pt x="1249" y="1387"/>
                  </a:lnTo>
                  <a:lnTo>
                    <a:pt x="1258" y="1365"/>
                  </a:lnTo>
                  <a:lnTo>
                    <a:pt x="1258" y="1338"/>
                  </a:lnTo>
                  <a:lnTo>
                    <a:pt x="1267" y="1316"/>
                  </a:lnTo>
                  <a:lnTo>
                    <a:pt x="1258" y="1290"/>
                  </a:lnTo>
                  <a:lnTo>
                    <a:pt x="1249" y="1255"/>
                  </a:lnTo>
                  <a:lnTo>
                    <a:pt x="1222" y="1228"/>
                  </a:lnTo>
                  <a:lnTo>
                    <a:pt x="1187" y="1180"/>
                  </a:lnTo>
                  <a:lnTo>
                    <a:pt x="1187" y="1131"/>
                  </a:lnTo>
                  <a:lnTo>
                    <a:pt x="1196" y="1082"/>
                  </a:lnTo>
                  <a:lnTo>
                    <a:pt x="1214" y="1029"/>
                  </a:lnTo>
                  <a:lnTo>
                    <a:pt x="1231" y="950"/>
                  </a:lnTo>
                  <a:lnTo>
                    <a:pt x="1231" y="857"/>
                  </a:lnTo>
                  <a:lnTo>
                    <a:pt x="1196" y="724"/>
                  </a:lnTo>
                  <a:lnTo>
                    <a:pt x="1134" y="551"/>
                  </a:lnTo>
                  <a:lnTo>
                    <a:pt x="1116" y="529"/>
                  </a:lnTo>
                  <a:lnTo>
                    <a:pt x="1085" y="507"/>
                  </a:lnTo>
                  <a:lnTo>
                    <a:pt x="1059" y="490"/>
                  </a:lnTo>
                  <a:lnTo>
                    <a:pt x="1022" y="472"/>
                  </a:lnTo>
                  <a:lnTo>
                    <a:pt x="987" y="459"/>
                  </a:lnTo>
                  <a:lnTo>
                    <a:pt x="960" y="454"/>
                  </a:lnTo>
                  <a:lnTo>
                    <a:pt x="934" y="445"/>
                  </a:lnTo>
                  <a:lnTo>
                    <a:pt x="925" y="445"/>
                  </a:lnTo>
                  <a:lnTo>
                    <a:pt x="934" y="445"/>
                  </a:lnTo>
                  <a:lnTo>
                    <a:pt x="943" y="441"/>
                  </a:lnTo>
                  <a:lnTo>
                    <a:pt x="952" y="441"/>
                  </a:lnTo>
                  <a:lnTo>
                    <a:pt x="969" y="432"/>
                  </a:lnTo>
                  <a:lnTo>
                    <a:pt x="987" y="419"/>
                  </a:lnTo>
                  <a:lnTo>
                    <a:pt x="996" y="406"/>
                  </a:lnTo>
                  <a:lnTo>
                    <a:pt x="1005" y="393"/>
                  </a:lnTo>
                  <a:lnTo>
                    <a:pt x="1014" y="370"/>
                  </a:lnTo>
                  <a:lnTo>
                    <a:pt x="1014" y="348"/>
                  </a:lnTo>
                  <a:lnTo>
                    <a:pt x="1014" y="331"/>
                  </a:lnTo>
                  <a:lnTo>
                    <a:pt x="1005" y="309"/>
                  </a:lnTo>
                  <a:lnTo>
                    <a:pt x="996" y="295"/>
                  </a:lnTo>
                  <a:lnTo>
                    <a:pt x="987" y="282"/>
                  </a:lnTo>
                  <a:lnTo>
                    <a:pt x="969" y="260"/>
                  </a:lnTo>
                  <a:lnTo>
                    <a:pt x="960" y="247"/>
                  </a:lnTo>
                  <a:lnTo>
                    <a:pt x="943" y="225"/>
                  </a:lnTo>
                  <a:lnTo>
                    <a:pt x="925" y="203"/>
                  </a:lnTo>
                  <a:lnTo>
                    <a:pt x="916" y="185"/>
                  </a:lnTo>
                  <a:lnTo>
                    <a:pt x="907" y="163"/>
                  </a:lnTo>
                  <a:lnTo>
                    <a:pt x="899" y="150"/>
                  </a:lnTo>
                  <a:lnTo>
                    <a:pt x="899" y="128"/>
                  </a:lnTo>
                  <a:lnTo>
                    <a:pt x="899" y="114"/>
                  </a:lnTo>
                  <a:lnTo>
                    <a:pt x="899" y="110"/>
                  </a:lnTo>
                  <a:lnTo>
                    <a:pt x="899" y="101"/>
                  </a:lnTo>
                  <a:lnTo>
                    <a:pt x="890" y="92"/>
                  </a:lnTo>
                  <a:lnTo>
                    <a:pt x="890" y="79"/>
                  </a:lnTo>
                  <a:lnTo>
                    <a:pt x="890" y="66"/>
                  </a:lnTo>
                  <a:lnTo>
                    <a:pt x="881" y="52"/>
                  </a:lnTo>
                  <a:lnTo>
                    <a:pt x="881" y="39"/>
                  </a:lnTo>
                  <a:lnTo>
                    <a:pt x="881" y="17"/>
                  </a:lnTo>
                  <a:lnTo>
                    <a:pt x="872" y="4"/>
                  </a:lnTo>
                  <a:lnTo>
                    <a:pt x="863" y="0"/>
                  </a:lnTo>
                  <a:lnTo>
                    <a:pt x="845" y="0"/>
                  </a:lnTo>
                  <a:lnTo>
                    <a:pt x="797" y="4"/>
                  </a:lnTo>
                  <a:lnTo>
                    <a:pt x="753" y="17"/>
                  </a:lnTo>
                  <a:lnTo>
                    <a:pt x="708" y="30"/>
                  </a:lnTo>
                  <a:lnTo>
                    <a:pt x="664" y="44"/>
                  </a:lnTo>
                  <a:lnTo>
                    <a:pt x="629" y="61"/>
                  </a:lnTo>
                  <a:lnTo>
                    <a:pt x="593" y="75"/>
                  </a:lnTo>
                  <a:lnTo>
                    <a:pt x="567" y="88"/>
                  </a:lnTo>
                  <a:lnTo>
                    <a:pt x="545" y="114"/>
                  </a:lnTo>
                  <a:lnTo>
                    <a:pt x="518" y="150"/>
                  </a:lnTo>
                  <a:lnTo>
                    <a:pt x="492" y="189"/>
                  </a:lnTo>
                  <a:lnTo>
                    <a:pt x="474" y="234"/>
                  </a:lnTo>
                  <a:lnTo>
                    <a:pt x="447" y="282"/>
                  </a:lnTo>
                  <a:lnTo>
                    <a:pt x="430" y="322"/>
                  </a:lnTo>
                  <a:lnTo>
                    <a:pt x="421" y="357"/>
                  </a:lnTo>
                  <a:lnTo>
                    <a:pt x="403" y="393"/>
                  </a:lnTo>
                  <a:lnTo>
                    <a:pt x="385" y="428"/>
                  </a:lnTo>
                  <a:lnTo>
                    <a:pt x="368" y="454"/>
                  </a:lnTo>
                  <a:lnTo>
                    <a:pt x="350" y="481"/>
                  </a:lnTo>
                  <a:lnTo>
                    <a:pt x="340" y="494"/>
                  </a:lnTo>
                  <a:lnTo>
                    <a:pt x="322" y="507"/>
                  </a:lnTo>
                  <a:lnTo>
                    <a:pt x="314" y="521"/>
                  </a:lnTo>
                  <a:lnTo>
                    <a:pt x="359" y="551"/>
                  </a:lnTo>
                  <a:lnTo>
                    <a:pt x="368" y="551"/>
                  </a:lnTo>
                  <a:lnTo>
                    <a:pt x="377" y="556"/>
                  </a:lnTo>
                  <a:lnTo>
                    <a:pt x="394" y="565"/>
                  </a:lnTo>
                  <a:lnTo>
                    <a:pt x="394" y="578"/>
                  </a:lnTo>
                  <a:lnTo>
                    <a:pt x="394" y="591"/>
                  </a:lnTo>
                  <a:lnTo>
                    <a:pt x="385" y="613"/>
                  </a:lnTo>
                  <a:lnTo>
                    <a:pt x="359" y="631"/>
                  </a:lnTo>
                  <a:lnTo>
                    <a:pt x="314" y="675"/>
                  </a:lnTo>
                  <a:lnTo>
                    <a:pt x="265" y="750"/>
                  </a:lnTo>
                  <a:lnTo>
                    <a:pt x="221" y="848"/>
                  </a:lnTo>
                  <a:lnTo>
                    <a:pt x="176" y="950"/>
                  </a:lnTo>
                  <a:lnTo>
                    <a:pt x="132" y="1065"/>
                  </a:lnTo>
                  <a:lnTo>
                    <a:pt x="106" y="1153"/>
                  </a:lnTo>
                  <a:lnTo>
                    <a:pt x="79" y="1219"/>
                  </a:lnTo>
                  <a:lnTo>
                    <a:pt x="70" y="1255"/>
                  </a:lnTo>
                  <a:lnTo>
                    <a:pt x="70" y="1263"/>
                  </a:lnTo>
                  <a:lnTo>
                    <a:pt x="79" y="1277"/>
                  </a:lnTo>
                  <a:lnTo>
                    <a:pt x="88" y="1286"/>
                  </a:lnTo>
                  <a:lnTo>
                    <a:pt x="97" y="1299"/>
                  </a:lnTo>
                  <a:lnTo>
                    <a:pt x="106" y="1312"/>
                  </a:lnTo>
                  <a:lnTo>
                    <a:pt x="115" y="1325"/>
                  </a:lnTo>
                  <a:lnTo>
                    <a:pt x="123" y="1338"/>
                  </a:lnTo>
                  <a:lnTo>
                    <a:pt x="141" y="1361"/>
                  </a:lnTo>
                  <a:lnTo>
                    <a:pt x="79" y="1533"/>
                  </a:lnTo>
                  <a:lnTo>
                    <a:pt x="61" y="1559"/>
                  </a:lnTo>
                  <a:lnTo>
                    <a:pt x="44" y="1617"/>
                  </a:lnTo>
                  <a:lnTo>
                    <a:pt x="26" y="1683"/>
                  </a:lnTo>
                  <a:lnTo>
                    <a:pt x="17" y="1762"/>
                  </a:lnTo>
                  <a:lnTo>
                    <a:pt x="8" y="1837"/>
                  </a:lnTo>
                  <a:lnTo>
                    <a:pt x="0" y="1904"/>
                  </a:lnTo>
                  <a:lnTo>
                    <a:pt x="8" y="1961"/>
                  </a:lnTo>
                  <a:lnTo>
                    <a:pt x="17" y="1983"/>
                  </a:lnTo>
                  <a:lnTo>
                    <a:pt x="26" y="1988"/>
                  </a:lnTo>
                  <a:lnTo>
                    <a:pt x="44" y="1988"/>
                  </a:lnTo>
                  <a:lnTo>
                    <a:pt x="70" y="1988"/>
                  </a:lnTo>
                  <a:lnTo>
                    <a:pt x="106" y="1988"/>
                  </a:lnTo>
                  <a:lnTo>
                    <a:pt x="132" y="1988"/>
                  </a:lnTo>
                  <a:lnTo>
                    <a:pt x="176" y="1983"/>
                  </a:lnTo>
                  <a:lnTo>
                    <a:pt x="212" y="1983"/>
                  </a:lnTo>
                  <a:lnTo>
                    <a:pt x="256" y="1974"/>
                  </a:lnTo>
                  <a:lnTo>
                    <a:pt x="247" y="2032"/>
                  </a:lnTo>
                  <a:lnTo>
                    <a:pt x="238" y="2080"/>
                  </a:lnTo>
                  <a:lnTo>
                    <a:pt x="230" y="2129"/>
                  </a:lnTo>
                  <a:lnTo>
                    <a:pt x="221" y="2169"/>
                  </a:lnTo>
                  <a:lnTo>
                    <a:pt x="221" y="2204"/>
                  </a:lnTo>
                  <a:lnTo>
                    <a:pt x="212" y="2230"/>
                  </a:lnTo>
                  <a:lnTo>
                    <a:pt x="212" y="2244"/>
                  </a:lnTo>
                  <a:lnTo>
                    <a:pt x="212" y="2253"/>
                  </a:lnTo>
                  <a:lnTo>
                    <a:pt x="221" y="2257"/>
                  </a:lnTo>
                  <a:lnTo>
                    <a:pt x="238" y="2266"/>
                  </a:lnTo>
                  <a:lnTo>
                    <a:pt x="265" y="2270"/>
                  </a:lnTo>
                  <a:lnTo>
                    <a:pt x="305" y="2279"/>
                  </a:lnTo>
                  <a:lnTo>
                    <a:pt x="331" y="2283"/>
                  </a:lnTo>
                  <a:lnTo>
                    <a:pt x="359" y="2283"/>
                  </a:lnTo>
                  <a:lnTo>
                    <a:pt x="377" y="2279"/>
                  </a:lnTo>
                  <a:lnTo>
                    <a:pt x="385" y="2266"/>
                  </a:lnTo>
                  <a:lnTo>
                    <a:pt x="394" y="2279"/>
                  </a:lnTo>
                  <a:lnTo>
                    <a:pt x="394" y="2301"/>
                  </a:lnTo>
                  <a:lnTo>
                    <a:pt x="412" y="2328"/>
                  </a:lnTo>
                  <a:lnTo>
                    <a:pt x="421" y="2363"/>
                  </a:lnTo>
                  <a:lnTo>
                    <a:pt x="438" y="2389"/>
                  </a:lnTo>
                  <a:lnTo>
                    <a:pt x="447" y="2417"/>
                  </a:lnTo>
                  <a:lnTo>
                    <a:pt x="456" y="2439"/>
                  </a:lnTo>
                  <a:lnTo>
                    <a:pt x="465" y="2443"/>
                  </a:lnTo>
                  <a:lnTo>
                    <a:pt x="456" y="2443"/>
                  </a:lnTo>
                  <a:lnTo>
                    <a:pt x="456" y="2452"/>
                  </a:lnTo>
                  <a:lnTo>
                    <a:pt x="456" y="2461"/>
                  </a:lnTo>
                  <a:lnTo>
                    <a:pt x="447" y="2479"/>
                  </a:lnTo>
                  <a:lnTo>
                    <a:pt x="447" y="2492"/>
                  </a:lnTo>
                  <a:lnTo>
                    <a:pt x="438" y="2523"/>
                  </a:lnTo>
                  <a:lnTo>
                    <a:pt x="438" y="2541"/>
                  </a:lnTo>
                  <a:lnTo>
                    <a:pt x="430" y="2576"/>
                  </a:lnTo>
                  <a:lnTo>
                    <a:pt x="430" y="2611"/>
                  </a:lnTo>
                  <a:lnTo>
                    <a:pt x="438" y="2660"/>
                  </a:lnTo>
                  <a:lnTo>
                    <a:pt x="456" y="2708"/>
                  </a:lnTo>
                  <a:lnTo>
                    <a:pt x="465" y="2761"/>
                  </a:lnTo>
                  <a:lnTo>
                    <a:pt x="483" y="2806"/>
                  </a:lnTo>
                  <a:lnTo>
                    <a:pt x="500" y="2845"/>
                  </a:lnTo>
                  <a:lnTo>
                    <a:pt x="509" y="2876"/>
                  </a:lnTo>
                  <a:lnTo>
                    <a:pt x="518" y="2881"/>
                  </a:lnTo>
                  <a:lnTo>
                    <a:pt x="447" y="3004"/>
                  </a:lnTo>
                  <a:lnTo>
                    <a:pt x="474" y="3163"/>
                  </a:lnTo>
                  <a:lnTo>
                    <a:pt x="474" y="3172"/>
                  </a:lnTo>
                  <a:lnTo>
                    <a:pt x="483" y="3172"/>
                  </a:lnTo>
                  <a:lnTo>
                    <a:pt x="500" y="3185"/>
                  </a:lnTo>
                  <a:lnTo>
                    <a:pt x="518" y="3194"/>
                  </a:lnTo>
                  <a:lnTo>
                    <a:pt x="545" y="3194"/>
                  </a:lnTo>
                  <a:lnTo>
                    <a:pt x="567" y="3194"/>
                  </a:lnTo>
                  <a:lnTo>
                    <a:pt x="593" y="3194"/>
                  </a:lnTo>
                  <a:lnTo>
                    <a:pt x="620" y="3176"/>
                  </a:lnTo>
                  <a:lnTo>
                    <a:pt x="638" y="3159"/>
                  </a:lnTo>
                  <a:lnTo>
                    <a:pt x="646" y="3137"/>
                  </a:lnTo>
                  <a:lnTo>
                    <a:pt x="655" y="3115"/>
                  </a:lnTo>
                  <a:lnTo>
                    <a:pt x="664" y="3097"/>
                  </a:lnTo>
                  <a:lnTo>
                    <a:pt x="673" y="3075"/>
                  </a:lnTo>
                  <a:lnTo>
                    <a:pt x="673" y="3053"/>
                  </a:lnTo>
                  <a:lnTo>
                    <a:pt x="682" y="3048"/>
                  </a:lnTo>
                  <a:lnTo>
                    <a:pt x="682" y="3040"/>
                  </a:lnTo>
                  <a:lnTo>
                    <a:pt x="629" y="2832"/>
                  </a:lnTo>
                  <a:lnTo>
                    <a:pt x="717" y="2381"/>
                  </a:lnTo>
                  <a:lnTo>
                    <a:pt x="735" y="2292"/>
                  </a:lnTo>
                  <a:lnTo>
                    <a:pt x="845" y="2270"/>
                  </a:lnTo>
                  <a:lnTo>
                    <a:pt x="845" y="2279"/>
                  </a:lnTo>
                  <a:lnTo>
                    <a:pt x="845" y="2292"/>
                  </a:lnTo>
                  <a:lnTo>
                    <a:pt x="845" y="2314"/>
                  </a:lnTo>
                  <a:lnTo>
                    <a:pt x="845" y="2341"/>
                  </a:lnTo>
                  <a:lnTo>
                    <a:pt x="845" y="2367"/>
                  </a:lnTo>
                  <a:lnTo>
                    <a:pt x="854" y="2413"/>
                  </a:lnTo>
                  <a:lnTo>
                    <a:pt x="854" y="2443"/>
                  </a:lnTo>
                  <a:lnTo>
                    <a:pt x="863" y="2488"/>
                  </a:lnTo>
                  <a:lnTo>
                    <a:pt x="872" y="2536"/>
                  </a:lnTo>
                  <a:lnTo>
                    <a:pt x="890" y="2585"/>
                  </a:lnTo>
                  <a:lnTo>
                    <a:pt x="907" y="2633"/>
                  </a:lnTo>
                  <a:lnTo>
                    <a:pt x="916" y="2682"/>
                  </a:lnTo>
                  <a:lnTo>
                    <a:pt x="934" y="2722"/>
                  </a:lnTo>
                  <a:lnTo>
                    <a:pt x="943" y="2757"/>
                  </a:lnTo>
                  <a:lnTo>
                    <a:pt x="952" y="2779"/>
                  </a:lnTo>
                  <a:lnTo>
                    <a:pt x="952" y="2783"/>
                  </a:lnTo>
                  <a:lnTo>
                    <a:pt x="925" y="2978"/>
                  </a:lnTo>
                  <a:lnTo>
                    <a:pt x="1005" y="2987"/>
                  </a:lnTo>
                  <a:lnTo>
                    <a:pt x="1005" y="2956"/>
                  </a:lnTo>
                  <a:lnTo>
                    <a:pt x="1022" y="2956"/>
                  </a:lnTo>
                  <a:lnTo>
                    <a:pt x="1041" y="2965"/>
                  </a:lnTo>
                  <a:lnTo>
                    <a:pt x="1068" y="2969"/>
                  </a:lnTo>
                  <a:lnTo>
                    <a:pt x="1094" y="2978"/>
                  </a:lnTo>
                  <a:lnTo>
                    <a:pt x="1125" y="2987"/>
                  </a:lnTo>
                  <a:lnTo>
                    <a:pt x="1161" y="2987"/>
                  </a:lnTo>
                  <a:lnTo>
                    <a:pt x="1187" y="2991"/>
                  </a:lnTo>
                  <a:lnTo>
                    <a:pt x="1222" y="3000"/>
                  </a:lnTo>
                  <a:lnTo>
                    <a:pt x="1258" y="2991"/>
                  </a:lnTo>
                  <a:lnTo>
                    <a:pt x="1293" y="2987"/>
                  </a:lnTo>
                  <a:lnTo>
                    <a:pt x="1320" y="2978"/>
                  </a:lnTo>
                  <a:lnTo>
                    <a:pt x="1346" y="2969"/>
                  </a:lnTo>
                  <a:lnTo>
                    <a:pt x="1364" y="2965"/>
                  </a:lnTo>
                  <a:lnTo>
                    <a:pt x="1386" y="2956"/>
                  </a:lnTo>
                  <a:lnTo>
                    <a:pt x="1386" y="2951"/>
                  </a:lnTo>
                  <a:lnTo>
                    <a:pt x="1373" y="28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4080" y="4908600"/>
              <a:ext cx="495720" cy="1151280"/>
            </a:xfrm>
            <a:custGeom>
              <a:avLst/>
              <a:gdLst/>
              <a:ahLst/>
              <a:rect l="0" t="0" r="r" b="b"/>
              <a:pathLst>
                <a:path w="1377" h="3198">
                  <a:moveTo>
                    <a:pt x="1355" y="2897"/>
                  </a:moveTo>
                  <a:lnTo>
                    <a:pt x="1346" y="2893"/>
                  </a:lnTo>
                  <a:lnTo>
                    <a:pt x="1311" y="2884"/>
                  </a:lnTo>
                  <a:lnTo>
                    <a:pt x="1267" y="2871"/>
                  </a:lnTo>
                  <a:lnTo>
                    <a:pt x="1214" y="2849"/>
                  </a:lnTo>
                  <a:lnTo>
                    <a:pt x="1161" y="2822"/>
                  </a:lnTo>
                  <a:lnTo>
                    <a:pt x="1116" y="2796"/>
                  </a:lnTo>
                  <a:lnTo>
                    <a:pt x="1081" y="2760"/>
                  </a:lnTo>
                  <a:lnTo>
                    <a:pt x="1072" y="2716"/>
                  </a:lnTo>
                  <a:lnTo>
                    <a:pt x="1072" y="2654"/>
                  </a:lnTo>
                  <a:lnTo>
                    <a:pt x="1081" y="2571"/>
                  </a:lnTo>
                  <a:lnTo>
                    <a:pt x="1090" y="2478"/>
                  </a:lnTo>
                  <a:lnTo>
                    <a:pt x="1099" y="2372"/>
                  </a:lnTo>
                  <a:lnTo>
                    <a:pt x="1116" y="2270"/>
                  </a:lnTo>
                  <a:lnTo>
                    <a:pt x="1125" y="2186"/>
                  </a:lnTo>
                  <a:lnTo>
                    <a:pt x="1134" y="2129"/>
                  </a:lnTo>
                  <a:lnTo>
                    <a:pt x="1134" y="2107"/>
                  </a:lnTo>
                  <a:lnTo>
                    <a:pt x="1143" y="2102"/>
                  </a:lnTo>
                  <a:lnTo>
                    <a:pt x="1152" y="2094"/>
                  </a:lnTo>
                  <a:lnTo>
                    <a:pt x="1169" y="2080"/>
                  </a:lnTo>
                  <a:lnTo>
                    <a:pt x="1178" y="2058"/>
                  </a:lnTo>
                  <a:lnTo>
                    <a:pt x="1196" y="2027"/>
                  </a:lnTo>
                  <a:lnTo>
                    <a:pt x="1205" y="1983"/>
                  </a:lnTo>
                  <a:lnTo>
                    <a:pt x="1205" y="1935"/>
                  </a:lnTo>
                  <a:lnTo>
                    <a:pt x="1125" y="1346"/>
                  </a:lnTo>
                  <a:lnTo>
                    <a:pt x="1125" y="1333"/>
                  </a:lnTo>
                  <a:lnTo>
                    <a:pt x="1125" y="1342"/>
                  </a:lnTo>
                  <a:lnTo>
                    <a:pt x="1134" y="1355"/>
                  </a:lnTo>
                  <a:lnTo>
                    <a:pt x="1143" y="1373"/>
                  </a:lnTo>
                  <a:lnTo>
                    <a:pt x="1152" y="1404"/>
                  </a:lnTo>
                  <a:lnTo>
                    <a:pt x="1169" y="1417"/>
                  </a:lnTo>
                  <a:lnTo>
                    <a:pt x="1178" y="1430"/>
                  </a:lnTo>
                  <a:lnTo>
                    <a:pt x="1196" y="1435"/>
                  </a:lnTo>
                  <a:lnTo>
                    <a:pt x="1205" y="1421"/>
                  </a:lnTo>
                  <a:lnTo>
                    <a:pt x="1222" y="1408"/>
                  </a:lnTo>
                  <a:lnTo>
                    <a:pt x="1231" y="1386"/>
                  </a:lnTo>
                  <a:lnTo>
                    <a:pt x="1240" y="1360"/>
                  </a:lnTo>
                  <a:lnTo>
                    <a:pt x="1249" y="1342"/>
                  </a:lnTo>
                  <a:lnTo>
                    <a:pt x="1249" y="1311"/>
                  </a:lnTo>
                  <a:lnTo>
                    <a:pt x="1240" y="1285"/>
                  </a:lnTo>
                  <a:lnTo>
                    <a:pt x="1231" y="1258"/>
                  </a:lnTo>
                  <a:lnTo>
                    <a:pt x="1205" y="1223"/>
                  </a:lnTo>
                  <a:lnTo>
                    <a:pt x="1178" y="1174"/>
                  </a:lnTo>
                  <a:lnTo>
                    <a:pt x="1169" y="1134"/>
                  </a:lnTo>
                  <a:lnTo>
                    <a:pt x="1187" y="1086"/>
                  </a:lnTo>
                  <a:lnTo>
                    <a:pt x="1205" y="1020"/>
                  </a:lnTo>
                  <a:lnTo>
                    <a:pt x="1214" y="953"/>
                  </a:lnTo>
                  <a:lnTo>
                    <a:pt x="1214" y="847"/>
                  </a:lnTo>
                  <a:lnTo>
                    <a:pt x="1187" y="724"/>
                  </a:lnTo>
                  <a:lnTo>
                    <a:pt x="1125" y="551"/>
                  </a:lnTo>
                  <a:lnTo>
                    <a:pt x="1107" y="525"/>
                  </a:lnTo>
                  <a:lnTo>
                    <a:pt x="1081" y="503"/>
                  </a:lnTo>
                  <a:lnTo>
                    <a:pt x="1046" y="481"/>
                  </a:lnTo>
                  <a:lnTo>
                    <a:pt x="1009" y="468"/>
                  </a:lnTo>
                  <a:lnTo>
                    <a:pt x="974" y="459"/>
                  </a:lnTo>
                  <a:lnTo>
                    <a:pt x="947" y="445"/>
                  </a:lnTo>
                  <a:lnTo>
                    <a:pt x="930" y="445"/>
                  </a:lnTo>
                  <a:lnTo>
                    <a:pt x="921" y="441"/>
                  </a:lnTo>
                  <a:lnTo>
                    <a:pt x="930" y="441"/>
                  </a:lnTo>
                  <a:lnTo>
                    <a:pt x="947" y="432"/>
                  </a:lnTo>
                  <a:lnTo>
                    <a:pt x="956" y="428"/>
                  </a:lnTo>
                  <a:lnTo>
                    <a:pt x="974" y="419"/>
                  </a:lnTo>
                  <a:lnTo>
                    <a:pt x="983" y="406"/>
                  </a:lnTo>
                  <a:lnTo>
                    <a:pt x="1000" y="384"/>
                  </a:lnTo>
                  <a:lnTo>
                    <a:pt x="1009" y="366"/>
                  </a:lnTo>
                  <a:lnTo>
                    <a:pt x="1009" y="344"/>
                  </a:lnTo>
                  <a:lnTo>
                    <a:pt x="1000" y="331"/>
                  </a:lnTo>
                  <a:lnTo>
                    <a:pt x="1000" y="309"/>
                  </a:lnTo>
                  <a:lnTo>
                    <a:pt x="991" y="287"/>
                  </a:lnTo>
                  <a:lnTo>
                    <a:pt x="974" y="273"/>
                  </a:lnTo>
                  <a:lnTo>
                    <a:pt x="965" y="260"/>
                  </a:lnTo>
                  <a:lnTo>
                    <a:pt x="947" y="238"/>
                  </a:lnTo>
                  <a:lnTo>
                    <a:pt x="930" y="225"/>
                  </a:lnTo>
                  <a:lnTo>
                    <a:pt x="907" y="207"/>
                  </a:lnTo>
                  <a:lnTo>
                    <a:pt x="899" y="185"/>
                  </a:lnTo>
                  <a:lnTo>
                    <a:pt x="890" y="163"/>
                  </a:lnTo>
                  <a:lnTo>
                    <a:pt x="890" y="141"/>
                  </a:lnTo>
                  <a:lnTo>
                    <a:pt x="890" y="128"/>
                  </a:lnTo>
                  <a:lnTo>
                    <a:pt x="881" y="114"/>
                  </a:lnTo>
                  <a:lnTo>
                    <a:pt x="881" y="101"/>
                  </a:lnTo>
                  <a:lnTo>
                    <a:pt x="881" y="92"/>
                  </a:lnTo>
                  <a:lnTo>
                    <a:pt x="881" y="88"/>
                  </a:lnTo>
                  <a:lnTo>
                    <a:pt x="872" y="79"/>
                  </a:lnTo>
                  <a:lnTo>
                    <a:pt x="872" y="66"/>
                  </a:lnTo>
                  <a:lnTo>
                    <a:pt x="872" y="44"/>
                  </a:lnTo>
                  <a:lnTo>
                    <a:pt x="863" y="30"/>
                  </a:lnTo>
                  <a:lnTo>
                    <a:pt x="863" y="17"/>
                  </a:lnTo>
                  <a:lnTo>
                    <a:pt x="863" y="4"/>
                  </a:lnTo>
                  <a:lnTo>
                    <a:pt x="854" y="0"/>
                  </a:lnTo>
                  <a:lnTo>
                    <a:pt x="828" y="0"/>
                  </a:lnTo>
                  <a:lnTo>
                    <a:pt x="792" y="4"/>
                  </a:lnTo>
                  <a:lnTo>
                    <a:pt x="748" y="13"/>
                  </a:lnTo>
                  <a:lnTo>
                    <a:pt x="704" y="26"/>
                  </a:lnTo>
                  <a:lnTo>
                    <a:pt x="651" y="44"/>
                  </a:lnTo>
                  <a:lnTo>
                    <a:pt x="615" y="61"/>
                  </a:lnTo>
                  <a:lnTo>
                    <a:pt x="580" y="75"/>
                  </a:lnTo>
                  <a:lnTo>
                    <a:pt x="562" y="88"/>
                  </a:lnTo>
                  <a:lnTo>
                    <a:pt x="536" y="114"/>
                  </a:lnTo>
                  <a:lnTo>
                    <a:pt x="509" y="150"/>
                  </a:lnTo>
                  <a:lnTo>
                    <a:pt x="483" y="189"/>
                  </a:lnTo>
                  <a:lnTo>
                    <a:pt x="465" y="234"/>
                  </a:lnTo>
                  <a:lnTo>
                    <a:pt x="443" y="273"/>
                  </a:lnTo>
                  <a:lnTo>
                    <a:pt x="425" y="317"/>
                  </a:lnTo>
                  <a:lnTo>
                    <a:pt x="407" y="357"/>
                  </a:lnTo>
                  <a:lnTo>
                    <a:pt x="399" y="393"/>
                  </a:lnTo>
                  <a:lnTo>
                    <a:pt x="381" y="428"/>
                  </a:lnTo>
                  <a:lnTo>
                    <a:pt x="363" y="454"/>
                  </a:lnTo>
                  <a:lnTo>
                    <a:pt x="346" y="476"/>
                  </a:lnTo>
                  <a:lnTo>
                    <a:pt x="327" y="494"/>
                  </a:lnTo>
                  <a:lnTo>
                    <a:pt x="318" y="507"/>
                  </a:lnTo>
                  <a:lnTo>
                    <a:pt x="300" y="516"/>
                  </a:lnTo>
                  <a:lnTo>
                    <a:pt x="300" y="525"/>
                  </a:lnTo>
                  <a:lnTo>
                    <a:pt x="346" y="543"/>
                  </a:lnTo>
                  <a:lnTo>
                    <a:pt x="354" y="551"/>
                  </a:lnTo>
                  <a:lnTo>
                    <a:pt x="372" y="556"/>
                  </a:lnTo>
                  <a:lnTo>
                    <a:pt x="381" y="565"/>
                  </a:lnTo>
                  <a:lnTo>
                    <a:pt x="390" y="574"/>
                  </a:lnTo>
                  <a:lnTo>
                    <a:pt x="390" y="591"/>
                  </a:lnTo>
                  <a:lnTo>
                    <a:pt x="372" y="604"/>
                  </a:lnTo>
                  <a:lnTo>
                    <a:pt x="346" y="627"/>
                  </a:lnTo>
                  <a:lnTo>
                    <a:pt x="300" y="671"/>
                  </a:lnTo>
                  <a:lnTo>
                    <a:pt x="256" y="746"/>
                  </a:lnTo>
                  <a:lnTo>
                    <a:pt x="212" y="843"/>
                  </a:lnTo>
                  <a:lnTo>
                    <a:pt x="168" y="953"/>
                  </a:lnTo>
                  <a:lnTo>
                    <a:pt x="132" y="1055"/>
                  </a:lnTo>
                  <a:lnTo>
                    <a:pt x="97" y="1152"/>
                  </a:lnTo>
                  <a:lnTo>
                    <a:pt x="70" y="1223"/>
                  </a:lnTo>
                  <a:lnTo>
                    <a:pt x="70" y="1258"/>
                  </a:lnTo>
                  <a:lnTo>
                    <a:pt x="70" y="1262"/>
                  </a:lnTo>
                  <a:lnTo>
                    <a:pt x="70" y="1271"/>
                  </a:lnTo>
                  <a:lnTo>
                    <a:pt x="79" y="1285"/>
                  </a:lnTo>
                  <a:lnTo>
                    <a:pt x="88" y="1298"/>
                  </a:lnTo>
                  <a:lnTo>
                    <a:pt x="97" y="1311"/>
                  </a:lnTo>
                  <a:lnTo>
                    <a:pt x="106" y="1324"/>
                  </a:lnTo>
                  <a:lnTo>
                    <a:pt x="123" y="1342"/>
                  </a:lnTo>
                  <a:lnTo>
                    <a:pt x="132" y="1355"/>
                  </a:lnTo>
                  <a:lnTo>
                    <a:pt x="79" y="1527"/>
                  </a:lnTo>
                  <a:lnTo>
                    <a:pt x="61" y="1554"/>
                  </a:lnTo>
                  <a:lnTo>
                    <a:pt x="35" y="1612"/>
                  </a:lnTo>
                  <a:lnTo>
                    <a:pt x="26" y="1679"/>
                  </a:lnTo>
                  <a:lnTo>
                    <a:pt x="8" y="1762"/>
                  </a:lnTo>
                  <a:lnTo>
                    <a:pt x="0" y="1837"/>
                  </a:lnTo>
                  <a:lnTo>
                    <a:pt x="0" y="1908"/>
                  </a:lnTo>
                  <a:lnTo>
                    <a:pt x="0" y="1957"/>
                  </a:lnTo>
                  <a:lnTo>
                    <a:pt x="17" y="1983"/>
                  </a:lnTo>
                  <a:lnTo>
                    <a:pt x="26" y="1983"/>
                  </a:lnTo>
                  <a:lnTo>
                    <a:pt x="44" y="1992"/>
                  </a:lnTo>
                  <a:lnTo>
                    <a:pt x="70" y="1992"/>
                  </a:lnTo>
                  <a:lnTo>
                    <a:pt x="97" y="1992"/>
                  </a:lnTo>
                  <a:lnTo>
                    <a:pt x="132" y="1983"/>
                  </a:lnTo>
                  <a:lnTo>
                    <a:pt x="168" y="1983"/>
                  </a:lnTo>
                  <a:lnTo>
                    <a:pt x="212" y="1979"/>
                  </a:lnTo>
                  <a:lnTo>
                    <a:pt x="247" y="1970"/>
                  </a:lnTo>
                  <a:lnTo>
                    <a:pt x="238" y="2027"/>
                  </a:lnTo>
                  <a:lnTo>
                    <a:pt x="230" y="2080"/>
                  </a:lnTo>
                  <a:lnTo>
                    <a:pt x="221" y="2129"/>
                  </a:lnTo>
                  <a:lnTo>
                    <a:pt x="221" y="2173"/>
                  </a:lnTo>
                  <a:lnTo>
                    <a:pt x="212" y="2204"/>
                  </a:lnTo>
                  <a:lnTo>
                    <a:pt x="212" y="2226"/>
                  </a:lnTo>
                  <a:lnTo>
                    <a:pt x="203" y="2248"/>
                  </a:lnTo>
                  <a:lnTo>
                    <a:pt x="203" y="2253"/>
                  </a:lnTo>
                  <a:lnTo>
                    <a:pt x="212" y="2253"/>
                  </a:lnTo>
                  <a:lnTo>
                    <a:pt x="230" y="2261"/>
                  </a:lnTo>
                  <a:lnTo>
                    <a:pt x="256" y="2270"/>
                  </a:lnTo>
                  <a:lnTo>
                    <a:pt x="291" y="2283"/>
                  </a:lnTo>
                  <a:lnTo>
                    <a:pt x="318" y="2283"/>
                  </a:lnTo>
                  <a:lnTo>
                    <a:pt x="354" y="2288"/>
                  </a:lnTo>
                  <a:lnTo>
                    <a:pt x="372" y="2283"/>
                  </a:lnTo>
                  <a:lnTo>
                    <a:pt x="381" y="2270"/>
                  </a:lnTo>
                  <a:lnTo>
                    <a:pt x="381" y="2283"/>
                  </a:lnTo>
                  <a:lnTo>
                    <a:pt x="390" y="2301"/>
                  </a:lnTo>
                  <a:lnTo>
                    <a:pt x="399" y="2332"/>
                  </a:lnTo>
                  <a:lnTo>
                    <a:pt x="416" y="2359"/>
                  </a:lnTo>
                  <a:lnTo>
                    <a:pt x="425" y="2394"/>
                  </a:lnTo>
                  <a:lnTo>
                    <a:pt x="443" y="2420"/>
                  </a:lnTo>
                  <a:lnTo>
                    <a:pt x="452" y="2434"/>
                  </a:lnTo>
                  <a:lnTo>
                    <a:pt x="452" y="2442"/>
                  </a:lnTo>
                  <a:lnTo>
                    <a:pt x="452" y="2447"/>
                  </a:lnTo>
                  <a:lnTo>
                    <a:pt x="443" y="2460"/>
                  </a:lnTo>
                  <a:lnTo>
                    <a:pt x="443" y="2478"/>
                  </a:lnTo>
                  <a:lnTo>
                    <a:pt x="434" y="2495"/>
                  </a:lnTo>
                  <a:lnTo>
                    <a:pt x="425" y="2518"/>
                  </a:lnTo>
                  <a:lnTo>
                    <a:pt x="425" y="2544"/>
                  </a:lnTo>
                  <a:lnTo>
                    <a:pt x="416" y="2571"/>
                  </a:lnTo>
                  <a:lnTo>
                    <a:pt x="416" y="2615"/>
                  </a:lnTo>
                  <a:lnTo>
                    <a:pt x="425" y="2654"/>
                  </a:lnTo>
                  <a:lnTo>
                    <a:pt x="443" y="2712"/>
                  </a:lnTo>
                  <a:lnTo>
                    <a:pt x="465" y="2760"/>
                  </a:lnTo>
                  <a:lnTo>
                    <a:pt x="483" y="2809"/>
                  </a:lnTo>
                  <a:lnTo>
                    <a:pt x="492" y="2849"/>
                  </a:lnTo>
                  <a:lnTo>
                    <a:pt x="509" y="2871"/>
                  </a:lnTo>
                  <a:lnTo>
                    <a:pt x="509" y="2884"/>
                  </a:lnTo>
                  <a:lnTo>
                    <a:pt x="443" y="3003"/>
                  </a:lnTo>
                  <a:lnTo>
                    <a:pt x="465" y="3167"/>
                  </a:lnTo>
                  <a:lnTo>
                    <a:pt x="474" y="3167"/>
                  </a:lnTo>
                  <a:lnTo>
                    <a:pt x="483" y="3175"/>
                  </a:lnTo>
                  <a:lnTo>
                    <a:pt x="500" y="3180"/>
                  </a:lnTo>
                  <a:lnTo>
                    <a:pt x="518" y="3189"/>
                  </a:lnTo>
                  <a:lnTo>
                    <a:pt x="536" y="3198"/>
                  </a:lnTo>
                  <a:lnTo>
                    <a:pt x="562" y="3198"/>
                  </a:lnTo>
                  <a:lnTo>
                    <a:pt x="580" y="3189"/>
                  </a:lnTo>
                  <a:lnTo>
                    <a:pt x="607" y="3180"/>
                  </a:lnTo>
                  <a:lnTo>
                    <a:pt x="624" y="3162"/>
                  </a:lnTo>
                  <a:lnTo>
                    <a:pt x="642" y="3140"/>
                  </a:lnTo>
                  <a:lnTo>
                    <a:pt x="651" y="3114"/>
                  </a:lnTo>
                  <a:lnTo>
                    <a:pt x="660" y="3092"/>
                  </a:lnTo>
                  <a:lnTo>
                    <a:pt x="660" y="3069"/>
                  </a:lnTo>
                  <a:lnTo>
                    <a:pt x="669" y="3056"/>
                  </a:lnTo>
                  <a:lnTo>
                    <a:pt x="669" y="3043"/>
                  </a:lnTo>
                  <a:lnTo>
                    <a:pt x="615" y="2835"/>
                  </a:lnTo>
                  <a:lnTo>
                    <a:pt x="704" y="2385"/>
                  </a:lnTo>
                  <a:lnTo>
                    <a:pt x="722" y="2297"/>
                  </a:lnTo>
                  <a:lnTo>
                    <a:pt x="828" y="2275"/>
                  </a:lnTo>
                  <a:lnTo>
                    <a:pt x="828" y="2288"/>
                  </a:lnTo>
                  <a:lnTo>
                    <a:pt x="828" y="2310"/>
                  </a:lnTo>
                  <a:lnTo>
                    <a:pt x="837" y="2336"/>
                  </a:lnTo>
                  <a:lnTo>
                    <a:pt x="837" y="2372"/>
                  </a:lnTo>
                  <a:lnTo>
                    <a:pt x="837" y="2407"/>
                  </a:lnTo>
                  <a:lnTo>
                    <a:pt x="845" y="2447"/>
                  </a:lnTo>
                  <a:lnTo>
                    <a:pt x="854" y="2482"/>
                  </a:lnTo>
                  <a:lnTo>
                    <a:pt x="863" y="2531"/>
                  </a:lnTo>
                  <a:lnTo>
                    <a:pt x="872" y="2588"/>
                  </a:lnTo>
                  <a:lnTo>
                    <a:pt x="890" y="2637"/>
                  </a:lnTo>
                  <a:lnTo>
                    <a:pt x="907" y="2685"/>
                  </a:lnTo>
                  <a:lnTo>
                    <a:pt x="921" y="2725"/>
                  </a:lnTo>
                  <a:lnTo>
                    <a:pt x="930" y="2752"/>
                  </a:lnTo>
                  <a:lnTo>
                    <a:pt x="938" y="2774"/>
                  </a:lnTo>
                  <a:lnTo>
                    <a:pt x="938" y="2787"/>
                  </a:lnTo>
                  <a:lnTo>
                    <a:pt x="921" y="2981"/>
                  </a:lnTo>
                  <a:lnTo>
                    <a:pt x="991" y="2981"/>
                  </a:lnTo>
                  <a:lnTo>
                    <a:pt x="991" y="2955"/>
                  </a:lnTo>
                  <a:lnTo>
                    <a:pt x="1000" y="2959"/>
                  </a:lnTo>
                  <a:lnTo>
                    <a:pt x="1009" y="2959"/>
                  </a:lnTo>
                  <a:lnTo>
                    <a:pt x="1027" y="2968"/>
                  </a:lnTo>
                  <a:lnTo>
                    <a:pt x="1054" y="2968"/>
                  </a:lnTo>
                  <a:lnTo>
                    <a:pt x="1081" y="2972"/>
                  </a:lnTo>
                  <a:lnTo>
                    <a:pt x="1107" y="2981"/>
                  </a:lnTo>
                  <a:lnTo>
                    <a:pt x="1143" y="2986"/>
                  </a:lnTo>
                  <a:lnTo>
                    <a:pt x="1178" y="2994"/>
                  </a:lnTo>
                  <a:lnTo>
                    <a:pt x="1205" y="2994"/>
                  </a:lnTo>
                  <a:lnTo>
                    <a:pt x="1240" y="2994"/>
                  </a:lnTo>
                  <a:lnTo>
                    <a:pt x="1276" y="2986"/>
                  </a:lnTo>
                  <a:lnTo>
                    <a:pt x="1302" y="2981"/>
                  </a:lnTo>
                  <a:lnTo>
                    <a:pt x="1329" y="2968"/>
                  </a:lnTo>
                  <a:lnTo>
                    <a:pt x="1346" y="2959"/>
                  </a:lnTo>
                  <a:lnTo>
                    <a:pt x="1364" y="2955"/>
                  </a:lnTo>
                  <a:lnTo>
                    <a:pt x="1377" y="2955"/>
                  </a:lnTo>
                  <a:lnTo>
                    <a:pt x="1355" y="289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5480" y="5340240"/>
              <a:ext cx="1751400" cy="1053000"/>
            </a:xfrm>
            <a:custGeom>
              <a:avLst/>
              <a:gdLst/>
              <a:ahLst/>
              <a:rect l="0" t="0" r="r" b="b"/>
              <a:pathLst>
                <a:path w="4865" h="2925">
                  <a:moveTo>
                    <a:pt x="4274" y="2036"/>
                  </a:moveTo>
                  <a:lnTo>
                    <a:pt x="4865" y="0"/>
                  </a:lnTo>
                  <a:lnTo>
                    <a:pt x="587" y="884"/>
                  </a:lnTo>
                  <a:lnTo>
                    <a:pt x="0" y="2925"/>
                  </a:lnTo>
                  <a:lnTo>
                    <a:pt x="4274" y="20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91440" y="5665680"/>
              <a:ext cx="514800" cy="197280"/>
            </a:xfrm>
            <a:custGeom>
              <a:avLst/>
              <a:gdLst/>
              <a:ahLst/>
              <a:rect l="0" t="0" r="r" b="b"/>
              <a:pathLst>
                <a:path w="1430" h="548">
                  <a:moveTo>
                    <a:pt x="0" y="548"/>
                  </a:moveTo>
                  <a:lnTo>
                    <a:pt x="176" y="245"/>
                  </a:lnTo>
                  <a:lnTo>
                    <a:pt x="1280" y="0"/>
                  </a:lnTo>
                  <a:lnTo>
                    <a:pt x="1430" y="218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2600" y="5521320"/>
              <a:ext cx="1537200" cy="1109880"/>
            </a:xfrm>
            <a:custGeom>
              <a:avLst/>
              <a:gdLst/>
              <a:ahLst/>
              <a:rect l="0" t="0" r="r" b="b"/>
              <a:pathLst>
                <a:path w="4270" h="3083">
                  <a:moveTo>
                    <a:pt x="4270" y="2195"/>
                  </a:moveTo>
                  <a:lnTo>
                    <a:pt x="4270" y="0"/>
                  </a:lnTo>
                  <a:lnTo>
                    <a:pt x="0" y="883"/>
                  </a:lnTo>
                  <a:lnTo>
                    <a:pt x="0" y="3083"/>
                  </a:lnTo>
                  <a:lnTo>
                    <a:pt x="4270" y="219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16960" y="5160960"/>
              <a:ext cx="468720" cy="1211760"/>
            </a:xfrm>
            <a:custGeom>
              <a:avLst/>
              <a:gdLst/>
              <a:ahLst/>
              <a:rect l="0" t="0" r="r" b="b"/>
              <a:pathLst>
                <a:path w="1302" h="3366">
                  <a:moveTo>
                    <a:pt x="1050" y="1886"/>
                  </a:moveTo>
                  <a:lnTo>
                    <a:pt x="1050" y="2673"/>
                  </a:lnTo>
                  <a:lnTo>
                    <a:pt x="1302" y="2620"/>
                  </a:lnTo>
                  <a:lnTo>
                    <a:pt x="1302" y="1829"/>
                  </a:lnTo>
                  <a:lnTo>
                    <a:pt x="1209" y="1851"/>
                  </a:lnTo>
                  <a:lnTo>
                    <a:pt x="1209" y="1789"/>
                  </a:lnTo>
                  <a:lnTo>
                    <a:pt x="1218" y="1780"/>
                  </a:lnTo>
                  <a:lnTo>
                    <a:pt x="1227" y="1767"/>
                  </a:lnTo>
                  <a:lnTo>
                    <a:pt x="1236" y="1753"/>
                  </a:lnTo>
                  <a:lnTo>
                    <a:pt x="1245" y="1740"/>
                  </a:lnTo>
                  <a:lnTo>
                    <a:pt x="1254" y="1727"/>
                  </a:lnTo>
                  <a:lnTo>
                    <a:pt x="1263" y="1714"/>
                  </a:lnTo>
                  <a:lnTo>
                    <a:pt x="1263" y="1705"/>
                  </a:lnTo>
                  <a:lnTo>
                    <a:pt x="1245" y="1617"/>
                  </a:lnTo>
                  <a:lnTo>
                    <a:pt x="1254" y="1263"/>
                  </a:lnTo>
                  <a:lnTo>
                    <a:pt x="1254" y="1237"/>
                  </a:lnTo>
                  <a:lnTo>
                    <a:pt x="1245" y="1171"/>
                  </a:lnTo>
                  <a:lnTo>
                    <a:pt x="1245" y="1078"/>
                  </a:lnTo>
                  <a:lnTo>
                    <a:pt x="1227" y="967"/>
                  </a:lnTo>
                  <a:lnTo>
                    <a:pt x="1218" y="848"/>
                  </a:lnTo>
                  <a:lnTo>
                    <a:pt x="1201" y="741"/>
                  </a:lnTo>
                  <a:lnTo>
                    <a:pt x="1174" y="653"/>
                  </a:lnTo>
                  <a:lnTo>
                    <a:pt x="1139" y="604"/>
                  </a:lnTo>
                  <a:lnTo>
                    <a:pt x="1094" y="578"/>
                  </a:lnTo>
                  <a:lnTo>
                    <a:pt x="1041" y="551"/>
                  </a:lnTo>
                  <a:lnTo>
                    <a:pt x="979" y="521"/>
                  </a:lnTo>
                  <a:lnTo>
                    <a:pt x="912" y="503"/>
                  </a:lnTo>
                  <a:lnTo>
                    <a:pt x="850" y="490"/>
                  </a:lnTo>
                  <a:lnTo>
                    <a:pt x="797" y="472"/>
                  </a:lnTo>
                  <a:lnTo>
                    <a:pt x="762" y="459"/>
                  </a:lnTo>
                  <a:lnTo>
                    <a:pt x="753" y="459"/>
                  </a:lnTo>
                  <a:lnTo>
                    <a:pt x="762" y="379"/>
                  </a:lnTo>
                  <a:lnTo>
                    <a:pt x="823" y="269"/>
                  </a:lnTo>
                  <a:lnTo>
                    <a:pt x="823" y="260"/>
                  </a:lnTo>
                  <a:lnTo>
                    <a:pt x="832" y="238"/>
                  </a:lnTo>
                  <a:lnTo>
                    <a:pt x="832" y="220"/>
                  </a:lnTo>
                  <a:lnTo>
                    <a:pt x="841" y="189"/>
                  </a:lnTo>
                  <a:lnTo>
                    <a:pt x="841" y="154"/>
                  </a:lnTo>
                  <a:lnTo>
                    <a:pt x="832" y="123"/>
                  </a:lnTo>
                  <a:lnTo>
                    <a:pt x="823" y="92"/>
                  </a:lnTo>
                  <a:lnTo>
                    <a:pt x="797" y="75"/>
                  </a:lnTo>
                  <a:lnTo>
                    <a:pt x="779" y="52"/>
                  </a:lnTo>
                  <a:lnTo>
                    <a:pt x="762" y="30"/>
                  </a:lnTo>
                  <a:lnTo>
                    <a:pt x="753" y="17"/>
                  </a:lnTo>
                  <a:lnTo>
                    <a:pt x="744" y="4"/>
                  </a:lnTo>
                  <a:lnTo>
                    <a:pt x="726" y="0"/>
                  </a:lnTo>
                  <a:lnTo>
                    <a:pt x="700" y="0"/>
                  </a:lnTo>
                  <a:lnTo>
                    <a:pt x="655" y="0"/>
                  </a:lnTo>
                  <a:lnTo>
                    <a:pt x="589" y="13"/>
                  </a:lnTo>
                  <a:lnTo>
                    <a:pt x="527" y="26"/>
                  </a:lnTo>
                  <a:lnTo>
                    <a:pt x="483" y="39"/>
                  </a:lnTo>
                  <a:lnTo>
                    <a:pt x="456" y="44"/>
                  </a:lnTo>
                  <a:lnTo>
                    <a:pt x="447" y="61"/>
                  </a:lnTo>
                  <a:lnTo>
                    <a:pt x="439" y="66"/>
                  </a:lnTo>
                  <a:lnTo>
                    <a:pt x="430" y="79"/>
                  </a:lnTo>
                  <a:lnTo>
                    <a:pt x="412" y="101"/>
                  </a:lnTo>
                  <a:lnTo>
                    <a:pt x="377" y="128"/>
                  </a:lnTo>
                  <a:lnTo>
                    <a:pt x="359" y="154"/>
                  </a:lnTo>
                  <a:lnTo>
                    <a:pt x="341" y="189"/>
                  </a:lnTo>
                  <a:lnTo>
                    <a:pt x="341" y="225"/>
                  </a:lnTo>
                  <a:lnTo>
                    <a:pt x="341" y="251"/>
                  </a:lnTo>
                  <a:lnTo>
                    <a:pt x="350" y="287"/>
                  </a:lnTo>
                  <a:lnTo>
                    <a:pt x="359" y="313"/>
                  </a:lnTo>
                  <a:lnTo>
                    <a:pt x="368" y="331"/>
                  </a:lnTo>
                  <a:lnTo>
                    <a:pt x="368" y="335"/>
                  </a:lnTo>
                  <a:lnTo>
                    <a:pt x="377" y="472"/>
                  </a:lnTo>
                  <a:lnTo>
                    <a:pt x="465" y="521"/>
                  </a:lnTo>
                  <a:lnTo>
                    <a:pt x="447" y="529"/>
                  </a:lnTo>
                  <a:lnTo>
                    <a:pt x="403" y="556"/>
                  </a:lnTo>
                  <a:lnTo>
                    <a:pt x="350" y="600"/>
                  </a:lnTo>
                  <a:lnTo>
                    <a:pt x="283" y="649"/>
                  </a:lnTo>
                  <a:lnTo>
                    <a:pt x="212" y="697"/>
                  </a:lnTo>
                  <a:lnTo>
                    <a:pt x="159" y="737"/>
                  </a:lnTo>
                  <a:lnTo>
                    <a:pt x="115" y="777"/>
                  </a:lnTo>
                  <a:lnTo>
                    <a:pt x="106" y="799"/>
                  </a:lnTo>
                  <a:lnTo>
                    <a:pt x="97" y="834"/>
                  </a:lnTo>
                  <a:lnTo>
                    <a:pt x="88" y="897"/>
                  </a:lnTo>
                  <a:lnTo>
                    <a:pt x="79" y="985"/>
                  </a:lnTo>
                  <a:lnTo>
                    <a:pt x="61" y="1091"/>
                  </a:lnTo>
                  <a:lnTo>
                    <a:pt x="44" y="1193"/>
                  </a:lnTo>
                  <a:lnTo>
                    <a:pt x="35" y="1285"/>
                  </a:lnTo>
                  <a:lnTo>
                    <a:pt x="26" y="1360"/>
                  </a:lnTo>
                  <a:lnTo>
                    <a:pt x="17" y="1409"/>
                  </a:lnTo>
                  <a:lnTo>
                    <a:pt x="17" y="1444"/>
                  </a:lnTo>
                  <a:lnTo>
                    <a:pt x="8" y="1497"/>
                  </a:lnTo>
                  <a:lnTo>
                    <a:pt x="8" y="1581"/>
                  </a:lnTo>
                  <a:lnTo>
                    <a:pt x="0" y="1665"/>
                  </a:lnTo>
                  <a:lnTo>
                    <a:pt x="0" y="1758"/>
                  </a:lnTo>
                  <a:lnTo>
                    <a:pt x="0" y="1842"/>
                  </a:lnTo>
                  <a:lnTo>
                    <a:pt x="8" y="1917"/>
                  </a:lnTo>
                  <a:lnTo>
                    <a:pt x="26" y="1974"/>
                  </a:lnTo>
                  <a:lnTo>
                    <a:pt x="35" y="1987"/>
                  </a:lnTo>
                  <a:lnTo>
                    <a:pt x="53" y="2001"/>
                  </a:lnTo>
                  <a:lnTo>
                    <a:pt x="79" y="2001"/>
                  </a:lnTo>
                  <a:lnTo>
                    <a:pt x="97" y="2001"/>
                  </a:lnTo>
                  <a:lnTo>
                    <a:pt x="123" y="1996"/>
                  </a:lnTo>
                  <a:lnTo>
                    <a:pt x="141" y="1996"/>
                  </a:lnTo>
                  <a:lnTo>
                    <a:pt x="159" y="1987"/>
                  </a:lnTo>
                  <a:lnTo>
                    <a:pt x="88" y="1917"/>
                  </a:lnTo>
                  <a:lnTo>
                    <a:pt x="212" y="1290"/>
                  </a:lnTo>
                  <a:lnTo>
                    <a:pt x="203" y="1939"/>
                  </a:lnTo>
                  <a:lnTo>
                    <a:pt x="377" y="3110"/>
                  </a:lnTo>
                  <a:lnTo>
                    <a:pt x="238" y="3273"/>
                  </a:lnTo>
                  <a:lnTo>
                    <a:pt x="212" y="3366"/>
                  </a:lnTo>
                  <a:lnTo>
                    <a:pt x="430" y="3318"/>
                  </a:lnTo>
                  <a:lnTo>
                    <a:pt x="607" y="3172"/>
                  </a:lnTo>
                  <a:lnTo>
                    <a:pt x="616" y="3176"/>
                  </a:lnTo>
                  <a:lnTo>
                    <a:pt x="642" y="3185"/>
                  </a:lnTo>
                  <a:lnTo>
                    <a:pt x="682" y="3189"/>
                  </a:lnTo>
                  <a:lnTo>
                    <a:pt x="726" y="3198"/>
                  </a:lnTo>
                  <a:lnTo>
                    <a:pt x="770" y="3212"/>
                  </a:lnTo>
                  <a:lnTo>
                    <a:pt x="815" y="3220"/>
                  </a:lnTo>
                  <a:lnTo>
                    <a:pt x="850" y="3225"/>
                  </a:lnTo>
                  <a:lnTo>
                    <a:pt x="885" y="3225"/>
                  </a:lnTo>
                  <a:lnTo>
                    <a:pt x="903" y="3225"/>
                  </a:lnTo>
                  <a:lnTo>
                    <a:pt x="939" y="3220"/>
                  </a:lnTo>
                  <a:lnTo>
                    <a:pt x="965" y="3212"/>
                  </a:lnTo>
                  <a:lnTo>
                    <a:pt x="997" y="3198"/>
                  </a:lnTo>
                  <a:lnTo>
                    <a:pt x="1015" y="3189"/>
                  </a:lnTo>
                  <a:lnTo>
                    <a:pt x="1032" y="3185"/>
                  </a:lnTo>
                  <a:lnTo>
                    <a:pt x="1050" y="3176"/>
                  </a:lnTo>
                  <a:lnTo>
                    <a:pt x="1006" y="3066"/>
                  </a:lnTo>
                  <a:lnTo>
                    <a:pt x="850" y="3026"/>
                  </a:lnTo>
                  <a:lnTo>
                    <a:pt x="997" y="1855"/>
                  </a:lnTo>
                  <a:lnTo>
                    <a:pt x="1059" y="1714"/>
                  </a:lnTo>
                  <a:lnTo>
                    <a:pt x="979" y="1082"/>
                  </a:lnTo>
                  <a:lnTo>
                    <a:pt x="1148" y="1714"/>
                  </a:lnTo>
                  <a:lnTo>
                    <a:pt x="1103" y="1776"/>
                  </a:lnTo>
                  <a:lnTo>
                    <a:pt x="1103" y="1780"/>
                  </a:lnTo>
                  <a:lnTo>
                    <a:pt x="1112" y="1780"/>
                  </a:lnTo>
                  <a:lnTo>
                    <a:pt x="1112" y="1789"/>
                  </a:lnTo>
                  <a:lnTo>
                    <a:pt x="1121" y="1789"/>
                  </a:lnTo>
                  <a:lnTo>
                    <a:pt x="1130" y="1793"/>
                  </a:lnTo>
                  <a:lnTo>
                    <a:pt x="1139" y="1793"/>
                  </a:lnTo>
                  <a:lnTo>
                    <a:pt x="1139" y="1864"/>
                  </a:lnTo>
                  <a:lnTo>
                    <a:pt x="1050" y="18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48640" y="5141880"/>
              <a:ext cx="470160" cy="1213200"/>
            </a:xfrm>
            <a:custGeom>
              <a:avLst/>
              <a:gdLst/>
              <a:ahLst/>
              <a:rect l="0" t="0" r="r" b="b"/>
              <a:pathLst>
                <a:path w="1306" h="3370">
                  <a:moveTo>
                    <a:pt x="1045" y="1886"/>
                  </a:moveTo>
                  <a:lnTo>
                    <a:pt x="1045" y="2676"/>
                  </a:lnTo>
                  <a:lnTo>
                    <a:pt x="1306" y="2619"/>
                  </a:lnTo>
                  <a:lnTo>
                    <a:pt x="1306" y="1833"/>
                  </a:lnTo>
                  <a:lnTo>
                    <a:pt x="1204" y="1851"/>
                  </a:lnTo>
                  <a:lnTo>
                    <a:pt x="1204" y="1789"/>
                  </a:lnTo>
                  <a:lnTo>
                    <a:pt x="1213" y="1784"/>
                  </a:lnTo>
                  <a:lnTo>
                    <a:pt x="1222" y="1771"/>
                  </a:lnTo>
                  <a:lnTo>
                    <a:pt x="1239" y="1753"/>
                  </a:lnTo>
                  <a:lnTo>
                    <a:pt x="1248" y="1740"/>
                  </a:lnTo>
                  <a:lnTo>
                    <a:pt x="1248" y="1727"/>
                  </a:lnTo>
                  <a:lnTo>
                    <a:pt x="1257" y="1714"/>
                  </a:lnTo>
                  <a:lnTo>
                    <a:pt x="1257" y="1705"/>
                  </a:lnTo>
                  <a:lnTo>
                    <a:pt x="1266" y="1705"/>
                  </a:lnTo>
                  <a:lnTo>
                    <a:pt x="1239" y="1624"/>
                  </a:lnTo>
                  <a:lnTo>
                    <a:pt x="1239" y="1616"/>
                  </a:lnTo>
                  <a:lnTo>
                    <a:pt x="1248" y="1262"/>
                  </a:lnTo>
                  <a:lnTo>
                    <a:pt x="1248" y="1236"/>
                  </a:lnTo>
                  <a:lnTo>
                    <a:pt x="1239" y="1174"/>
                  </a:lnTo>
                  <a:lnTo>
                    <a:pt x="1239" y="1077"/>
                  </a:lnTo>
                  <a:lnTo>
                    <a:pt x="1231" y="966"/>
                  </a:lnTo>
                  <a:lnTo>
                    <a:pt x="1213" y="847"/>
                  </a:lnTo>
                  <a:lnTo>
                    <a:pt x="1195" y="746"/>
                  </a:lnTo>
                  <a:lnTo>
                    <a:pt x="1169" y="653"/>
                  </a:lnTo>
                  <a:lnTo>
                    <a:pt x="1133" y="604"/>
                  </a:lnTo>
                  <a:lnTo>
                    <a:pt x="1089" y="578"/>
                  </a:lnTo>
                  <a:lnTo>
                    <a:pt x="1031" y="551"/>
                  </a:lnTo>
                  <a:lnTo>
                    <a:pt x="970" y="525"/>
                  </a:lnTo>
                  <a:lnTo>
                    <a:pt x="908" y="503"/>
                  </a:lnTo>
                  <a:lnTo>
                    <a:pt x="846" y="490"/>
                  </a:lnTo>
                  <a:lnTo>
                    <a:pt x="793" y="476"/>
                  </a:lnTo>
                  <a:lnTo>
                    <a:pt x="762" y="468"/>
                  </a:lnTo>
                  <a:lnTo>
                    <a:pt x="744" y="459"/>
                  </a:lnTo>
                  <a:lnTo>
                    <a:pt x="753" y="379"/>
                  </a:lnTo>
                  <a:lnTo>
                    <a:pt x="819" y="269"/>
                  </a:lnTo>
                  <a:lnTo>
                    <a:pt x="828" y="260"/>
                  </a:lnTo>
                  <a:lnTo>
                    <a:pt x="828" y="238"/>
                  </a:lnTo>
                  <a:lnTo>
                    <a:pt x="837" y="220"/>
                  </a:lnTo>
                  <a:lnTo>
                    <a:pt x="837" y="189"/>
                  </a:lnTo>
                  <a:lnTo>
                    <a:pt x="837" y="158"/>
                  </a:lnTo>
                  <a:lnTo>
                    <a:pt x="828" y="123"/>
                  </a:lnTo>
                  <a:lnTo>
                    <a:pt x="819" y="92"/>
                  </a:lnTo>
                  <a:lnTo>
                    <a:pt x="801" y="75"/>
                  </a:lnTo>
                  <a:lnTo>
                    <a:pt x="770" y="52"/>
                  </a:lnTo>
                  <a:lnTo>
                    <a:pt x="753" y="30"/>
                  </a:lnTo>
                  <a:lnTo>
                    <a:pt x="744" y="17"/>
                  </a:lnTo>
                  <a:lnTo>
                    <a:pt x="735" y="4"/>
                  </a:lnTo>
                  <a:lnTo>
                    <a:pt x="717" y="0"/>
                  </a:lnTo>
                  <a:lnTo>
                    <a:pt x="691" y="0"/>
                  </a:lnTo>
                  <a:lnTo>
                    <a:pt x="655" y="0"/>
                  </a:lnTo>
                  <a:lnTo>
                    <a:pt x="592" y="13"/>
                  </a:lnTo>
                  <a:lnTo>
                    <a:pt x="522" y="26"/>
                  </a:lnTo>
                  <a:lnTo>
                    <a:pt x="482" y="39"/>
                  </a:lnTo>
                  <a:lnTo>
                    <a:pt x="455" y="44"/>
                  </a:lnTo>
                  <a:lnTo>
                    <a:pt x="438" y="61"/>
                  </a:lnTo>
                  <a:lnTo>
                    <a:pt x="429" y="66"/>
                  </a:lnTo>
                  <a:lnTo>
                    <a:pt x="420" y="88"/>
                  </a:lnTo>
                  <a:lnTo>
                    <a:pt x="402" y="101"/>
                  </a:lnTo>
                  <a:lnTo>
                    <a:pt x="376" y="128"/>
                  </a:lnTo>
                  <a:lnTo>
                    <a:pt x="349" y="158"/>
                  </a:lnTo>
                  <a:lnTo>
                    <a:pt x="340" y="189"/>
                  </a:lnTo>
                  <a:lnTo>
                    <a:pt x="331" y="225"/>
                  </a:lnTo>
                  <a:lnTo>
                    <a:pt x="340" y="260"/>
                  </a:lnTo>
                  <a:lnTo>
                    <a:pt x="340" y="287"/>
                  </a:lnTo>
                  <a:lnTo>
                    <a:pt x="349" y="317"/>
                  </a:lnTo>
                  <a:lnTo>
                    <a:pt x="358" y="331"/>
                  </a:lnTo>
                  <a:lnTo>
                    <a:pt x="358" y="335"/>
                  </a:lnTo>
                  <a:lnTo>
                    <a:pt x="367" y="476"/>
                  </a:lnTo>
                  <a:lnTo>
                    <a:pt x="455" y="525"/>
                  </a:lnTo>
                  <a:lnTo>
                    <a:pt x="438" y="529"/>
                  </a:lnTo>
                  <a:lnTo>
                    <a:pt x="402" y="556"/>
                  </a:lnTo>
                  <a:lnTo>
                    <a:pt x="340" y="600"/>
                  </a:lnTo>
                  <a:lnTo>
                    <a:pt x="278" y="649"/>
                  </a:lnTo>
                  <a:lnTo>
                    <a:pt x="212" y="697"/>
                  </a:lnTo>
                  <a:lnTo>
                    <a:pt x="150" y="737"/>
                  </a:lnTo>
                  <a:lnTo>
                    <a:pt x="106" y="781"/>
                  </a:lnTo>
                  <a:lnTo>
                    <a:pt x="97" y="799"/>
                  </a:lnTo>
                  <a:lnTo>
                    <a:pt x="88" y="834"/>
                  </a:lnTo>
                  <a:lnTo>
                    <a:pt x="79" y="896"/>
                  </a:lnTo>
                  <a:lnTo>
                    <a:pt x="70" y="989"/>
                  </a:lnTo>
                  <a:lnTo>
                    <a:pt x="53" y="1090"/>
                  </a:lnTo>
                  <a:lnTo>
                    <a:pt x="35" y="1196"/>
                  </a:lnTo>
                  <a:lnTo>
                    <a:pt x="26" y="1289"/>
                  </a:lnTo>
                  <a:lnTo>
                    <a:pt x="17" y="1359"/>
                  </a:lnTo>
                  <a:lnTo>
                    <a:pt x="8" y="1408"/>
                  </a:lnTo>
                  <a:lnTo>
                    <a:pt x="8" y="1443"/>
                  </a:lnTo>
                  <a:lnTo>
                    <a:pt x="8" y="1496"/>
                  </a:lnTo>
                  <a:lnTo>
                    <a:pt x="0" y="1580"/>
                  </a:lnTo>
                  <a:lnTo>
                    <a:pt x="0" y="1664"/>
                  </a:lnTo>
                  <a:lnTo>
                    <a:pt x="0" y="1762"/>
                  </a:lnTo>
                  <a:lnTo>
                    <a:pt x="0" y="1846"/>
                  </a:lnTo>
                  <a:lnTo>
                    <a:pt x="8" y="1921"/>
                  </a:lnTo>
                  <a:lnTo>
                    <a:pt x="17" y="1979"/>
                  </a:lnTo>
                  <a:lnTo>
                    <a:pt x="26" y="1992"/>
                  </a:lnTo>
                  <a:lnTo>
                    <a:pt x="53" y="2005"/>
                  </a:lnTo>
                  <a:lnTo>
                    <a:pt x="70" y="2005"/>
                  </a:lnTo>
                  <a:lnTo>
                    <a:pt x="97" y="2005"/>
                  </a:lnTo>
                  <a:lnTo>
                    <a:pt x="115" y="2005"/>
                  </a:lnTo>
                  <a:lnTo>
                    <a:pt x="132" y="1996"/>
                  </a:lnTo>
                  <a:lnTo>
                    <a:pt x="150" y="1992"/>
                  </a:lnTo>
                  <a:lnTo>
                    <a:pt x="159" y="1992"/>
                  </a:lnTo>
                  <a:lnTo>
                    <a:pt x="79" y="1921"/>
                  </a:lnTo>
                  <a:lnTo>
                    <a:pt x="203" y="1298"/>
                  </a:lnTo>
                  <a:lnTo>
                    <a:pt x="194" y="1943"/>
                  </a:lnTo>
                  <a:lnTo>
                    <a:pt x="376" y="3113"/>
                  </a:lnTo>
                  <a:lnTo>
                    <a:pt x="230" y="3277"/>
                  </a:lnTo>
                  <a:lnTo>
                    <a:pt x="203" y="3370"/>
                  </a:lnTo>
                  <a:lnTo>
                    <a:pt x="420" y="3321"/>
                  </a:lnTo>
                  <a:lnTo>
                    <a:pt x="601" y="3175"/>
                  </a:lnTo>
                  <a:lnTo>
                    <a:pt x="610" y="3180"/>
                  </a:lnTo>
                  <a:lnTo>
                    <a:pt x="637" y="3188"/>
                  </a:lnTo>
                  <a:lnTo>
                    <a:pt x="673" y="3193"/>
                  </a:lnTo>
                  <a:lnTo>
                    <a:pt x="717" y="3202"/>
                  </a:lnTo>
                  <a:lnTo>
                    <a:pt x="762" y="3215"/>
                  </a:lnTo>
                  <a:lnTo>
                    <a:pt x="810" y="3224"/>
                  </a:lnTo>
                  <a:lnTo>
                    <a:pt x="846" y="3228"/>
                  </a:lnTo>
                  <a:lnTo>
                    <a:pt x="881" y="3228"/>
                  </a:lnTo>
                  <a:lnTo>
                    <a:pt x="908" y="3228"/>
                  </a:lnTo>
                  <a:lnTo>
                    <a:pt x="934" y="3224"/>
                  </a:lnTo>
                  <a:lnTo>
                    <a:pt x="961" y="3215"/>
                  </a:lnTo>
                  <a:lnTo>
                    <a:pt x="987" y="3202"/>
                  </a:lnTo>
                  <a:lnTo>
                    <a:pt x="1014" y="3193"/>
                  </a:lnTo>
                  <a:lnTo>
                    <a:pt x="1031" y="3188"/>
                  </a:lnTo>
                  <a:lnTo>
                    <a:pt x="1045" y="3180"/>
                  </a:lnTo>
                  <a:lnTo>
                    <a:pt x="1054" y="3180"/>
                  </a:lnTo>
                  <a:lnTo>
                    <a:pt x="996" y="3069"/>
                  </a:lnTo>
                  <a:lnTo>
                    <a:pt x="846" y="3030"/>
                  </a:lnTo>
                  <a:lnTo>
                    <a:pt x="987" y="1859"/>
                  </a:lnTo>
                  <a:lnTo>
                    <a:pt x="1054" y="1714"/>
                  </a:lnTo>
                  <a:lnTo>
                    <a:pt x="978" y="1081"/>
                  </a:lnTo>
                  <a:lnTo>
                    <a:pt x="1142" y="1714"/>
                  </a:lnTo>
                  <a:lnTo>
                    <a:pt x="1098" y="1776"/>
                  </a:lnTo>
                  <a:lnTo>
                    <a:pt x="1098" y="1784"/>
                  </a:lnTo>
                  <a:lnTo>
                    <a:pt x="1107" y="1784"/>
                  </a:lnTo>
                  <a:lnTo>
                    <a:pt x="1116" y="1789"/>
                  </a:lnTo>
                  <a:lnTo>
                    <a:pt x="1124" y="1798"/>
                  </a:lnTo>
                  <a:lnTo>
                    <a:pt x="1133" y="1798"/>
                  </a:lnTo>
                  <a:lnTo>
                    <a:pt x="1133" y="1868"/>
                  </a:lnTo>
                  <a:lnTo>
                    <a:pt x="1045" y="188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78680" y="5130720"/>
              <a:ext cx="476640" cy="1229040"/>
            </a:xfrm>
            <a:custGeom>
              <a:avLst/>
              <a:gdLst/>
              <a:ahLst/>
              <a:rect l="0" t="0" r="r" b="b"/>
              <a:pathLst>
                <a:path w="1324" h="3414">
                  <a:moveTo>
                    <a:pt x="269" y="1842"/>
                  </a:moveTo>
                  <a:lnTo>
                    <a:pt x="247" y="1996"/>
                  </a:lnTo>
                  <a:lnTo>
                    <a:pt x="70" y="1851"/>
                  </a:lnTo>
                  <a:lnTo>
                    <a:pt x="115" y="1523"/>
                  </a:lnTo>
                  <a:lnTo>
                    <a:pt x="0" y="1315"/>
                  </a:lnTo>
                  <a:lnTo>
                    <a:pt x="0" y="1298"/>
                  </a:lnTo>
                  <a:lnTo>
                    <a:pt x="17" y="1253"/>
                  </a:lnTo>
                  <a:lnTo>
                    <a:pt x="35" y="1192"/>
                  </a:lnTo>
                  <a:lnTo>
                    <a:pt x="53" y="1117"/>
                  </a:lnTo>
                  <a:lnTo>
                    <a:pt x="79" y="1033"/>
                  </a:lnTo>
                  <a:lnTo>
                    <a:pt x="115" y="958"/>
                  </a:lnTo>
                  <a:lnTo>
                    <a:pt x="150" y="887"/>
                  </a:lnTo>
                  <a:lnTo>
                    <a:pt x="185" y="834"/>
                  </a:lnTo>
                  <a:lnTo>
                    <a:pt x="230" y="785"/>
                  </a:lnTo>
                  <a:lnTo>
                    <a:pt x="287" y="737"/>
                  </a:lnTo>
                  <a:lnTo>
                    <a:pt x="350" y="679"/>
                  </a:lnTo>
                  <a:lnTo>
                    <a:pt x="412" y="631"/>
                  </a:lnTo>
                  <a:lnTo>
                    <a:pt x="474" y="591"/>
                  </a:lnTo>
                  <a:lnTo>
                    <a:pt x="531" y="556"/>
                  </a:lnTo>
                  <a:lnTo>
                    <a:pt x="558" y="538"/>
                  </a:lnTo>
                  <a:lnTo>
                    <a:pt x="576" y="529"/>
                  </a:lnTo>
                  <a:lnTo>
                    <a:pt x="567" y="445"/>
                  </a:lnTo>
                  <a:lnTo>
                    <a:pt x="500" y="362"/>
                  </a:lnTo>
                  <a:lnTo>
                    <a:pt x="492" y="357"/>
                  </a:lnTo>
                  <a:lnTo>
                    <a:pt x="492" y="344"/>
                  </a:lnTo>
                  <a:lnTo>
                    <a:pt x="483" y="322"/>
                  </a:lnTo>
                  <a:lnTo>
                    <a:pt x="483" y="295"/>
                  </a:lnTo>
                  <a:lnTo>
                    <a:pt x="483" y="260"/>
                  </a:lnTo>
                  <a:lnTo>
                    <a:pt x="492" y="225"/>
                  </a:lnTo>
                  <a:lnTo>
                    <a:pt x="500" y="189"/>
                  </a:lnTo>
                  <a:lnTo>
                    <a:pt x="531" y="154"/>
                  </a:lnTo>
                  <a:lnTo>
                    <a:pt x="549" y="128"/>
                  </a:lnTo>
                  <a:lnTo>
                    <a:pt x="567" y="110"/>
                  </a:lnTo>
                  <a:lnTo>
                    <a:pt x="576" y="88"/>
                  </a:lnTo>
                  <a:lnTo>
                    <a:pt x="585" y="66"/>
                  </a:lnTo>
                  <a:lnTo>
                    <a:pt x="602" y="52"/>
                  </a:lnTo>
                  <a:lnTo>
                    <a:pt x="629" y="39"/>
                  </a:lnTo>
                  <a:lnTo>
                    <a:pt x="673" y="26"/>
                  </a:lnTo>
                  <a:lnTo>
                    <a:pt x="726" y="13"/>
                  </a:lnTo>
                  <a:lnTo>
                    <a:pt x="801" y="4"/>
                  </a:lnTo>
                  <a:lnTo>
                    <a:pt x="837" y="0"/>
                  </a:lnTo>
                  <a:lnTo>
                    <a:pt x="863" y="0"/>
                  </a:lnTo>
                  <a:lnTo>
                    <a:pt x="881" y="0"/>
                  </a:lnTo>
                  <a:lnTo>
                    <a:pt x="890" y="4"/>
                  </a:lnTo>
                  <a:lnTo>
                    <a:pt x="899" y="17"/>
                  </a:lnTo>
                  <a:lnTo>
                    <a:pt x="916" y="30"/>
                  </a:lnTo>
                  <a:lnTo>
                    <a:pt x="943" y="44"/>
                  </a:lnTo>
                  <a:lnTo>
                    <a:pt x="969" y="61"/>
                  </a:lnTo>
                  <a:lnTo>
                    <a:pt x="978" y="88"/>
                  </a:lnTo>
                  <a:lnTo>
                    <a:pt x="987" y="123"/>
                  </a:lnTo>
                  <a:lnTo>
                    <a:pt x="978" y="154"/>
                  </a:lnTo>
                  <a:lnTo>
                    <a:pt x="978" y="189"/>
                  </a:lnTo>
                  <a:lnTo>
                    <a:pt x="969" y="220"/>
                  </a:lnTo>
                  <a:lnTo>
                    <a:pt x="961" y="238"/>
                  </a:lnTo>
                  <a:lnTo>
                    <a:pt x="961" y="247"/>
                  </a:lnTo>
                  <a:lnTo>
                    <a:pt x="872" y="410"/>
                  </a:lnTo>
                  <a:lnTo>
                    <a:pt x="863" y="468"/>
                  </a:lnTo>
                  <a:lnTo>
                    <a:pt x="881" y="472"/>
                  </a:lnTo>
                  <a:lnTo>
                    <a:pt x="916" y="481"/>
                  </a:lnTo>
                  <a:lnTo>
                    <a:pt x="978" y="503"/>
                  </a:lnTo>
                  <a:lnTo>
                    <a:pt x="1041" y="521"/>
                  </a:lnTo>
                  <a:lnTo>
                    <a:pt x="1108" y="543"/>
                  </a:lnTo>
                  <a:lnTo>
                    <a:pt x="1170" y="565"/>
                  </a:lnTo>
                  <a:lnTo>
                    <a:pt x="1205" y="587"/>
                  </a:lnTo>
                  <a:lnTo>
                    <a:pt x="1223" y="600"/>
                  </a:lnTo>
                  <a:lnTo>
                    <a:pt x="1232" y="631"/>
                  </a:lnTo>
                  <a:lnTo>
                    <a:pt x="1240" y="697"/>
                  </a:lnTo>
                  <a:lnTo>
                    <a:pt x="1249" y="777"/>
                  </a:lnTo>
                  <a:lnTo>
                    <a:pt x="1267" y="869"/>
                  </a:lnTo>
                  <a:lnTo>
                    <a:pt x="1285" y="966"/>
                  </a:lnTo>
                  <a:lnTo>
                    <a:pt x="1293" y="1055"/>
                  </a:lnTo>
                  <a:lnTo>
                    <a:pt x="1302" y="1130"/>
                  </a:lnTo>
                  <a:lnTo>
                    <a:pt x="1311" y="1174"/>
                  </a:lnTo>
                  <a:lnTo>
                    <a:pt x="1311" y="1205"/>
                  </a:lnTo>
                  <a:lnTo>
                    <a:pt x="1311" y="1262"/>
                  </a:lnTo>
                  <a:lnTo>
                    <a:pt x="1324" y="1337"/>
                  </a:lnTo>
                  <a:lnTo>
                    <a:pt x="1324" y="1426"/>
                  </a:lnTo>
                  <a:lnTo>
                    <a:pt x="1324" y="1518"/>
                  </a:lnTo>
                  <a:lnTo>
                    <a:pt x="1324" y="1602"/>
                  </a:lnTo>
                  <a:lnTo>
                    <a:pt x="1311" y="1677"/>
                  </a:lnTo>
                  <a:lnTo>
                    <a:pt x="1302" y="1740"/>
                  </a:lnTo>
                  <a:lnTo>
                    <a:pt x="1293" y="1762"/>
                  </a:lnTo>
                  <a:lnTo>
                    <a:pt x="1267" y="1780"/>
                  </a:lnTo>
                  <a:lnTo>
                    <a:pt x="1249" y="1793"/>
                  </a:lnTo>
                  <a:lnTo>
                    <a:pt x="1223" y="1802"/>
                  </a:lnTo>
                  <a:lnTo>
                    <a:pt x="1205" y="1806"/>
                  </a:lnTo>
                  <a:lnTo>
                    <a:pt x="1187" y="1806"/>
                  </a:lnTo>
                  <a:lnTo>
                    <a:pt x="1170" y="1815"/>
                  </a:lnTo>
                  <a:lnTo>
                    <a:pt x="1178" y="1762"/>
                  </a:lnTo>
                  <a:lnTo>
                    <a:pt x="1240" y="1714"/>
                  </a:lnTo>
                  <a:lnTo>
                    <a:pt x="1125" y="1780"/>
                  </a:lnTo>
                  <a:lnTo>
                    <a:pt x="1161" y="2221"/>
                  </a:lnTo>
                  <a:lnTo>
                    <a:pt x="1134" y="2367"/>
                  </a:lnTo>
                  <a:lnTo>
                    <a:pt x="969" y="2919"/>
                  </a:lnTo>
                  <a:lnTo>
                    <a:pt x="1170" y="3003"/>
                  </a:lnTo>
                  <a:lnTo>
                    <a:pt x="1196" y="3087"/>
                  </a:lnTo>
                  <a:lnTo>
                    <a:pt x="978" y="3122"/>
                  </a:lnTo>
                  <a:lnTo>
                    <a:pt x="717" y="3184"/>
                  </a:lnTo>
                  <a:lnTo>
                    <a:pt x="708" y="3188"/>
                  </a:lnTo>
                  <a:lnTo>
                    <a:pt x="700" y="3211"/>
                  </a:lnTo>
                  <a:lnTo>
                    <a:pt x="673" y="3237"/>
                  </a:lnTo>
                  <a:lnTo>
                    <a:pt x="646" y="3281"/>
                  </a:lnTo>
                  <a:lnTo>
                    <a:pt x="620" y="3316"/>
                  </a:lnTo>
                  <a:lnTo>
                    <a:pt x="585" y="3347"/>
                  </a:lnTo>
                  <a:lnTo>
                    <a:pt x="558" y="3378"/>
                  </a:lnTo>
                  <a:lnTo>
                    <a:pt x="531" y="3392"/>
                  </a:lnTo>
                  <a:lnTo>
                    <a:pt x="500" y="3396"/>
                  </a:lnTo>
                  <a:lnTo>
                    <a:pt x="474" y="3405"/>
                  </a:lnTo>
                  <a:lnTo>
                    <a:pt x="447" y="3414"/>
                  </a:lnTo>
                  <a:lnTo>
                    <a:pt x="421" y="3414"/>
                  </a:lnTo>
                  <a:lnTo>
                    <a:pt x="394" y="3414"/>
                  </a:lnTo>
                  <a:lnTo>
                    <a:pt x="377" y="3414"/>
                  </a:lnTo>
                  <a:lnTo>
                    <a:pt x="368" y="3414"/>
                  </a:lnTo>
                  <a:lnTo>
                    <a:pt x="359" y="3414"/>
                  </a:lnTo>
                  <a:lnTo>
                    <a:pt x="412" y="3281"/>
                  </a:lnTo>
                  <a:lnTo>
                    <a:pt x="474" y="3127"/>
                  </a:lnTo>
                  <a:lnTo>
                    <a:pt x="322" y="2584"/>
                  </a:lnTo>
                  <a:lnTo>
                    <a:pt x="287" y="2036"/>
                  </a:lnTo>
                  <a:lnTo>
                    <a:pt x="269" y="18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3600" y="5132520"/>
              <a:ext cx="479880" cy="1230840"/>
            </a:xfrm>
            <a:custGeom>
              <a:avLst/>
              <a:gdLst/>
              <a:ahLst/>
              <a:rect l="0" t="0" r="r" b="b"/>
              <a:pathLst>
                <a:path w="1333" h="3419">
                  <a:moveTo>
                    <a:pt x="269" y="1846"/>
                  </a:moveTo>
                  <a:lnTo>
                    <a:pt x="247" y="2005"/>
                  </a:lnTo>
                  <a:lnTo>
                    <a:pt x="79" y="1851"/>
                  </a:lnTo>
                  <a:lnTo>
                    <a:pt x="123" y="1533"/>
                  </a:lnTo>
                  <a:lnTo>
                    <a:pt x="0" y="1321"/>
                  </a:lnTo>
                  <a:lnTo>
                    <a:pt x="8" y="1307"/>
                  </a:lnTo>
                  <a:lnTo>
                    <a:pt x="17" y="1263"/>
                  </a:lnTo>
                  <a:lnTo>
                    <a:pt x="35" y="1201"/>
                  </a:lnTo>
                  <a:lnTo>
                    <a:pt x="61" y="1126"/>
                  </a:lnTo>
                  <a:lnTo>
                    <a:pt x="88" y="1043"/>
                  </a:lnTo>
                  <a:lnTo>
                    <a:pt x="115" y="967"/>
                  </a:lnTo>
                  <a:lnTo>
                    <a:pt x="150" y="892"/>
                  </a:lnTo>
                  <a:lnTo>
                    <a:pt x="185" y="843"/>
                  </a:lnTo>
                  <a:lnTo>
                    <a:pt x="230" y="794"/>
                  </a:lnTo>
                  <a:lnTo>
                    <a:pt x="287" y="737"/>
                  </a:lnTo>
                  <a:lnTo>
                    <a:pt x="359" y="688"/>
                  </a:lnTo>
                  <a:lnTo>
                    <a:pt x="421" y="640"/>
                  </a:lnTo>
                  <a:lnTo>
                    <a:pt x="483" y="600"/>
                  </a:lnTo>
                  <a:lnTo>
                    <a:pt x="527" y="565"/>
                  </a:lnTo>
                  <a:lnTo>
                    <a:pt x="567" y="543"/>
                  </a:lnTo>
                  <a:lnTo>
                    <a:pt x="576" y="529"/>
                  </a:lnTo>
                  <a:lnTo>
                    <a:pt x="567" y="454"/>
                  </a:lnTo>
                  <a:lnTo>
                    <a:pt x="500" y="366"/>
                  </a:lnTo>
                  <a:lnTo>
                    <a:pt x="492" y="348"/>
                  </a:lnTo>
                  <a:lnTo>
                    <a:pt x="492" y="322"/>
                  </a:lnTo>
                  <a:lnTo>
                    <a:pt x="492" y="295"/>
                  </a:lnTo>
                  <a:lnTo>
                    <a:pt x="483" y="269"/>
                  </a:lnTo>
                  <a:lnTo>
                    <a:pt x="492" y="234"/>
                  </a:lnTo>
                  <a:lnTo>
                    <a:pt x="509" y="198"/>
                  </a:lnTo>
                  <a:lnTo>
                    <a:pt x="527" y="163"/>
                  </a:lnTo>
                  <a:lnTo>
                    <a:pt x="558" y="136"/>
                  </a:lnTo>
                  <a:lnTo>
                    <a:pt x="567" y="110"/>
                  </a:lnTo>
                  <a:lnTo>
                    <a:pt x="576" y="88"/>
                  </a:lnTo>
                  <a:lnTo>
                    <a:pt x="593" y="75"/>
                  </a:lnTo>
                  <a:lnTo>
                    <a:pt x="602" y="61"/>
                  </a:lnTo>
                  <a:lnTo>
                    <a:pt x="629" y="44"/>
                  </a:lnTo>
                  <a:lnTo>
                    <a:pt x="673" y="30"/>
                  </a:lnTo>
                  <a:lnTo>
                    <a:pt x="735" y="17"/>
                  </a:lnTo>
                  <a:lnTo>
                    <a:pt x="801" y="4"/>
                  </a:lnTo>
                  <a:lnTo>
                    <a:pt x="846" y="0"/>
                  </a:lnTo>
                  <a:lnTo>
                    <a:pt x="872" y="0"/>
                  </a:lnTo>
                  <a:lnTo>
                    <a:pt x="881" y="4"/>
                  </a:lnTo>
                  <a:lnTo>
                    <a:pt x="890" y="13"/>
                  </a:lnTo>
                  <a:lnTo>
                    <a:pt x="907" y="26"/>
                  </a:lnTo>
                  <a:lnTo>
                    <a:pt x="925" y="30"/>
                  </a:lnTo>
                  <a:lnTo>
                    <a:pt x="952" y="44"/>
                  </a:lnTo>
                  <a:lnTo>
                    <a:pt x="978" y="66"/>
                  </a:lnTo>
                  <a:lnTo>
                    <a:pt x="987" y="92"/>
                  </a:lnTo>
                  <a:lnTo>
                    <a:pt x="987" y="123"/>
                  </a:lnTo>
                  <a:lnTo>
                    <a:pt x="987" y="158"/>
                  </a:lnTo>
                  <a:lnTo>
                    <a:pt x="978" y="189"/>
                  </a:lnTo>
                  <a:lnTo>
                    <a:pt x="969" y="225"/>
                  </a:lnTo>
                  <a:lnTo>
                    <a:pt x="969" y="238"/>
                  </a:lnTo>
                  <a:lnTo>
                    <a:pt x="961" y="247"/>
                  </a:lnTo>
                  <a:lnTo>
                    <a:pt x="881" y="415"/>
                  </a:lnTo>
                  <a:lnTo>
                    <a:pt x="872" y="476"/>
                  </a:lnTo>
                  <a:lnTo>
                    <a:pt x="881" y="476"/>
                  </a:lnTo>
                  <a:lnTo>
                    <a:pt x="925" y="490"/>
                  </a:lnTo>
                  <a:lnTo>
                    <a:pt x="978" y="503"/>
                  </a:lnTo>
                  <a:lnTo>
                    <a:pt x="1050" y="525"/>
                  </a:lnTo>
                  <a:lnTo>
                    <a:pt x="1116" y="543"/>
                  </a:lnTo>
                  <a:lnTo>
                    <a:pt x="1178" y="565"/>
                  </a:lnTo>
                  <a:lnTo>
                    <a:pt x="1214" y="587"/>
                  </a:lnTo>
                  <a:lnTo>
                    <a:pt x="1231" y="600"/>
                  </a:lnTo>
                  <a:lnTo>
                    <a:pt x="1231" y="635"/>
                  </a:lnTo>
                  <a:lnTo>
                    <a:pt x="1240" y="697"/>
                  </a:lnTo>
                  <a:lnTo>
                    <a:pt x="1258" y="781"/>
                  </a:lnTo>
                  <a:lnTo>
                    <a:pt x="1267" y="875"/>
                  </a:lnTo>
                  <a:lnTo>
                    <a:pt x="1285" y="972"/>
                  </a:lnTo>
                  <a:lnTo>
                    <a:pt x="1302" y="1065"/>
                  </a:lnTo>
                  <a:lnTo>
                    <a:pt x="1311" y="1131"/>
                  </a:lnTo>
                  <a:lnTo>
                    <a:pt x="1311" y="1179"/>
                  </a:lnTo>
                  <a:lnTo>
                    <a:pt x="1311" y="1210"/>
                  </a:lnTo>
                  <a:lnTo>
                    <a:pt x="1320" y="1272"/>
                  </a:lnTo>
                  <a:lnTo>
                    <a:pt x="1320" y="1347"/>
                  </a:lnTo>
                  <a:lnTo>
                    <a:pt x="1333" y="1431"/>
                  </a:lnTo>
                  <a:lnTo>
                    <a:pt x="1333" y="1519"/>
                  </a:lnTo>
                  <a:lnTo>
                    <a:pt x="1333" y="1612"/>
                  </a:lnTo>
                  <a:lnTo>
                    <a:pt x="1320" y="1687"/>
                  </a:lnTo>
                  <a:lnTo>
                    <a:pt x="1311" y="1749"/>
                  </a:lnTo>
                  <a:lnTo>
                    <a:pt x="1293" y="1771"/>
                  </a:lnTo>
                  <a:lnTo>
                    <a:pt x="1276" y="1784"/>
                  </a:lnTo>
                  <a:lnTo>
                    <a:pt x="1258" y="1798"/>
                  </a:lnTo>
                  <a:lnTo>
                    <a:pt x="1231" y="1811"/>
                  </a:lnTo>
                  <a:lnTo>
                    <a:pt x="1205" y="1811"/>
                  </a:lnTo>
                  <a:lnTo>
                    <a:pt x="1187" y="1820"/>
                  </a:lnTo>
                  <a:lnTo>
                    <a:pt x="1178" y="1820"/>
                  </a:lnTo>
                  <a:lnTo>
                    <a:pt x="1170" y="1820"/>
                  </a:lnTo>
                  <a:lnTo>
                    <a:pt x="1187" y="1771"/>
                  </a:lnTo>
                  <a:lnTo>
                    <a:pt x="1240" y="1723"/>
                  </a:lnTo>
                  <a:lnTo>
                    <a:pt x="1125" y="1789"/>
                  </a:lnTo>
                  <a:lnTo>
                    <a:pt x="1161" y="2235"/>
                  </a:lnTo>
                  <a:lnTo>
                    <a:pt x="1143" y="2376"/>
                  </a:lnTo>
                  <a:lnTo>
                    <a:pt x="978" y="2933"/>
                  </a:lnTo>
                  <a:lnTo>
                    <a:pt x="1178" y="3017"/>
                  </a:lnTo>
                  <a:lnTo>
                    <a:pt x="1205" y="3097"/>
                  </a:lnTo>
                  <a:lnTo>
                    <a:pt x="987" y="3132"/>
                  </a:lnTo>
                  <a:lnTo>
                    <a:pt x="717" y="3189"/>
                  </a:lnTo>
                  <a:lnTo>
                    <a:pt x="717" y="3194"/>
                  </a:lnTo>
                  <a:lnTo>
                    <a:pt x="700" y="3225"/>
                  </a:lnTo>
                  <a:lnTo>
                    <a:pt x="682" y="3251"/>
                  </a:lnTo>
                  <a:lnTo>
                    <a:pt x="655" y="3287"/>
                  </a:lnTo>
                  <a:lnTo>
                    <a:pt x="620" y="3326"/>
                  </a:lnTo>
                  <a:lnTo>
                    <a:pt x="593" y="3362"/>
                  </a:lnTo>
                  <a:lnTo>
                    <a:pt x="567" y="3384"/>
                  </a:lnTo>
                  <a:lnTo>
                    <a:pt x="540" y="3401"/>
                  </a:lnTo>
                  <a:lnTo>
                    <a:pt x="509" y="3410"/>
                  </a:lnTo>
                  <a:lnTo>
                    <a:pt x="483" y="3419"/>
                  </a:lnTo>
                  <a:lnTo>
                    <a:pt x="447" y="3419"/>
                  </a:lnTo>
                  <a:lnTo>
                    <a:pt x="421" y="3419"/>
                  </a:lnTo>
                  <a:lnTo>
                    <a:pt x="403" y="3419"/>
                  </a:lnTo>
                  <a:lnTo>
                    <a:pt x="385" y="3419"/>
                  </a:lnTo>
                  <a:lnTo>
                    <a:pt x="368" y="3419"/>
                  </a:lnTo>
                  <a:lnTo>
                    <a:pt x="412" y="3287"/>
                  </a:lnTo>
                  <a:lnTo>
                    <a:pt x="483" y="3141"/>
                  </a:lnTo>
                  <a:lnTo>
                    <a:pt x="331" y="2585"/>
                  </a:lnTo>
                  <a:lnTo>
                    <a:pt x="296" y="2045"/>
                  </a:lnTo>
                  <a:lnTo>
                    <a:pt x="269" y="1846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12120" y="5068800"/>
              <a:ext cx="470160" cy="1144800"/>
            </a:xfrm>
            <a:custGeom>
              <a:avLst/>
              <a:gdLst/>
              <a:ahLst/>
              <a:rect l="0" t="0" r="r" b="b"/>
              <a:pathLst>
                <a:path w="1306" h="3180">
                  <a:moveTo>
                    <a:pt x="0" y="2456"/>
                  </a:moveTo>
                  <a:lnTo>
                    <a:pt x="491" y="2416"/>
                  </a:lnTo>
                  <a:lnTo>
                    <a:pt x="491" y="2429"/>
                  </a:lnTo>
                  <a:lnTo>
                    <a:pt x="491" y="2442"/>
                  </a:lnTo>
                  <a:lnTo>
                    <a:pt x="482" y="2465"/>
                  </a:lnTo>
                  <a:lnTo>
                    <a:pt x="482" y="2487"/>
                  </a:lnTo>
                  <a:lnTo>
                    <a:pt x="482" y="2500"/>
                  </a:lnTo>
                  <a:lnTo>
                    <a:pt x="482" y="2518"/>
                  </a:lnTo>
                  <a:lnTo>
                    <a:pt x="473" y="2535"/>
                  </a:lnTo>
                  <a:lnTo>
                    <a:pt x="473" y="2553"/>
                  </a:lnTo>
                  <a:lnTo>
                    <a:pt x="473" y="2588"/>
                  </a:lnTo>
                  <a:lnTo>
                    <a:pt x="482" y="2637"/>
                  </a:lnTo>
                  <a:lnTo>
                    <a:pt x="499" y="2685"/>
                  </a:lnTo>
                  <a:lnTo>
                    <a:pt x="517" y="2743"/>
                  </a:lnTo>
                  <a:lnTo>
                    <a:pt x="526" y="2791"/>
                  </a:lnTo>
                  <a:lnTo>
                    <a:pt x="544" y="2827"/>
                  </a:lnTo>
                  <a:lnTo>
                    <a:pt x="553" y="2853"/>
                  </a:lnTo>
                  <a:lnTo>
                    <a:pt x="561" y="2858"/>
                  </a:lnTo>
                  <a:lnTo>
                    <a:pt x="499" y="2986"/>
                  </a:lnTo>
                  <a:lnTo>
                    <a:pt x="517" y="3145"/>
                  </a:lnTo>
                  <a:lnTo>
                    <a:pt x="517" y="3149"/>
                  </a:lnTo>
                  <a:lnTo>
                    <a:pt x="535" y="3158"/>
                  </a:lnTo>
                  <a:lnTo>
                    <a:pt x="544" y="3162"/>
                  </a:lnTo>
                  <a:lnTo>
                    <a:pt x="570" y="3171"/>
                  </a:lnTo>
                  <a:lnTo>
                    <a:pt x="588" y="3171"/>
                  </a:lnTo>
                  <a:lnTo>
                    <a:pt x="615" y="3180"/>
                  </a:lnTo>
                  <a:lnTo>
                    <a:pt x="632" y="3171"/>
                  </a:lnTo>
                  <a:lnTo>
                    <a:pt x="660" y="3158"/>
                  </a:lnTo>
                  <a:lnTo>
                    <a:pt x="677" y="3145"/>
                  </a:lnTo>
                  <a:lnTo>
                    <a:pt x="686" y="3114"/>
                  </a:lnTo>
                  <a:lnTo>
                    <a:pt x="704" y="3096"/>
                  </a:lnTo>
                  <a:lnTo>
                    <a:pt x="713" y="3074"/>
                  </a:lnTo>
                  <a:lnTo>
                    <a:pt x="713" y="3052"/>
                  </a:lnTo>
                  <a:lnTo>
                    <a:pt x="722" y="3034"/>
                  </a:lnTo>
                  <a:lnTo>
                    <a:pt x="722" y="3025"/>
                  </a:lnTo>
                  <a:lnTo>
                    <a:pt x="722" y="3017"/>
                  </a:lnTo>
                  <a:lnTo>
                    <a:pt x="669" y="2809"/>
                  </a:lnTo>
                  <a:lnTo>
                    <a:pt x="757" y="2359"/>
                  </a:lnTo>
                  <a:lnTo>
                    <a:pt x="793" y="2354"/>
                  </a:lnTo>
                  <a:lnTo>
                    <a:pt x="793" y="2270"/>
                  </a:lnTo>
                  <a:lnTo>
                    <a:pt x="885" y="2248"/>
                  </a:lnTo>
                  <a:lnTo>
                    <a:pt x="885" y="2257"/>
                  </a:lnTo>
                  <a:lnTo>
                    <a:pt x="885" y="2270"/>
                  </a:lnTo>
                  <a:lnTo>
                    <a:pt x="885" y="2292"/>
                  </a:lnTo>
                  <a:lnTo>
                    <a:pt x="885" y="2319"/>
                  </a:lnTo>
                  <a:lnTo>
                    <a:pt x="894" y="2354"/>
                  </a:lnTo>
                  <a:lnTo>
                    <a:pt x="894" y="2389"/>
                  </a:lnTo>
                  <a:lnTo>
                    <a:pt x="903" y="2425"/>
                  </a:lnTo>
                  <a:lnTo>
                    <a:pt x="903" y="2465"/>
                  </a:lnTo>
                  <a:lnTo>
                    <a:pt x="921" y="2513"/>
                  </a:lnTo>
                  <a:lnTo>
                    <a:pt x="930" y="2562"/>
                  </a:lnTo>
                  <a:lnTo>
                    <a:pt x="947" y="2610"/>
                  </a:lnTo>
                  <a:lnTo>
                    <a:pt x="956" y="2659"/>
                  </a:lnTo>
                  <a:lnTo>
                    <a:pt x="974" y="2699"/>
                  </a:lnTo>
                  <a:lnTo>
                    <a:pt x="983" y="2734"/>
                  </a:lnTo>
                  <a:lnTo>
                    <a:pt x="992" y="2756"/>
                  </a:lnTo>
                  <a:lnTo>
                    <a:pt x="992" y="2760"/>
                  </a:lnTo>
                  <a:lnTo>
                    <a:pt x="992" y="2778"/>
                  </a:lnTo>
                  <a:lnTo>
                    <a:pt x="992" y="2809"/>
                  </a:lnTo>
                  <a:lnTo>
                    <a:pt x="992" y="2858"/>
                  </a:lnTo>
                  <a:lnTo>
                    <a:pt x="992" y="2915"/>
                  </a:lnTo>
                  <a:lnTo>
                    <a:pt x="992" y="2968"/>
                  </a:lnTo>
                  <a:lnTo>
                    <a:pt x="1000" y="3017"/>
                  </a:lnTo>
                  <a:lnTo>
                    <a:pt x="1018" y="3061"/>
                  </a:lnTo>
                  <a:lnTo>
                    <a:pt x="1045" y="3074"/>
                  </a:lnTo>
                  <a:lnTo>
                    <a:pt x="1080" y="3083"/>
                  </a:lnTo>
                  <a:lnTo>
                    <a:pt x="1116" y="3074"/>
                  </a:lnTo>
                  <a:lnTo>
                    <a:pt x="1151" y="3074"/>
                  </a:lnTo>
                  <a:lnTo>
                    <a:pt x="1177" y="3061"/>
                  </a:lnTo>
                  <a:lnTo>
                    <a:pt x="1204" y="3052"/>
                  </a:lnTo>
                  <a:lnTo>
                    <a:pt x="1222" y="3047"/>
                  </a:lnTo>
                  <a:lnTo>
                    <a:pt x="1239" y="3039"/>
                  </a:lnTo>
                  <a:lnTo>
                    <a:pt x="1231" y="2977"/>
                  </a:lnTo>
                  <a:lnTo>
                    <a:pt x="1222" y="2968"/>
                  </a:lnTo>
                  <a:lnTo>
                    <a:pt x="1213" y="2950"/>
                  </a:lnTo>
                  <a:lnTo>
                    <a:pt x="1195" y="2919"/>
                  </a:lnTo>
                  <a:lnTo>
                    <a:pt x="1177" y="2880"/>
                  </a:lnTo>
                  <a:lnTo>
                    <a:pt x="1151" y="2840"/>
                  </a:lnTo>
                  <a:lnTo>
                    <a:pt x="1142" y="2791"/>
                  </a:lnTo>
                  <a:lnTo>
                    <a:pt x="1124" y="2743"/>
                  </a:lnTo>
                  <a:lnTo>
                    <a:pt x="1124" y="2694"/>
                  </a:lnTo>
                  <a:lnTo>
                    <a:pt x="1124" y="2637"/>
                  </a:lnTo>
                  <a:lnTo>
                    <a:pt x="1133" y="2548"/>
                  </a:lnTo>
                  <a:lnTo>
                    <a:pt x="1142" y="2451"/>
                  </a:lnTo>
                  <a:lnTo>
                    <a:pt x="1151" y="2345"/>
                  </a:lnTo>
                  <a:lnTo>
                    <a:pt x="1160" y="2248"/>
                  </a:lnTo>
                  <a:lnTo>
                    <a:pt x="1177" y="2164"/>
                  </a:lnTo>
                  <a:lnTo>
                    <a:pt x="1177" y="2111"/>
                  </a:lnTo>
                  <a:lnTo>
                    <a:pt x="1186" y="2089"/>
                  </a:lnTo>
                  <a:lnTo>
                    <a:pt x="1195" y="2085"/>
                  </a:lnTo>
                  <a:lnTo>
                    <a:pt x="1204" y="2076"/>
                  </a:lnTo>
                  <a:lnTo>
                    <a:pt x="1213" y="2054"/>
                  </a:lnTo>
                  <a:lnTo>
                    <a:pt x="1231" y="2036"/>
                  </a:lnTo>
                  <a:lnTo>
                    <a:pt x="1239" y="2005"/>
                  </a:lnTo>
                  <a:lnTo>
                    <a:pt x="1248" y="1966"/>
                  </a:lnTo>
                  <a:lnTo>
                    <a:pt x="1257" y="1917"/>
                  </a:lnTo>
                  <a:lnTo>
                    <a:pt x="1257" y="1895"/>
                  </a:lnTo>
                  <a:lnTo>
                    <a:pt x="1257" y="1842"/>
                  </a:lnTo>
                  <a:lnTo>
                    <a:pt x="1248" y="1767"/>
                  </a:lnTo>
                  <a:lnTo>
                    <a:pt x="1248" y="1674"/>
                  </a:lnTo>
                  <a:lnTo>
                    <a:pt x="1248" y="1585"/>
                  </a:lnTo>
                  <a:lnTo>
                    <a:pt x="1248" y="1505"/>
                  </a:lnTo>
                  <a:lnTo>
                    <a:pt x="1248" y="1439"/>
                  </a:lnTo>
                  <a:lnTo>
                    <a:pt x="1257" y="1404"/>
                  </a:lnTo>
                  <a:lnTo>
                    <a:pt x="1275" y="1382"/>
                  </a:lnTo>
                  <a:lnTo>
                    <a:pt x="1284" y="1364"/>
                  </a:lnTo>
                  <a:lnTo>
                    <a:pt x="1293" y="1342"/>
                  </a:lnTo>
                  <a:lnTo>
                    <a:pt x="1306" y="1320"/>
                  </a:lnTo>
                  <a:lnTo>
                    <a:pt x="1306" y="1293"/>
                  </a:lnTo>
                  <a:lnTo>
                    <a:pt x="1293" y="1267"/>
                  </a:lnTo>
                  <a:lnTo>
                    <a:pt x="1284" y="1236"/>
                  </a:lnTo>
                  <a:lnTo>
                    <a:pt x="1257" y="1201"/>
                  </a:lnTo>
                  <a:lnTo>
                    <a:pt x="1231" y="1152"/>
                  </a:lnTo>
                  <a:lnTo>
                    <a:pt x="1222" y="1103"/>
                  </a:lnTo>
                  <a:lnTo>
                    <a:pt x="1231" y="1059"/>
                  </a:lnTo>
                  <a:lnTo>
                    <a:pt x="1248" y="1002"/>
                  </a:lnTo>
                  <a:lnTo>
                    <a:pt x="1266" y="927"/>
                  </a:lnTo>
                  <a:lnTo>
                    <a:pt x="1266" y="830"/>
                  </a:lnTo>
                  <a:lnTo>
                    <a:pt x="1239" y="697"/>
                  </a:lnTo>
                  <a:lnTo>
                    <a:pt x="1177" y="529"/>
                  </a:lnTo>
                  <a:lnTo>
                    <a:pt x="1160" y="503"/>
                  </a:lnTo>
                  <a:lnTo>
                    <a:pt x="1142" y="490"/>
                  </a:lnTo>
                  <a:lnTo>
                    <a:pt x="1124" y="481"/>
                  </a:lnTo>
                  <a:lnTo>
                    <a:pt x="1098" y="476"/>
                  </a:lnTo>
                  <a:lnTo>
                    <a:pt x="1080" y="476"/>
                  </a:lnTo>
                  <a:lnTo>
                    <a:pt x="1062" y="476"/>
                  </a:lnTo>
                  <a:lnTo>
                    <a:pt x="1054" y="476"/>
                  </a:lnTo>
                  <a:lnTo>
                    <a:pt x="1045" y="476"/>
                  </a:lnTo>
                  <a:lnTo>
                    <a:pt x="1036" y="476"/>
                  </a:lnTo>
                  <a:lnTo>
                    <a:pt x="1018" y="468"/>
                  </a:lnTo>
                  <a:lnTo>
                    <a:pt x="992" y="468"/>
                  </a:lnTo>
                  <a:lnTo>
                    <a:pt x="974" y="463"/>
                  </a:lnTo>
                  <a:lnTo>
                    <a:pt x="956" y="454"/>
                  </a:lnTo>
                  <a:lnTo>
                    <a:pt x="947" y="441"/>
                  </a:lnTo>
                  <a:lnTo>
                    <a:pt x="947" y="432"/>
                  </a:lnTo>
                  <a:lnTo>
                    <a:pt x="956" y="428"/>
                  </a:lnTo>
                  <a:lnTo>
                    <a:pt x="965" y="415"/>
                  </a:lnTo>
                  <a:lnTo>
                    <a:pt x="974" y="397"/>
                  </a:lnTo>
                  <a:lnTo>
                    <a:pt x="992" y="384"/>
                  </a:lnTo>
                  <a:lnTo>
                    <a:pt x="1009" y="370"/>
                  </a:lnTo>
                  <a:lnTo>
                    <a:pt x="1018" y="357"/>
                  </a:lnTo>
                  <a:lnTo>
                    <a:pt x="1027" y="344"/>
                  </a:lnTo>
                  <a:lnTo>
                    <a:pt x="1027" y="331"/>
                  </a:lnTo>
                  <a:lnTo>
                    <a:pt x="1027" y="317"/>
                  </a:lnTo>
                  <a:lnTo>
                    <a:pt x="1027" y="309"/>
                  </a:lnTo>
                  <a:lnTo>
                    <a:pt x="1009" y="309"/>
                  </a:lnTo>
                  <a:lnTo>
                    <a:pt x="1000" y="309"/>
                  </a:lnTo>
                  <a:lnTo>
                    <a:pt x="983" y="309"/>
                  </a:lnTo>
                  <a:lnTo>
                    <a:pt x="974" y="309"/>
                  </a:lnTo>
                  <a:lnTo>
                    <a:pt x="974" y="295"/>
                  </a:lnTo>
                  <a:lnTo>
                    <a:pt x="974" y="273"/>
                  </a:lnTo>
                  <a:lnTo>
                    <a:pt x="992" y="225"/>
                  </a:lnTo>
                  <a:lnTo>
                    <a:pt x="1000" y="185"/>
                  </a:lnTo>
                  <a:lnTo>
                    <a:pt x="1009" y="150"/>
                  </a:lnTo>
                  <a:lnTo>
                    <a:pt x="1000" y="123"/>
                  </a:lnTo>
                  <a:lnTo>
                    <a:pt x="1000" y="110"/>
                  </a:lnTo>
                  <a:lnTo>
                    <a:pt x="1000" y="92"/>
                  </a:lnTo>
                  <a:lnTo>
                    <a:pt x="992" y="88"/>
                  </a:lnTo>
                  <a:lnTo>
                    <a:pt x="992" y="79"/>
                  </a:lnTo>
                  <a:lnTo>
                    <a:pt x="992" y="75"/>
                  </a:lnTo>
                  <a:lnTo>
                    <a:pt x="992" y="66"/>
                  </a:lnTo>
                  <a:lnTo>
                    <a:pt x="992" y="61"/>
                  </a:lnTo>
                  <a:lnTo>
                    <a:pt x="992" y="52"/>
                  </a:lnTo>
                  <a:lnTo>
                    <a:pt x="992" y="39"/>
                  </a:lnTo>
                  <a:lnTo>
                    <a:pt x="992" y="26"/>
                  </a:lnTo>
                  <a:lnTo>
                    <a:pt x="992" y="17"/>
                  </a:lnTo>
                  <a:lnTo>
                    <a:pt x="974" y="4"/>
                  </a:lnTo>
                  <a:lnTo>
                    <a:pt x="939" y="4"/>
                  </a:lnTo>
                  <a:lnTo>
                    <a:pt x="894" y="0"/>
                  </a:lnTo>
                  <a:lnTo>
                    <a:pt x="828" y="4"/>
                  </a:lnTo>
                  <a:lnTo>
                    <a:pt x="775" y="13"/>
                  </a:lnTo>
                  <a:lnTo>
                    <a:pt x="713" y="17"/>
                  </a:lnTo>
                  <a:lnTo>
                    <a:pt x="669" y="30"/>
                  </a:lnTo>
                  <a:lnTo>
                    <a:pt x="632" y="44"/>
                  </a:lnTo>
                  <a:lnTo>
                    <a:pt x="553" y="114"/>
                  </a:lnTo>
                  <a:lnTo>
                    <a:pt x="499" y="163"/>
                  </a:lnTo>
                  <a:lnTo>
                    <a:pt x="482" y="207"/>
                  </a:lnTo>
                  <a:lnTo>
                    <a:pt x="482" y="247"/>
                  </a:lnTo>
                  <a:lnTo>
                    <a:pt x="499" y="273"/>
                  </a:lnTo>
                  <a:lnTo>
                    <a:pt x="517" y="309"/>
                  </a:lnTo>
                  <a:lnTo>
                    <a:pt x="526" y="335"/>
                  </a:lnTo>
                  <a:lnTo>
                    <a:pt x="526" y="370"/>
                  </a:lnTo>
                  <a:lnTo>
                    <a:pt x="508" y="406"/>
                  </a:lnTo>
                  <a:lnTo>
                    <a:pt x="499" y="428"/>
                  </a:lnTo>
                  <a:lnTo>
                    <a:pt x="482" y="446"/>
                  </a:lnTo>
                  <a:lnTo>
                    <a:pt x="464" y="463"/>
                  </a:lnTo>
                  <a:lnTo>
                    <a:pt x="446" y="468"/>
                  </a:lnTo>
                  <a:lnTo>
                    <a:pt x="438" y="476"/>
                  </a:lnTo>
                  <a:lnTo>
                    <a:pt x="424" y="476"/>
                  </a:lnTo>
                  <a:lnTo>
                    <a:pt x="491" y="538"/>
                  </a:lnTo>
                  <a:lnTo>
                    <a:pt x="499" y="538"/>
                  </a:lnTo>
                  <a:lnTo>
                    <a:pt x="499" y="543"/>
                  </a:lnTo>
                  <a:lnTo>
                    <a:pt x="499" y="551"/>
                  </a:lnTo>
                  <a:lnTo>
                    <a:pt x="482" y="565"/>
                  </a:lnTo>
                  <a:lnTo>
                    <a:pt x="455" y="591"/>
                  </a:lnTo>
                  <a:lnTo>
                    <a:pt x="398" y="627"/>
                  </a:lnTo>
                  <a:lnTo>
                    <a:pt x="327" y="675"/>
                  </a:lnTo>
                  <a:lnTo>
                    <a:pt x="292" y="719"/>
                  </a:lnTo>
                  <a:lnTo>
                    <a:pt x="265" y="781"/>
                  </a:lnTo>
                  <a:lnTo>
                    <a:pt x="238" y="865"/>
                  </a:lnTo>
                  <a:lnTo>
                    <a:pt x="221" y="953"/>
                  </a:lnTo>
                  <a:lnTo>
                    <a:pt x="203" y="1042"/>
                  </a:lnTo>
                  <a:lnTo>
                    <a:pt x="194" y="1121"/>
                  </a:lnTo>
                  <a:lnTo>
                    <a:pt x="185" y="1183"/>
                  </a:lnTo>
                  <a:lnTo>
                    <a:pt x="185" y="1209"/>
                  </a:lnTo>
                  <a:lnTo>
                    <a:pt x="194" y="1223"/>
                  </a:lnTo>
                  <a:lnTo>
                    <a:pt x="203" y="1258"/>
                  </a:lnTo>
                  <a:lnTo>
                    <a:pt x="221" y="1298"/>
                  </a:lnTo>
                  <a:lnTo>
                    <a:pt x="238" y="1346"/>
                  </a:lnTo>
                  <a:lnTo>
                    <a:pt x="256" y="1395"/>
                  </a:lnTo>
                  <a:lnTo>
                    <a:pt x="274" y="1443"/>
                  </a:lnTo>
                  <a:lnTo>
                    <a:pt x="292" y="1479"/>
                  </a:lnTo>
                  <a:lnTo>
                    <a:pt x="309" y="1501"/>
                  </a:lnTo>
                  <a:lnTo>
                    <a:pt x="274" y="1652"/>
                  </a:lnTo>
                  <a:lnTo>
                    <a:pt x="256" y="1670"/>
                  </a:lnTo>
                  <a:lnTo>
                    <a:pt x="247" y="1683"/>
                  </a:lnTo>
                  <a:lnTo>
                    <a:pt x="238" y="1696"/>
                  </a:lnTo>
                  <a:lnTo>
                    <a:pt x="230" y="1709"/>
                  </a:lnTo>
                  <a:lnTo>
                    <a:pt x="221" y="1723"/>
                  </a:lnTo>
                  <a:lnTo>
                    <a:pt x="221" y="1736"/>
                  </a:lnTo>
                  <a:lnTo>
                    <a:pt x="221" y="1745"/>
                  </a:lnTo>
                  <a:lnTo>
                    <a:pt x="221" y="1758"/>
                  </a:lnTo>
                  <a:lnTo>
                    <a:pt x="0" y="1807"/>
                  </a:lnTo>
                  <a:lnTo>
                    <a:pt x="0" y="2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86640" y="5049720"/>
              <a:ext cx="435240" cy="1143360"/>
            </a:xfrm>
            <a:custGeom>
              <a:avLst/>
              <a:gdLst/>
              <a:ahLst/>
              <a:rect l="0" t="0" r="r" b="b"/>
              <a:pathLst>
                <a:path w="1209" h="3176">
                  <a:moveTo>
                    <a:pt x="0" y="2407"/>
                  </a:moveTo>
                  <a:lnTo>
                    <a:pt x="398" y="2412"/>
                  </a:lnTo>
                  <a:lnTo>
                    <a:pt x="398" y="2425"/>
                  </a:lnTo>
                  <a:lnTo>
                    <a:pt x="398" y="2438"/>
                  </a:lnTo>
                  <a:lnTo>
                    <a:pt x="389" y="2460"/>
                  </a:lnTo>
                  <a:lnTo>
                    <a:pt x="389" y="2482"/>
                  </a:lnTo>
                  <a:lnTo>
                    <a:pt x="389" y="2495"/>
                  </a:lnTo>
                  <a:lnTo>
                    <a:pt x="389" y="2518"/>
                  </a:lnTo>
                  <a:lnTo>
                    <a:pt x="380" y="2531"/>
                  </a:lnTo>
                  <a:lnTo>
                    <a:pt x="380" y="2553"/>
                  </a:lnTo>
                  <a:lnTo>
                    <a:pt x="380" y="2584"/>
                  </a:lnTo>
                  <a:lnTo>
                    <a:pt x="389" y="2632"/>
                  </a:lnTo>
                  <a:lnTo>
                    <a:pt x="407" y="2681"/>
                  </a:lnTo>
                  <a:lnTo>
                    <a:pt x="416" y="2738"/>
                  </a:lnTo>
                  <a:lnTo>
                    <a:pt x="433" y="2787"/>
                  </a:lnTo>
                  <a:lnTo>
                    <a:pt x="451" y="2822"/>
                  </a:lnTo>
                  <a:lnTo>
                    <a:pt x="460" y="2849"/>
                  </a:lnTo>
                  <a:lnTo>
                    <a:pt x="469" y="2853"/>
                  </a:lnTo>
                  <a:lnTo>
                    <a:pt x="398" y="2981"/>
                  </a:lnTo>
                  <a:lnTo>
                    <a:pt x="424" y="3140"/>
                  </a:lnTo>
                  <a:lnTo>
                    <a:pt x="424" y="3145"/>
                  </a:lnTo>
                  <a:lnTo>
                    <a:pt x="442" y="3153"/>
                  </a:lnTo>
                  <a:lnTo>
                    <a:pt x="451" y="3158"/>
                  </a:lnTo>
                  <a:lnTo>
                    <a:pt x="477" y="3167"/>
                  </a:lnTo>
                  <a:lnTo>
                    <a:pt x="495" y="3167"/>
                  </a:lnTo>
                  <a:lnTo>
                    <a:pt x="522" y="3176"/>
                  </a:lnTo>
                  <a:lnTo>
                    <a:pt x="539" y="3167"/>
                  </a:lnTo>
                  <a:lnTo>
                    <a:pt x="566" y="3153"/>
                  </a:lnTo>
                  <a:lnTo>
                    <a:pt x="584" y="3140"/>
                  </a:lnTo>
                  <a:lnTo>
                    <a:pt x="593" y="3109"/>
                  </a:lnTo>
                  <a:lnTo>
                    <a:pt x="611" y="3092"/>
                  </a:lnTo>
                  <a:lnTo>
                    <a:pt x="620" y="3070"/>
                  </a:lnTo>
                  <a:lnTo>
                    <a:pt x="620" y="3047"/>
                  </a:lnTo>
                  <a:lnTo>
                    <a:pt x="629" y="3030"/>
                  </a:lnTo>
                  <a:lnTo>
                    <a:pt x="629" y="3021"/>
                  </a:lnTo>
                  <a:lnTo>
                    <a:pt x="629" y="3012"/>
                  </a:lnTo>
                  <a:lnTo>
                    <a:pt x="575" y="2813"/>
                  </a:lnTo>
                  <a:lnTo>
                    <a:pt x="664" y="2359"/>
                  </a:lnTo>
                  <a:lnTo>
                    <a:pt x="700" y="2350"/>
                  </a:lnTo>
                  <a:lnTo>
                    <a:pt x="700" y="2266"/>
                  </a:lnTo>
                  <a:lnTo>
                    <a:pt x="788" y="2248"/>
                  </a:lnTo>
                  <a:lnTo>
                    <a:pt x="788" y="2253"/>
                  </a:lnTo>
                  <a:lnTo>
                    <a:pt x="788" y="2266"/>
                  </a:lnTo>
                  <a:lnTo>
                    <a:pt x="788" y="2288"/>
                  </a:lnTo>
                  <a:lnTo>
                    <a:pt x="788" y="2314"/>
                  </a:lnTo>
                  <a:lnTo>
                    <a:pt x="797" y="2350"/>
                  </a:lnTo>
                  <a:lnTo>
                    <a:pt x="797" y="2385"/>
                  </a:lnTo>
                  <a:lnTo>
                    <a:pt x="806" y="2420"/>
                  </a:lnTo>
                  <a:lnTo>
                    <a:pt x="806" y="2460"/>
                  </a:lnTo>
                  <a:lnTo>
                    <a:pt x="824" y="2509"/>
                  </a:lnTo>
                  <a:lnTo>
                    <a:pt x="833" y="2557"/>
                  </a:lnTo>
                  <a:lnTo>
                    <a:pt x="850" y="2615"/>
                  </a:lnTo>
                  <a:lnTo>
                    <a:pt x="859" y="2654"/>
                  </a:lnTo>
                  <a:lnTo>
                    <a:pt x="877" y="2694"/>
                  </a:lnTo>
                  <a:lnTo>
                    <a:pt x="886" y="2729"/>
                  </a:lnTo>
                  <a:lnTo>
                    <a:pt x="895" y="2752"/>
                  </a:lnTo>
                  <a:lnTo>
                    <a:pt x="895" y="2760"/>
                  </a:lnTo>
                  <a:lnTo>
                    <a:pt x="895" y="2774"/>
                  </a:lnTo>
                  <a:lnTo>
                    <a:pt x="895" y="2805"/>
                  </a:lnTo>
                  <a:lnTo>
                    <a:pt x="886" y="2853"/>
                  </a:lnTo>
                  <a:lnTo>
                    <a:pt x="895" y="2911"/>
                  </a:lnTo>
                  <a:lnTo>
                    <a:pt x="895" y="2968"/>
                  </a:lnTo>
                  <a:lnTo>
                    <a:pt x="903" y="3012"/>
                  </a:lnTo>
                  <a:lnTo>
                    <a:pt x="921" y="3056"/>
                  </a:lnTo>
                  <a:lnTo>
                    <a:pt x="948" y="3070"/>
                  </a:lnTo>
                  <a:lnTo>
                    <a:pt x="983" y="3078"/>
                  </a:lnTo>
                  <a:lnTo>
                    <a:pt x="1018" y="3070"/>
                  </a:lnTo>
                  <a:lnTo>
                    <a:pt x="1054" y="3061"/>
                  </a:lnTo>
                  <a:lnTo>
                    <a:pt x="1080" y="3056"/>
                  </a:lnTo>
                  <a:lnTo>
                    <a:pt x="1107" y="3047"/>
                  </a:lnTo>
                  <a:lnTo>
                    <a:pt x="1125" y="3043"/>
                  </a:lnTo>
                  <a:lnTo>
                    <a:pt x="1142" y="3034"/>
                  </a:lnTo>
                  <a:lnTo>
                    <a:pt x="1134" y="2972"/>
                  </a:lnTo>
                  <a:lnTo>
                    <a:pt x="1125" y="2968"/>
                  </a:lnTo>
                  <a:lnTo>
                    <a:pt x="1116" y="2946"/>
                  </a:lnTo>
                  <a:lnTo>
                    <a:pt x="1098" y="2919"/>
                  </a:lnTo>
                  <a:lnTo>
                    <a:pt x="1080" y="2875"/>
                  </a:lnTo>
                  <a:lnTo>
                    <a:pt x="1054" y="2835"/>
                  </a:lnTo>
                  <a:lnTo>
                    <a:pt x="1036" y="2787"/>
                  </a:lnTo>
                  <a:lnTo>
                    <a:pt x="1027" y="2738"/>
                  </a:lnTo>
                  <a:lnTo>
                    <a:pt x="1027" y="2690"/>
                  </a:lnTo>
                  <a:lnTo>
                    <a:pt x="1027" y="2632"/>
                  </a:lnTo>
                  <a:lnTo>
                    <a:pt x="1036" y="2553"/>
                  </a:lnTo>
                  <a:lnTo>
                    <a:pt x="1045" y="2447"/>
                  </a:lnTo>
                  <a:lnTo>
                    <a:pt x="1054" y="2345"/>
                  </a:lnTo>
                  <a:lnTo>
                    <a:pt x="1063" y="2248"/>
                  </a:lnTo>
                  <a:lnTo>
                    <a:pt x="1080" y="2164"/>
                  </a:lnTo>
                  <a:lnTo>
                    <a:pt x="1080" y="2107"/>
                  </a:lnTo>
                  <a:lnTo>
                    <a:pt x="1089" y="2089"/>
                  </a:lnTo>
                  <a:lnTo>
                    <a:pt x="1098" y="2080"/>
                  </a:lnTo>
                  <a:lnTo>
                    <a:pt x="1107" y="2072"/>
                  </a:lnTo>
                  <a:lnTo>
                    <a:pt x="1116" y="2054"/>
                  </a:lnTo>
                  <a:lnTo>
                    <a:pt x="1134" y="2032"/>
                  </a:lnTo>
                  <a:lnTo>
                    <a:pt x="1142" y="2005"/>
                  </a:lnTo>
                  <a:lnTo>
                    <a:pt x="1151" y="1961"/>
                  </a:lnTo>
                  <a:lnTo>
                    <a:pt x="1160" y="1913"/>
                  </a:lnTo>
                  <a:lnTo>
                    <a:pt x="1160" y="1895"/>
                  </a:lnTo>
                  <a:lnTo>
                    <a:pt x="1160" y="1837"/>
                  </a:lnTo>
                  <a:lnTo>
                    <a:pt x="1151" y="1762"/>
                  </a:lnTo>
                  <a:lnTo>
                    <a:pt x="1151" y="1674"/>
                  </a:lnTo>
                  <a:lnTo>
                    <a:pt x="1151" y="1580"/>
                  </a:lnTo>
                  <a:lnTo>
                    <a:pt x="1151" y="1505"/>
                  </a:lnTo>
                  <a:lnTo>
                    <a:pt x="1151" y="1435"/>
                  </a:lnTo>
                  <a:lnTo>
                    <a:pt x="1160" y="1399"/>
                  </a:lnTo>
                  <a:lnTo>
                    <a:pt x="1178" y="1382"/>
                  </a:lnTo>
                  <a:lnTo>
                    <a:pt x="1187" y="1360"/>
                  </a:lnTo>
                  <a:lnTo>
                    <a:pt x="1195" y="1338"/>
                  </a:lnTo>
                  <a:lnTo>
                    <a:pt x="1209" y="1320"/>
                  </a:lnTo>
                  <a:lnTo>
                    <a:pt x="1209" y="1289"/>
                  </a:lnTo>
                  <a:lnTo>
                    <a:pt x="1195" y="1262"/>
                  </a:lnTo>
                  <a:lnTo>
                    <a:pt x="1187" y="1236"/>
                  </a:lnTo>
                  <a:lnTo>
                    <a:pt x="1160" y="1201"/>
                  </a:lnTo>
                  <a:lnTo>
                    <a:pt x="1134" y="1152"/>
                  </a:lnTo>
                  <a:lnTo>
                    <a:pt x="1125" y="1103"/>
                  </a:lnTo>
                  <a:lnTo>
                    <a:pt x="1134" y="1055"/>
                  </a:lnTo>
                  <a:lnTo>
                    <a:pt x="1151" y="1002"/>
                  </a:lnTo>
                  <a:lnTo>
                    <a:pt x="1169" y="922"/>
                  </a:lnTo>
                  <a:lnTo>
                    <a:pt x="1169" y="825"/>
                  </a:lnTo>
                  <a:lnTo>
                    <a:pt x="1142" y="697"/>
                  </a:lnTo>
                  <a:lnTo>
                    <a:pt x="1072" y="529"/>
                  </a:lnTo>
                  <a:lnTo>
                    <a:pt x="1063" y="503"/>
                  </a:lnTo>
                  <a:lnTo>
                    <a:pt x="1045" y="490"/>
                  </a:lnTo>
                  <a:lnTo>
                    <a:pt x="1027" y="481"/>
                  </a:lnTo>
                  <a:lnTo>
                    <a:pt x="1001" y="476"/>
                  </a:lnTo>
                  <a:lnTo>
                    <a:pt x="983" y="476"/>
                  </a:lnTo>
                  <a:lnTo>
                    <a:pt x="965" y="476"/>
                  </a:lnTo>
                  <a:lnTo>
                    <a:pt x="956" y="476"/>
                  </a:lnTo>
                  <a:lnTo>
                    <a:pt x="948" y="476"/>
                  </a:lnTo>
                  <a:lnTo>
                    <a:pt x="939" y="476"/>
                  </a:lnTo>
                  <a:lnTo>
                    <a:pt x="912" y="476"/>
                  </a:lnTo>
                  <a:lnTo>
                    <a:pt x="895" y="468"/>
                  </a:lnTo>
                  <a:lnTo>
                    <a:pt x="877" y="459"/>
                  </a:lnTo>
                  <a:lnTo>
                    <a:pt x="859" y="454"/>
                  </a:lnTo>
                  <a:lnTo>
                    <a:pt x="850" y="446"/>
                  </a:lnTo>
                  <a:lnTo>
                    <a:pt x="850" y="432"/>
                  </a:lnTo>
                  <a:lnTo>
                    <a:pt x="859" y="428"/>
                  </a:lnTo>
                  <a:lnTo>
                    <a:pt x="868" y="410"/>
                  </a:lnTo>
                  <a:lnTo>
                    <a:pt x="877" y="397"/>
                  </a:lnTo>
                  <a:lnTo>
                    <a:pt x="895" y="384"/>
                  </a:lnTo>
                  <a:lnTo>
                    <a:pt x="903" y="370"/>
                  </a:lnTo>
                  <a:lnTo>
                    <a:pt x="921" y="357"/>
                  </a:lnTo>
                  <a:lnTo>
                    <a:pt x="930" y="344"/>
                  </a:lnTo>
                  <a:lnTo>
                    <a:pt x="930" y="331"/>
                  </a:lnTo>
                  <a:lnTo>
                    <a:pt x="930" y="317"/>
                  </a:lnTo>
                  <a:lnTo>
                    <a:pt x="930" y="309"/>
                  </a:lnTo>
                  <a:lnTo>
                    <a:pt x="912" y="309"/>
                  </a:lnTo>
                  <a:lnTo>
                    <a:pt x="903" y="309"/>
                  </a:lnTo>
                  <a:lnTo>
                    <a:pt x="886" y="309"/>
                  </a:lnTo>
                  <a:lnTo>
                    <a:pt x="877" y="309"/>
                  </a:lnTo>
                  <a:lnTo>
                    <a:pt x="877" y="295"/>
                  </a:lnTo>
                  <a:lnTo>
                    <a:pt x="877" y="273"/>
                  </a:lnTo>
                  <a:lnTo>
                    <a:pt x="895" y="225"/>
                  </a:lnTo>
                  <a:lnTo>
                    <a:pt x="903" y="185"/>
                  </a:lnTo>
                  <a:lnTo>
                    <a:pt x="912" y="150"/>
                  </a:lnTo>
                  <a:lnTo>
                    <a:pt x="903" y="123"/>
                  </a:lnTo>
                  <a:lnTo>
                    <a:pt x="903" y="110"/>
                  </a:lnTo>
                  <a:lnTo>
                    <a:pt x="903" y="92"/>
                  </a:lnTo>
                  <a:lnTo>
                    <a:pt x="895" y="88"/>
                  </a:lnTo>
                  <a:lnTo>
                    <a:pt x="895" y="79"/>
                  </a:lnTo>
                  <a:lnTo>
                    <a:pt x="895" y="75"/>
                  </a:lnTo>
                  <a:lnTo>
                    <a:pt x="895" y="66"/>
                  </a:lnTo>
                  <a:lnTo>
                    <a:pt x="895" y="61"/>
                  </a:lnTo>
                  <a:lnTo>
                    <a:pt x="895" y="52"/>
                  </a:lnTo>
                  <a:lnTo>
                    <a:pt x="895" y="39"/>
                  </a:lnTo>
                  <a:lnTo>
                    <a:pt x="895" y="26"/>
                  </a:lnTo>
                  <a:lnTo>
                    <a:pt x="895" y="17"/>
                  </a:lnTo>
                  <a:lnTo>
                    <a:pt x="877" y="4"/>
                  </a:lnTo>
                  <a:lnTo>
                    <a:pt x="841" y="4"/>
                  </a:lnTo>
                  <a:lnTo>
                    <a:pt x="797" y="0"/>
                  </a:lnTo>
                  <a:lnTo>
                    <a:pt x="735" y="4"/>
                  </a:lnTo>
                  <a:lnTo>
                    <a:pt x="682" y="13"/>
                  </a:lnTo>
                  <a:lnTo>
                    <a:pt x="620" y="17"/>
                  </a:lnTo>
                  <a:lnTo>
                    <a:pt x="575" y="30"/>
                  </a:lnTo>
                  <a:lnTo>
                    <a:pt x="539" y="44"/>
                  </a:lnTo>
                  <a:lnTo>
                    <a:pt x="460" y="114"/>
                  </a:lnTo>
                  <a:lnTo>
                    <a:pt x="407" y="163"/>
                  </a:lnTo>
                  <a:lnTo>
                    <a:pt x="389" y="203"/>
                  </a:lnTo>
                  <a:lnTo>
                    <a:pt x="389" y="247"/>
                  </a:lnTo>
                  <a:lnTo>
                    <a:pt x="407" y="273"/>
                  </a:lnTo>
                  <a:lnTo>
                    <a:pt x="424" y="309"/>
                  </a:lnTo>
                  <a:lnTo>
                    <a:pt x="433" y="335"/>
                  </a:lnTo>
                  <a:lnTo>
                    <a:pt x="433" y="370"/>
                  </a:lnTo>
                  <a:lnTo>
                    <a:pt x="416" y="406"/>
                  </a:lnTo>
                  <a:lnTo>
                    <a:pt x="398" y="428"/>
                  </a:lnTo>
                  <a:lnTo>
                    <a:pt x="389" y="446"/>
                  </a:lnTo>
                  <a:lnTo>
                    <a:pt x="371" y="459"/>
                  </a:lnTo>
                  <a:lnTo>
                    <a:pt x="354" y="468"/>
                  </a:lnTo>
                  <a:lnTo>
                    <a:pt x="345" y="476"/>
                  </a:lnTo>
                  <a:lnTo>
                    <a:pt x="336" y="476"/>
                  </a:lnTo>
                  <a:lnTo>
                    <a:pt x="398" y="538"/>
                  </a:lnTo>
                  <a:lnTo>
                    <a:pt x="407" y="538"/>
                  </a:lnTo>
                  <a:lnTo>
                    <a:pt x="407" y="543"/>
                  </a:lnTo>
                  <a:lnTo>
                    <a:pt x="407" y="551"/>
                  </a:lnTo>
                  <a:lnTo>
                    <a:pt x="389" y="565"/>
                  </a:lnTo>
                  <a:lnTo>
                    <a:pt x="362" y="591"/>
                  </a:lnTo>
                  <a:lnTo>
                    <a:pt x="309" y="627"/>
                  </a:lnTo>
                  <a:lnTo>
                    <a:pt x="238" y="675"/>
                  </a:lnTo>
                  <a:lnTo>
                    <a:pt x="203" y="715"/>
                  </a:lnTo>
                  <a:lnTo>
                    <a:pt x="177" y="781"/>
                  </a:lnTo>
                  <a:lnTo>
                    <a:pt x="150" y="861"/>
                  </a:lnTo>
                  <a:lnTo>
                    <a:pt x="132" y="953"/>
                  </a:lnTo>
                  <a:lnTo>
                    <a:pt x="115" y="1042"/>
                  </a:lnTo>
                  <a:lnTo>
                    <a:pt x="106" y="1117"/>
                  </a:lnTo>
                  <a:lnTo>
                    <a:pt x="97" y="1179"/>
                  </a:lnTo>
                  <a:lnTo>
                    <a:pt x="97" y="1209"/>
                  </a:lnTo>
                  <a:lnTo>
                    <a:pt x="106" y="1223"/>
                  </a:lnTo>
                  <a:lnTo>
                    <a:pt x="115" y="1258"/>
                  </a:lnTo>
                  <a:lnTo>
                    <a:pt x="132" y="1298"/>
                  </a:lnTo>
                  <a:lnTo>
                    <a:pt x="150" y="1346"/>
                  </a:lnTo>
                  <a:lnTo>
                    <a:pt x="168" y="1395"/>
                  </a:lnTo>
                  <a:lnTo>
                    <a:pt x="185" y="1443"/>
                  </a:lnTo>
                  <a:lnTo>
                    <a:pt x="203" y="1479"/>
                  </a:lnTo>
                  <a:lnTo>
                    <a:pt x="221" y="1496"/>
                  </a:lnTo>
                  <a:lnTo>
                    <a:pt x="185" y="1652"/>
                  </a:lnTo>
                  <a:lnTo>
                    <a:pt x="168" y="1665"/>
                  </a:lnTo>
                  <a:lnTo>
                    <a:pt x="159" y="1679"/>
                  </a:lnTo>
                  <a:lnTo>
                    <a:pt x="150" y="1692"/>
                  </a:lnTo>
                  <a:lnTo>
                    <a:pt x="141" y="1705"/>
                  </a:lnTo>
                  <a:lnTo>
                    <a:pt x="132" y="1723"/>
                  </a:lnTo>
                  <a:lnTo>
                    <a:pt x="132" y="1736"/>
                  </a:lnTo>
                  <a:lnTo>
                    <a:pt x="132" y="1740"/>
                  </a:lnTo>
                  <a:lnTo>
                    <a:pt x="132" y="1754"/>
                  </a:lnTo>
                  <a:lnTo>
                    <a:pt x="0" y="1789"/>
                  </a:lnTo>
                  <a:lnTo>
                    <a:pt x="0" y="240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08720" y="5605560"/>
              <a:ext cx="1759320" cy="1026000"/>
            </a:xfrm>
            <a:custGeom>
              <a:avLst/>
              <a:gdLst/>
              <a:ahLst/>
              <a:rect l="0" t="0" r="r" b="b"/>
              <a:pathLst>
                <a:path w="4887" h="2850">
                  <a:moveTo>
                    <a:pt x="4270" y="1961"/>
                  </a:moveTo>
                  <a:lnTo>
                    <a:pt x="4887" y="0"/>
                  </a:lnTo>
                  <a:lnTo>
                    <a:pt x="613" y="884"/>
                  </a:lnTo>
                  <a:lnTo>
                    <a:pt x="0" y="2850"/>
                  </a:lnTo>
                  <a:lnTo>
                    <a:pt x="4270" y="196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Создание проектной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Команда должна включ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Дизайнеров баз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Администраторов баз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етевых админист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пециалистов 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Руководителей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65560" y="5186520"/>
            <a:ext cx="366228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Требования к проектной ком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Члены проектной команды быть экспертами в технологиях и инструмент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Управления загруз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VL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O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210360" y="3724200"/>
            <a:ext cx="2597400" cy="2730600"/>
            <a:chOff x="6210360" y="3724200"/>
            <a:chExt cx="2597400" cy="2730600"/>
          </a:xfrm>
        </p:grpSpPr>
        <p:sp>
          <p:nvSpPr>
            <p:cNvPr id="154" name=""/>
            <p:cNvSpPr/>
            <p:nvPr/>
          </p:nvSpPr>
          <p:spPr>
            <a:xfrm>
              <a:off x="6576840" y="5457960"/>
              <a:ext cx="996840" cy="99684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799320" y="5637240"/>
              <a:ext cx="571680" cy="621000"/>
              <a:chOff x="6799320" y="5637240"/>
              <a:chExt cx="571680" cy="621000"/>
            </a:xfrm>
          </p:grpSpPr>
          <p:sp>
            <p:nvSpPr>
              <p:cNvPr id="156" name=""/>
              <p:cNvSpPr/>
              <p:nvPr/>
            </p:nvSpPr>
            <p:spPr>
              <a:xfrm>
                <a:off x="6802560" y="5637240"/>
                <a:ext cx="489240" cy="541800"/>
              </a:xfrm>
              <a:custGeom>
                <a:avLst/>
                <a:gdLst/>
                <a:ahLst/>
                <a:rect l="0" t="0" r="r" b="b"/>
                <a:pathLst>
                  <a:path w="1359" h="1505">
                    <a:moveTo>
                      <a:pt x="956" y="1359"/>
                    </a:moveTo>
                    <a:lnTo>
                      <a:pt x="393" y="1505"/>
                    </a:lnTo>
                    <a:lnTo>
                      <a:pt x="0" y="1209"/>
                    </a:lnTo>
                    <a:lnTo>
                      <a:pt x="0" y="642"/>
                    </a:lnTo>
                    <a:lnTo>
                      <a:pt x="398" y="141"/>
                    </a:lnTo>
                    <a:lnTo>
                      <a:pt x="961" y="0"/>
                    </a:lnTo>
                    <a:lnTo>
                      <a:pt x="1359" y="291"/>
                    </a:lnTo>
                    <a:lnTo>
                      <a:pt x="1359" y="859"/>
                    </a:lnTo>
                    <a:lnTo>
                      <a:pt x="956" y="135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81760" y="5718240"/>
                <a:ext cx="489240" cy="540000"/>
              </a:xfrm>
              <a:custGeom>
                <a:avLst/>
                <a:gdLst/>
                <a:ahLst/>
                <a:rect l="0" t="0" r="r" b="b"/>
                <a:pathLst>
                  <a:path w="1359" h="1500">
                    <a:moveTo>
                      <a:pt x="956" y="1354"/>
                    </a:moveTo>
                    <a:lnTo>
                      <a:pt x="393" y="1500"/>
                    </a:lnTo>
                    <a:lnTo>
                      <a:pt x="0" y="1203"/>
                    </a:lnTo>
                    <a:lnTo>
                      <a:pt x="0" y="641"/>
                    </a:lnTo>
                    <a:lnTo>
                      <a:pt x="393" y="141"/>
                    </a:lnTo>
                    <a:lnTo>
                      <a:pt x="961" y="0"/>
                    </a:lnTo>
                    <a:lnTo>
                      <a:pt x="1359" y="291"/>
                    </a:lnTo>
                    <a:lnTo>
                      <a:pt x="1354" y="854"/>
                    </a:lnTo>
                    <a:lnTo>
                      <a:pt x="956" y="135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48520" y="5637240"/>
                <a:ext cx="222480" cy="187560"/>
              </a:xfrm>
              <a:custGeom>
                <a:avLst/>
                <a:gdLst/>
                <a:ahLst/>
                <a:rect l="0" t="0" r="r" b="b"/>
                <a:pathLst>
                  <a:path w="618" h="521">
                    <a:moveTo>
                      <a:pt x="618" y="521"/>
                    </a:moveTo>
                    <a:lnTo>
                      <a:pt x="396" y="298"/>
                    </a:lnTo>
                    <a:lnTo>
                      <a:pt x="0" y="0"/>
                    </a:lnTo>
                    <a:lnTo>
                      <a:pt x="57" y="142"/>
                    </a:lnTo>
                    <a:lnTo>
                      <a:pt x="217" y="217"/>
                    </a:lnTo>
                    <a:lnTo>
                      <a:pt x="618" y="521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02560" y="5694480"/>
                <a:ext cx="222480" cy="257400"/>
              </a:xfrm>
              <a:custGeom>
                <a:avLst/>
                <a:gdLst/>
                <a:ahLst/>
                <a:rect l="0" t="0" r="r" b="b"/>
                <a:pathLst>
                  <a:path w="618" h="715">
                    <a:moveTo>
                      <a:pt x="618" y="217"/>
                    </a:moveTo>
                    <a:lnTo>
                      <a:pt x="605" y="75"/>
                    </a:lnTo>
                    <a:lnTo>
                      <a:pt x="387" y="0"/>
                    </a:lnTo>
                    <a:lnTo>
                      <a:pt x="0" y="489"/>
                    </a:lnTo>
                    <a:lnTo>
                      <a:pt x="53" y="684"/>
                    </a:lnTo>
                    <a:lnTo>
                      <a:pt x="217" y="715"/>
                    </a:lnTo>
                    <a:lnTo>
                      <a:pt x="618" y="217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99320" y="5867280"/>
                <a:ext cx="86040" cy="289440"/>
              </a:xfrm>
              <a:custGeom>
                <a:avLst/>
                <a:gdLst/>
                <a:ahLst/>
                <a:rect l="0" t="0" r="r" b="b"/>
                <a:pathLst>
                  <a:path w="239" h="804">
                    <a:moveTo>
                      <a:pt x="239" y="222"/>
                    </a:moveTo>
                    <a:lnTo>
                      <a:pt x="0" y="0"/>
                    </a:lnTo>
                    <a:lnTo>
                      <a:pt x="0" y="577"/>
                    </a:lnTo>
                    <a:lnTo>
                      <a:pt x="234" y="804"/>
                    </a:lnTo>
                    <a:lnTo>
                      <a:pt x="239" y="22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43680" y="5638680"/>
                <a:ext cx="286200" cy="133560"/>
              </a:xfrm>
              <a:custGeom>
                <a:avLst/>
                <a:gdLst/>
                <a:ahLst/>
                <a:rect l="0" t="0" r="r" b="b"/>
                <a:pathLst>
                  <a:path w="795" h="371">
                    <a:moveTo>
                      <a:pt x="795" y="219"/>
                    </a:moveTo>
                    <a:lnTo>
                      <a:pt x="573" y="0"/>
                    </a:lnTo>
                    <a:lnTo>
                      <a:pt x="0" y="147"/>
                    </a:lnTo>
                    <a:lnTo>
                      <a:pt x="218" y="371"/>
                    </a:lnTo>
                    <a:lnTo>
                      <a:pt x="795" y="2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86520" y="5799240"/>
                <a:ext cx="295560" cy="368640"/>
              </a:xfrm>
              <a:custGeom>
                <a:avLst/>
                <a:gdLst/>
                <a:ahLst/>
                <a:rect l="0" t="0" r="r" b="b"/>
                <a:pathLst>
                  <a:path w="821" h="1024">
                    <a:moveTo>
                      <a:pt x="821" y="811"/>
                    </a:moveTo>
                    <a:lnTo>
                      <a:pt x="821" y="0"/>
                    </a:lnTo>
                    <a:lnTo>
                      <a:pt x="417" y="106"/>
                    </a:lnTo>
                    <a:lnTo>
                      <a:pt x="0" y="221"/>
                    </a:lnTo>
                    <a:lnTo>
                      <a:pt x="0" y="567"/>
                    </a:lnTo>
                    <a:lnTo>
                      <a:pt x="0" y="1024"/>
                    </a:lnTo>
                    <a:lnTo>
                      <a:pt x="821" y="81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47000" y="5883120"/>
                <a:ext cx="186120" cy="217800"/>
              </a:xfrm>
              <a:custGeom>
                <a:avLst/>
                <a:gdLst/>
                <a:ahLst/>
                <a:rect l="0" t="0" r="r" b="b"/>
                <a:pathLst>
                  <a:path w="517" h="605">
                    <a:moveTo>
                      <a:pt x="420" y="0"/>
                    </a:moveTo>
                    <a:lnTo>
                      <a:pt x="258" y="199"/>
                    </a:lnTo>
                    <a:lnTo>
                      <a:pt x="97" y="79"/>
                    </a:lnTo>
                    <a:lnTo>
                      <a:pt x="0" y="208"/>
                    </a:lnTo>
                    <a:lnTo>
                      <a:pt x="156" y="329"/>
                    </a:lnTo>
                    <a:lnTo>
                      <a:pt x="0" y="516"/>
                    </a:lnTo>
                    <a:lnTo>
                      <a:pt x="97" y="605"/>
                    </a:lnTo>
                    <a:lnTo>
                      <a:pt x="258" y="400"/>
                    </a:lnTo>
                    <a:lnTo>
                      <a:pt x="420" y="520"/>
                    </a:lnTo>
                    <a:lnTo>
                      <a:pt x="517" y="391"/>
                    </a:lnTo>
                    <a:lnTo>
                      <a:pt x="356" y="275"/>
                    </a:lnTo>
                    <a:lnTo>
                      <a:pt x="517" y="71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540560" y="5383080"/>
              <a:ext cx="876600" cy="763920"/>
            </a:xfrm>
            <a:custGeom>
              <a:avLst/>
              <a:gdLst/>
              <a:ahLst/>
              <a:rect l="0" t="0" r="r" b="b"/>
              <a:pathLst>
                <a:path w="2435" h="2122">
                  <a:moveTo>
                    <a:pt x="2435" y="106"/>
                  </a:moveTo>
                  <a:lnTo>
                    <a:pt x="2108" y="0"/>
                  </a:lnTo>
                  <a:lnTo>
                    <a:pt x="1958" y="300"/>
                  </a:lnTo>
                  <a:lnTo>
                    <a:pt x="1799" y="561"/>
                  </a:lnTo>
                  <a:lnTo>
                    <a:pt x="1626" y="773"/>
                  </a:lnTo>
                  <a:lnTo>
                    <a:pt x="1427" y="954"/>
                  </a:lnTo>
                  <a:lnTo>
                    <a:pt x="1210" y="1096"/>
                  </a:lnTo>
                  <a:lnTo>
                    <a:pt x="971" y="1211"/>
                  </a:lnTo>
                  <a:lnTo>
                    <a:pt x="698" y="1300"/>
                  </a:lnTo>
                  <a:lnTo>
                    <a:pt x="393" y="1362"/>
                  </a:lnTo>
                  <a:lnTo>
                    <a:pt x="371" y="1154"/>
                  </a:lnTo>
                  <a:lnTo>
                    <a:pt x="0" y="1635"/>
                  </a:lnTo>
                  <a:lnTo>
                    <a:pt x="463" y="2122"/>
                  </a:lnTo>
                  <a:lnTo>
                    <a:pt x="450" y="1940"/>
                  </a:lnTo>
                  <a:lnTo>
                    <a:pt x="777" y="1830"/>
                  </a:lnTo>
                  <a:lnTo>
                    <a:pt x="1077" y="1680"/>
                  </a:lnTo>
                  <a:lnTo>
                    <a:pt x="1357" y="1485"/>
                  </a:lnTo>
                  <a:lnTo>
                    <a:pt x="1613" y="1260"/>
                  </a:lnTo>
                  <a:lnTo>
                    <a:pt x="1847" y="1007"/>
                  </a:lnTo>
                  <a:lnTo>
                    <a:pt x="2064" y="729"/>
                  </a:lnTo>
                  <a:lnTo>
                    <a:pt x="2254" y="424"/>
                  </a:lnTo>
                  <a:lnTo>
                    <a:pt x="243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24720" y="5365800"/>
              <a:ext cx="875160" cy="763920"/>
            </a:xfrm>
            <a:custGeom>
              <a:avLst/>
              <a:gdLst/>
              <a:ahLst/>
              <a:rect l="0" t="0" r="r" b="b"/>
              <a:pathLst>
                <a:path w="2431" h="2122">
                  <a:moveTo>
                    <a:pt x="2431" y="106"/>
                  </a:moveTo>
                  <a:lnTo>
                    <a:pt x="2104" y="0"/>
                  </a:lnTo>
                  <a:lnTo>
                    <a:pt x="1954" y="300"/>
                  </a:lnTo>
                  <a:lnTo>
                    <a:pt x="1794" y="561"/>
                  </a:lnTo>
                  <a:lnTo>
                    <a:pt x="1622" y="773"/>
                  </a:lnTo>
                  <a:lnTo>
                    <a:pt x="1427" y="954"/>
                  </a:lnTo>
                  <a:lnTo>
                    <a:pt x="1211" y="1096"/>
                  </a:lnTo>
                  <a:lnTo>
                    <a:pt x="972" y="1211"/>
                  </a:lnTo>
                  <a:lnTo>
                    <a:pt x="699" y="1300"/>
                  </a:lnTo>
                  <a:lnTo>
                    <a:pt x="388" y="1362"/>
                  </a:lnTo>
                  <a:lnTo>
                    <a:pt x="371" y="1154"/>
                  </a:lnTo>
                  <a:lnTo>
                    <a:pt x="0" y="1635"/>
                  </a:lnTo>
                  <a:lnTo>
                    <a:pt x="463" y="2122"/>
                  </a:lnTo>
                  <a:lnTo>
                    <a:pt x="446" y="1940"/>
                  </a:lnTo>
                  <a:lnTo>
                    <a:pt x="774" y="1830"/>
                  </a:lnTo>
                  <a:lnTo>
                    <a:pt x="1078" y="1680"/>
                  </a:lnTo>
                  <a:lnTo>
                    <a:pt x="1357" y="1485"/>
                  </a:lnTo>
                  <a:lnTo>
                    <a:pt x="1609" y="1260"/>
                  </a:lnTo>
                  <a:lnTo>
                    <a:pt x="1844" y="1007"/>
                  </a:lnTo>
                  <a:lnTo>
                    <a:pt x="2060" y="729"/>
                  </a:lnTo>
                  <a:lnTo>
                    <a:pt x="2250" y="424"/>
                  </a:lnTo>
                  <a:lnTo>
                    <a:pt x="2431" y="10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0400" y="5045040"/>
              <a:ext cx="853920" cy="85392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8029440" y="5164200"/>
              <a:ext cx="541800" cy="587520"/>
              <a:chOff x="8029440" y="5164200"/>
              <a:chExt cx="541800" cy="58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8034480" y="5164200"/>
                <a:ext cx="464040" cy="513000"/>
              </a:xfrm>
              <a:custGeom>
                <a:avLst/>
                <a:gdLst/>
                <a:ahLst/>
                <a:rect l="0" t="0" r="r" b="b"/>
                <a:pathLst>
                  <a:path w="1289" h="1425">
                    <a:moveTo>
                      <a:pt x="908" y="1288"/>
                    </a:moveTo>
                    <a:lnTo>
                      <a:pt x="377" y="1425"/>
                    </a:lnTo>
                    <a:lnTo>
                      <a:pt x="0" y="1142"/>
                    </a:lnTo>
                    <a:lnTo>
                      <a:pt x="0" y="610"/>
                    </a:lnTo>
                    <a:lnTo>
                      <a:pt x="377" y="132"/>
                    </a:lnTo>
                    <a:lnTo>
                      <a:pt x="908" y="0"/>
                    </a:lnTo>
                    <a:lnTo>
                      <a:pt x="1289" y="278"/>
                    </a:lnTo>
                    <a:lnTo>
                      <a:pt x="1289" y="810"/>
                    </a:lnTo>
                    <a:lnTo>
                      <a:pt x="908" y="128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07200" y="5240160"/>
                <a:ext cx="464040" cy="511560"/>
              </a:xfrm>
              <a:custGeom>
                <a:avLst/>
                <a:gdLst/>
                <a:ahLst/>
                <a:rect l="0" t="0" r="r" b="b"/>
                <a:pathLst>
                  <a:path w="1289" h="1421">
                    <a:moveTo>
                      <a:pt x="908" y="1284"/>
                    </a:moveTo>
                    <a:lnTo>
                      <a:pt x="372" y="1421"/>
                    </a:lnTo>
                    <a:lnTo>
                      <a:pt x="0" y="1138"/>
                    </a:lnTo>
                    <a:lnTo>
                      <a:pt x="0" y="607"/>
                    </a:lnTo>
                    <a:lnTo>
                      <a:pt x="377" y="132"/>
                    </a:lnTo>
                    <a:lnTo>
                      <a:pt x="908" y="0"/>
                    </a:lnTo>
                    <a:lnTo>
                      <a:pt x="1289" y="278"/>
                    </a:lnTo>
                    <a:lnTo>
                      <a:pt x="1285" y="810"/>
                    </a:lnTo>
                    <a:lnTo>
                      <a:pt x="908" y="128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99360" y="5321160"/>
                <a:ext cx="273240" cy="344880"/>
              </a:xfrm>
              <a:custGeom>
                <a:avLst/>
                <a:gdLst/>
                <a:ahLst/>
                <a:rect l="0" t="0" r="r" b="b"/>
                <a:pathLst>
                  <a:path w="759" h="958">
                    <a:moveTo>
                      <a:pt x="759" y="759"/>
                    </a:moveTo>
                    <a:lnTo>
                      <a:pt x="759" y="0"/>
                    </a:lnTo>
                    <a:lnTo>
                      <a:pt x="0" y="194"/>
                    </a:lnTo>
                    <a:lnTo>
                      <a:pt x="0" y="958"/>
                    </a:lnTo>
                    <a:lnTo>
                      <a:pt x="759" y="7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361360" y="5164200"/>
                <a:ext cx="209880" cy="178200"/>
              </a:xfrm>
              <a:custGeom>
                <a:avLst/>
                <a:gdLst/>
                <a:ahLst/>
                <a:rect l="0" t="0" r="r" b="b"/>
                <a:pathLst>
                  <a:path w="583" h="495">
                    <a:moveTo>
                      <a:pt x="583" y="495"/>
                    </a:moveTo>
                    <a:lnTo>
                      <a:pt x="374" y="281"/>
                    </a:lnTo>
                    <a:lnTo>
                      <a:pt x="0" y="0"/>
                    </a:lnTo>
                    <a:lnTo>
                      <a:pt x="53" y="134"/>
                    </a:lnTo>
                    <a:lnTo>
                      <a:pt x="204" y="210"/>
                    </a:lnTo>
                    <a:lnTo>
                      <a:pt x="583" y="495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34480" y="5218200"/>
                <a:ext cx="209880" cy="243360"/>
              </a:xfrm>
              <a:custGeom>
                <a:avLst/>
                <a:gdLst/>
                <a:ahLst/>
                <a:rect l="0" t="0" r="r" b="b"/>
                <a:pathLst>
                  <a:path w="583" h="676">
                    <a:moveTo>
                      <a:pt x="583" y="205"/>
                    </a:moveTo>
                    <a:lnTo>
                      <a:pt x="569" y="71"/>
                    </a:lnTo>
                    <a:lnTo>
                      <a:pt x="365" y="0"/>
                    </a:lnTo>
                    <a:lnTo>
                      <a:pt x="0" y="462"/>
                    </a:lnTo>
                    <a:lnTo>
                      <a:pt x="48" y="645"/>
                    </a:lnTo>
                    <a:lnTo>
                      <a:pt x="204" y="676"/>
                    </a:lnTo>
                    <a:lnTo>
                      <a:pt x="583" y="205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029440" y="5380200"/>
                <a:ext cx="81360" cy="275040"/>
              </a:xfrm>
              <a:custGeom>
                <a:avLst/>
                <a:gdLst/>
                <a:ahLst/>
                <a:rect l="0" t="0" r="r" b="b"/>
                <a:pathLst>
                  <a:path w="226" h="764">
                    <a:moveTo>
                      <a:pt x="226" y="209"/>
                    </a:moveTo>
                    <a:lnTo>
                      <a:pt x="0" y="0"/>
                    </a:lnTo>
                    <a:lnTo>
                      <a:pt x="0" y="550"/>
                    </a:lnTo>
                    <a:lnTo>
                      <a:pt x="222" y="764"/>
                    </a:lnTo>
                    <a:lnTo>
                      <a:pt x="226" y="20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16800" y="5321160"/>
                <a:ext cx="55800" cy="275040"/>
              </a:xfrm>
              <a:custGeom>
                <a:avLst/>
                <a:gdLst/>
                <a:ahLst/>
                <a:rect l="0" t="0" r="r" b="b"/>
                <a:pathLst>
                  <a:path w="155" h="764">
                    <a:moveTo>
                      <a:pt x="155" y="0"/>
                    </a:moveTo>
                    <a:lnTo>
                      <a:pt x="155" y="764"/>
                    </a:lnTo>
                    <a:lnTo>
                      <a:pt x="0" y="640"/>
                    </a:lnTo>
                    <a:lnTo>
                      <a:pt x="0" y="35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99360" y="5549760"/>
                <a:ext cx="273240" cy="116280"/>
              </a:xfrm>
              <a:custGeom>
                <a:avLst/>
                <a:gdLst/>
                <a:ahLst/>
                <a:rect l="0" t="0" r="r" b="b"/>
                <a:pathLst>
                  <a:path w="759" h="323">
                    <a:moveTo>
                      <a:pt x="759" y="121"/>
                    </a:moveTo>
                    <a:lnTo>
                      <a:pt x="0" y="323"/>
                    </a:lnTo>
                    <a:lnTo>
                      <a:pt x="0" y="161"/>
                    </a:lnTo>
                    <a:lnTo>
                      <a:pt x="604" y="0"/>
                    </a:lnTo>
                    <a:lnTo>
                      <a:pt x="759" y="121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66240" y="5167440"/>
                <a:ext cx="273240" cy="124200"/>
              </a:xfrm>
              <a:custGeom>
                <a:avLst/>
                <a:gdLst/>
                <a:ahLst/>
                <a:rect l="0" t="0" r="r" b="b"/>
                <a:pathLst>
                  <a:path w="759" h="345">
                    <a:moveTo>
                      <a:pt x="759" y="202"/>
                    </a:moveTo>
                    <a:lnTo>
                      <a:pt x="546" y="0"/>
                    </a:lnTo>
                    <a:lnTo>
                      <a:pt x="0" y="139"/>
                    </a:lnTo>
                    <a:lnTo>
                      <a:pt x="208" y="345"/>
                    </a:lnTo>
                    <a:lnTo>
                      <a:pt x="759" y="202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8435880" y="4583160"/>
              <a:ext cx="230400" cy="560880"/>
            </a:xfrm>
            <a:custGeom>
              <a:avLst/>
              <a:gdLst/>
              <a:ahLst/>
              <a:rect l="0" t="0" r="r" b="b"/>
              <a:pathLst>
                <a:path w="640" h="1558">
                  <a:moveTo>
                    <a:pt x="476" y="1337"/>
                  </a:moveTo>
                  <a:lnTo>
                    <a:pt x="493" y="1257"/>
                  </a:lnTo>
                  <a:lnTo>
                    <a:pt x="516" y="1191"/>
                  </a:lnTo>
                  <a:lnTo>
                    <a:pt x="547" y="1128"/>
                  </a:lnTo>
                  <a:lnTo>
                    <a:pt x="573" y="1057"/>
                  </a:lnTo>
                  <a:lnTo>
                    <a:pt x="591" y="969"/>
                  </a:lnTo>
                  <a:lnTo>
                    <a:pt x="600" y="858"/>
                  </a:lnTo>
                  <a:lnTo>
                    <a:pt x="587" y="712"/>
                  </a:lnTo>
                  <a:lnTo>
                    <a:pt x="551" y="531"/>
                  </a:lnTo>
                  <a:lnTo>
                    <a:pt x="533" y="460"/>
                  </a:lnTo>
                  <a:lnTo>
                    <a:pt x="511" y="399"/>
                  </a:lnTo>
                  <a:lnTo>
                    <a:pt x="493" y="340"/>
                  </a:lnTo>
                  <a:lnTo>
                    <a:pt x="476" y="287"/>
                  </a:lnTo>
                  <a:lnTo>
                    <a:pt x="453" y="234"/>
                  </a:lnTo>
                  <a:lnTo>
                    <a:pt x="436" y="176"/>
                  </a:lnTo>
                  <a:lnTo>
                    <a:pt x="413" y="114"/>
                  </a:lnTo>
                  <a:lnTo>
                    <a:pt x="391" y="44"/>
                  </a:lnTo>
                  <a:lnTo>
                    <a:pt x="208" y="0"/>
                  </a:lnTo>
                  <a:lnTo>
                    <a:pt x="226" y="75"/>
                  </a:lnTo>
                  <a:lnTo>
                    <a:pt x="239" y="154"/>
                  </a:lnTo>
                  <a:lnTo>
                    <a:pt x="248" y="238"/>
                  </a:lnTo>
                  <a:lnTo>
                    <a:pt x="253" y="318"/>
                  </a:lnTo>
                  <a:lnTo>
                    <a:pt x="261" y="403"/>
                  </a:lnTo>
                  <a:lnTo>
                    <a:pt x="261" y="487"/>
                  </a:lnTo>
                  <a:lnTo>
                    <a:pt x="266" y="571"/>
                  </a:lnTo>
                  <a:lnTo>
                    <a:pt x="270" y="651"/>
                  </a:lnTo>
                  <a:lnTo>
                    <a:pt x="279" y="770"/>
                  </a:lnTo>
                  <a:lnTo>
                    <a:pt x="275" y="863"/>
                  </a:lnTo>
                  <a:lnTo>
                    <a:pt x="270" y="938"/>
                  </a:lnTo>
                  <a:lnTo>
                    <a:pt x="257" y="996"/>
                  </a:lnTo>
                  <a:lnTo>
                    <a:pt x="239" y="1049"/>
                  </a:lnTo>
                  <a:lnTo>
                    <a:pt x="213" y="1102"/>
                  </a:lnTo>
                  <a:lnTo>
                    <a:pt x="182" y="1169"/>
                  </a:lnTo>
                  <a:lnTo>
                    <a:pt x="146" y="1240"/>
                  </a:lnTo>
                  <a:lnTo>
                    <a:pt x="0" y="1196"/>
                  </a:lnTo>
                  <a:lnTo>
                    <a:pt x="235" y="1558"/>
                  </a:lnTo>
                  <a:lnTo>
                    <a:pt x="640" y="1372"/>
                  </a:lnTo>
                  <a:lnTo>
                    <a:pt x="476" y="1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4720" y="4572000"/>
              <a:ext cx="232200" cy="560880"/>
            </a:xfrm>
            <a:custGeom>
              <a:avLst/>
              <a:gdLst/>
              <a:ahLst/>
              <a:rect l="0" t="0" r="r" b="b"/>
              <a:pathLst>
                <a:path w="645" h="1558">
                  <a:moveTo>
                    <a:pt x="476" y="1337"/>
                  </a:moveTo>
                  <a:lnTo>
                    <a:pt x="499" y="1257"/>
                  </a:lnTo>
                  <a:lnTo>
                    <a:pt x="521" y="1191"/>
                  </a:lnTo>
                  <a:lnTo>
                    <a:pt x="552" y="1128"/>
                  </a:lnTo>
                  <a:lnTo>
                    <a:pt x="579" y="1057"/>
                  </a:lnTo>
                  <a:lnTo>
                    <a:pt x="596" y="969"/>
                  </a:lnTo>
                  <a:lnTo>
                    <a:pt x="605" y="858"/>
                  </a:lnTo>
                  <a:lnTo>
                    <a:pt x="592" y="712"/>
                  </a:lnTo>
                  <a:lnTo>
                    <a:pt x="557" y="531"/>
                  </a:lnTo>
                  <a:lnTo>
                    <a:pt x="539" y="460"/>
                  </a:lnTo>
                  <a:lnTo>
                    <a:pt x="517" y="399"/>
                  </a:lnTo>
                  <a:lnTo>
                    <a:pt x="499" y="340"/>
                  </a:lnTo>
                  <a:lnTo>
                    <a:pt x="476" y="287"/>
                  </a:lnTo>
                  <a:lnTo>
                    <a:pt x="458" y="234"/>
                  </a:lnTo>
                  <a:lnTo>
                    <a:pt x="440" y="176"/>
                  </a:lnTo>
                  <a:lnTo>
                    <a:pt x="413" y="114"/>
                  </a:lnTo>
                  <a:lnTo>
                    <a:pt x="396" y="44"/>
                  </a:lnTo>
                  <a:lnTo>
                    <a:pt x="209" y="0"/>
                  </a:lnTo>
                  <a:lnTo>
                    <a:pt x="231" y="75"/>
                  </a:lnTo>
                  <a:lnTo>
                    <a:pt x="240" y="154"/>
                  </a:lnTo>
                  <a:lnTo>
                    <a:pt x="249" y="238"/>
                  </a:lnTo>
                  <a:lnTo>
                    <a:pt x="254" y="318"/>
                  </a:lnTo>
                  <a:lnTo>
                    <a:pt x="262" y="403"/>
                  </a:lnTo>
                  <a:lnTo>
                    <a:pt x="262" y="487"/>
                  </a:lnTo>
                  <a:lnTo>
                    <a:pt x="271" y="571"/>
                  </a:lnTo>
                  <a:lnTo>
                    <a:pt x="276" y="651"/>
                  </a:lnTo>
                  <a:lnTo>
                    <a:pt x="285" y="770"/>
                  </a:lnTo>
                  <a:lnTo>
                    <a:pt x="280" y="863"/>
                  </a:lnTo>
                  <a:lnTo>
                    <a:pt x="276" y="938"/>
                  </a:lnTo>
                  <a:lnTo>
                    <a:pt x="258" y="996"/>
                  </a:lnTo>
                  <a:lnTo>
                    <a:pt x="240" y="1049"/>
                  </a:lnTo>
                  <a:lnTo>
                    <a:pt x="218" y="1102"/>
                  </a:lnTo>
                  <a:lnTo>
                    <a:pt x="183" y="1169"/>
                  </a:lnTo>
                  <a:lnTo>
                    <a:pt x="146" y="1240"/>
                  </a:lnTo>
                  <a:lnTo>
                    <a:pt x="0" y="1196"/>
                  </a:lnTo>
                  <a:lnTo>
                    <a:pt x="236" y="1558"/>
                  </a:lnTo>
                  <a:lnTo>
                    <a:pt x="645" y="1372"/>
                  </a:lnTo>
                  <a:lnTo>
                    <a:pt x="476" y="133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6400" y="518472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166" y="341"/>
                  </a:moveTo>
                  <a:lnTo>
                    <a:pt x="135" y="332"/>
                  </a:lnTo>
                  <a:lnTo>
                    <a:pt x="103" y="323"/>
                  </a:lnTo>
                  <a:lnTo>
                    <a:pt x="75" y="310"/>
                  </a:lnTo>
                  <a:lnTo>
                    <a:pt x="44" y="292"/>
                  </a:lnTo>
                  <a:lnTo>
                    <a:pt x="26" y="265"/>
                  </a:lnTo>
                  <a:lnTo>
                    <a:pt x="13" y="237"/>
                  </a:lnTo>
                  <a:lnTo>
                    <a:pt x="4" y="202"/>
                  </a:lnTo>
                  <a:lnTo>
                    <a:pt x="0" y="170"/>
                  </a:lnTo>
                  <a:lnTo>
                    <a:pt x="4" y="135"/>
                  </a:lnTo>
                  <a:lnTo>
                    <a:pt x="13" y="99"/>
                  </a:lnTo>
                  <a:lnTo>
                    <a:pt x="26" y="71"/>
                  </a:lnTo>
                  <a:lnTo>
                    <a:pt x="44" y="44"/>
                  </a:lnTo>
                  <a:lnTo>
                    <a:pt x="75" y="26"/>
                  </a:lnTo>
                  <a:lnTo>
                    <a:pt x="103" y="8"/>
                  </a:lnTo>
                  <a:lnTo>
                    <a:pt x="135" y="0"/>
                  </a:lnTo>
                  <a:lnTo>
                    <a:pt x="166" y="0"/>
                  </a:lnTo>
                  <a:lnTo>
                    <a:pt x="202" y="0"/>
                  </a:lnTo>
                  <a:lnTo>
                    <a:pt x="237" y="8"/>
                  </a:lnTo>
                  <a:lnTo>
                    <a:pt x="265" y="26"/>
                  </a:lnTo>
                  <a:lnTo>
                    <a:pt x="292" y="44"/>
                  </a:lnTo>
                  <a:lnTo>
                    <a:pt x="310" y="71"/>
                  </a:lnTo>
                  <a:lnTo>
                    <a:pt x="328" y="99"/>
                  </a:lnTo>
                  <a:lnTo>
                    <a:pt x="337" y="135"/>
                  </a:lnTo>
                  <a:lnTo>
                    <a:pt x="345" y="170"/>
                  </a:lnTo>
                  <a:lnTo>
                    <a:pt x="337" y="202"/>
                  </a:lnTo>
                  <a:lnTo>
                    <a:pt x="328" y="237"/>
                  </a:lnTo>
                  <a:lnTo>
                    <a:pt x="310" y="265"/>
                  </a:lnTo>
                  <a:lnTo>
                    <a:pt x="292" y="292"/>
                  </a:lnTo>
                  <a:lnTo>
                    <a:pt x="265" y="310"/>
                  </a:lnTo>
                  <a:lnTo>
                    <a:pt x="237" y="323"/>
                  </a:lnTo>
                  <a:lnTo>
                    <a:pt x="202" y="332"/>
                  </a:lnTo>
                  <a:lnTo>
                    <a:pt x="166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15240" y="516744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166" y="341"/>
                  </a:moveTo>
                  <a:lnTo>
                    <a:pt x="135" y="341"/>
                  </a:lnTo>
                  <a:lnTo>
                    <a:pt x="103" y="323"/>
                  </a:lnTo>
                  <a:lnTo>
                    <a:pt x="75" y="310"/>
                  </a:lnTo>
                  <a:lnTo>
                    <a:pt x="49" y="292"/>
                  </a:lnTo>
                  <a:lnTo>
                    <a:pt x="26" y="265"/>
                  </a:lnTo>
                  <a:lnTo>
                    <a:pt x="13" y="237"/>
                  </a:lnTo>
                  <a:lnTo>
                    <a:pt x="4" y="202"/>
                  </a:lnTo>
                  <a:lnTo>
                    <a:pt x="0" y="170"/>
                  </a:lnTo>
                  <a:lnTo>
                    <a:pt x="4" y="135"/>
                  </a:lnTo>
                  <a:lnTo>
                    <a:pt x="13" y="99"/>
                  </a:lnTo>
                  <a:lnTo>
                    <a:pt x="26" y="71"/>
                  </a:lnTo>
                  <a:lnTo>
                    <a:pt x="49" y="44"/>
                  </a:lnTo>
                  <a:lnTo>
                    <a:pt x="75" y="26"/>
                  </a:lnTo>
                  <a:lnTo>
                    <a:pt x="103" y="13"/>
                  </a:lnTo>
                  <a:lnTo>
                    <a:pt x="135" y="4"/>
                  </a:lnTo>
                  <a:lnTo>
                    <a:pt x="166" y="0"/>
                  </a:lnTo>
                  <a:lnTo>
                    <a:pt x="206" y="4"/>
                  </a:lnTo>
                  <a:lnTo>
                    <a:pt x="237" y="13"/>
                  </a:lnTo>
                  <a:lnTo>
                    <a:pt x="265" y="26"/>
                  </a:lnTo>
                  <a:lnTo>
                    <a:pt x="292" y="44"/>
                  </a:lnTo>
                  <a:lnTo>
                    <a:pt x="314" y="71"/>
                  </a:lnTo>
                  <a:lnTo>
                    <a:pt x="328" y="99"/>
                  </a:lnTo>
                  <a:lnTo>
                    <a:pt x="337" y="135"/>
                  </a:lnTo>
                  <a:lnTo>
                    <a:pt x="345" y="170"/>
                  </a:lnTo>
                  <a:lnTo>
                    <a:pt x="337" y="202"/>
                  </a:lnTo>
                  <a:lnTo>
                    <a:pt x="328" y="237"/>
                  </a:lnTo>
                  <a:lnTo>
                    <a:pt x="314" y="265"/>
                  </a:lnTo>
                  <a:lnTo>
                    <a:pt x="292" y="292"/>
                  </a:lnTo>
                  <a:lnTo>
                    <a:pt x="265" y="310"/>
                  </a:lnTo>
                  <a:lnTo>
                    <a:pt x="237" y="323"/>
                  </a:lnTo>
                  <a:lnTo>
                    <a:pt x="206" y="341"/>
                  </a:lnTo>
                  <a:lnTo>
                    <a:pt x="166" y="34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66000" y="5351400"/>
              <a:ext cx="81360" cy="81360"/>
            </a:xfrm>
            <a:custGeom>
              <a:avLst/>
              <a:gdLst/>
              <a:ahLst/>
              <a:rect l="0" t="0" r="r" b="b"/>
              <a:pathLst>
                <a:path w="226" h="226">
                  <a:moveTo>
                    <a:pt x="113" y="226"/>
                  </a:moveTo>
                  <a:lnTo>
                    <a:pt x="86" y="217"/>
                  </a:lnTo>
                  <a:lnTo>
                    <a:pt x="68" y="213"/>
                  </a:lnTo>
                  <a:lnTo>
                    <a:pt x="44" y="204"/>
                  </a:lnTo>
                  <a:lnTo>
                    <a:pt x="31" y="190"/>
                  </a:lnTo>
                  <a:lnTo>
                    <a:pt x="17" y="177"/>
                  </a:lnTo>
                  <a:lnTo>
                    <a:pt x="8" y="153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86"/>
                  </a:lnTo>
                  <a:lnTo>
                    <a:pt x="8" y="68"/>
                  </a:lnTo>
                  <a:lnTo>
                    <a:pt x="17" y="44"/>
                  </a:lnTo>
                  <a:lnTo>
                    <a:pt x="31" y="31"/>
                  </a:lnTo>
                  <a:lnTo>
                    <a:pt x="44" y="17"/>
                  </a:lnTo>
                  <a:lnTo>
                    <a:pt x="68" y="8"/>
                  </a:lnTo>
                  <a:lnTo>
                    <a:pt x="86" y="4"/>
                  </a:lnTo>
                  <a:lnTo>
                    <a:pt x="113" y="0"/>
                  </a:lnTo>
                  <a:lnTo>
                    <a:pt x="131" y="4"/>
                  </a:lnTo>
                  <a:lnTo>
                    <a:pt x="153" y="8"/>
                  </a:lnTo>
                  <a:lnTo>
                    <a:pt x="172" y="17"/>
                  </a:lnTo>
                  <a:lnTo>
                    <a:pt x="190" y="31"/>
                  </a:lnTo>
                  <a:lnTo>
                    <a:pt x="204" y="44"/>
                  </a:lnTo>
                  <a:lnTo>
                    <a:pt x="213" y="68"/>
                  </a:lnTo>
                  <a:lnTo>
                    <a:pt x="217" y="86"/>
                  </a:lnTo>
                  <a:lnTo>
                    <a:pt x="226" y="113"/>
                  </a:lnTo>
                  <a:lnTo>
                    <a:pt x="217" y="135"/>
                  </a:lnTo>
                  <a:lnTo>
                    <a:pt x="213" y="153"/>
                  </a:lnTo>
                  <a:lnTo>
                    <a:pt x="204" y="177"/>
                  </a:lnTo>
                  <a:lnTo>
                    <a:pt x="190" y="190"/>
                  </a:lnTo>
                  <a:lnTo>
                    <a:pt x="172" y="204"/>
                  </a:lnTo>
                  <a:lnTo>
                    <a:pt x="153" y="213"/>
                  </a:lnTo>
                  <a:lnTo>
                    <a:pt x="131" y="217"/>
                  </a:lnTo>
                  <a:lnTo>
                    <a:pt x="113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4840" y="5334120"/>
              <a:ext cx="81360" cy="81360"/>
            </a:xfrm>
            <a:custGeom>
              <a:avLst/>
              <a:gdLst/>
              <a:ahLst/>
              <a:rect l="0" t="0" r="r" b="b"/>
              <a:pathLst>
                <a:path w="226" h="226">
                  <a:moveTo>
                    <a:pt x="113" y="226"/>
                  </a:moveTo>
                  <a:lnTo>
                    <a:pt x="86" y="226"/>
                  </a:lnTo>
                  <a:lnTo>
                    <a:pt x="68" y="213"/>
                  </a:lnTo>
                  <a:lnTo>
                    <a:pt x="44" y="204"/>
                  </a:lnTo>
                  <a:lnTo>
                    <a:pt x="31" y="190"/>
                  </a:lnTo>
                  <a:lnTo>
                    <a:pt x="17" y="177"/>
                  </a:lnTo>
                  <a:lnTo>
                    <a:pt x="8" y="153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90"/>
                  </a:lnTo>
                  <a:lnTo>
                    <a:pt x="8" y="68"/>
                  </a:lnTo>
                  <a:lnTo>
                    <a:pt x="17" y="44"/>
                  </a:lnTo>
                  <a:lnTo>
                    <a:pt x="31" y="31"/>
                  </a:lnTo>
                  <a:lnTo>
                    <a:pt x="44" y="17"/>
                  </a:lnTo>
                  <a:lnTo>
                    <a:pt x="68" y="8"/>
                  </a:lnTo>
                  <a:lnTo>
                    <a:pt x="86" y="4"/>
                  </a:lnTo>
                  <a:lnTo>
                    <a:pt x="113" y="0"/>
                  </a:lnTo>
                  <a:lnTo>
                    <a:pt x="131" y="4"/>
                  </a:lnTo>
                  <a:lnTo>
                    <a:pt x="153" y="8"/>
                  </a:lnTo>
                  <a:lnTo>
                    <a:pt x="172" y="17"/>
                  </a:lnTo>
                  <a:lnTo>
                    <a:pt x="190" y="31"/>
                  </a:lnTo>
                  <a:lnTo>
                    <a:pt x="204" y="44"/>
                  </a:lnTo>
                  <a:lnTo>
                    <a:pt x="213" y="68"/>
                  </a:lnTo>
                  <a:lnTo>
                    <a:pt x="217" y="90"/>
                  </a:lnTo>
                  <a:lnTo>
                    <a:pt x="226" y="113"/>
                  </a:lnTo>
                  <a:lnTo>
                    <a:pt x="217" y="135"/>
                  </a:lnTo>
                  <a:lnTo>
                    <a:pt x="213" y="153"/>
                  </a:lnTo>
                  <a:lnTo>
                    <a:pt x="204" y="177"/>
                  </a:lnTo>
                  <a:lnTo>
                    <a:pt x="190" y="190"/>
                  </a:lnTo>
                  <a:lnTo>
                    <a:pt x="172" y="204"/>
                  </a:lnTo>
                  <a:lnTo>
                    <a:pt x="153" y="213"/>
                  </a:lnTo>
                  <a:lnTo>
                    <a:pt x="131" y="226"/>
                  </a:lnTo>
                  <a:lnTo>
                    <a:pt x="113" y="2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0240" y="4968720"/>
              <a:ext cx="122760" cy="122760"/>
            </a:xfrm>
            <a:custGeom>
              <a:avLst/>
              <a:gdLst/>
              <a:ahLst/>
              <a:rect l="0" t="0" r="r" b="b"/>
              <a:pathLst>
                <a:path w="341" h="341">
                  <a:moveTo>
                    <a:pt x="170" y="341"/>
                  </a:moveTo>
                  <a:lnTo>
                    <a:pt x="135" y="341"/>
                  </a:lnTo>
                  <a:lnTo>
                    <a:pt x="99" y="328"/>
                  </a:lnTo>
                  <a:lnTo>
                    <a:pt x="71" y="310"/>
                  </a:lnTo>
                  <a:lnTo>
                    <a:pt x="44" y="292"/>
                  </a:lnTo>
                  <a:lnTo>
                    <a:pt x="22" y="265"/>
                  </a:lnTo>
                  <a:lnTo>
                    <a:pt x="8" y="237"/>
                  </a:lnTo>
                  <a:lnTo>
                    <a:pt x="0" y="202"/>
                  </a:lnTo>
                  <a:lnTo>
                    <a:pt x="0" y="170"/>
                  </a:lnTo>
                  <a:lnTo>
                    <a:pt x="0" y="135"/>
                  </a:lnTo>
                  <a:lnTo>
                    <a:pt x="8" y="103"/>
                  </a:lnTo>
                  <a:lnTo>
                    <a:pt x="22" y="75"/>
                  </a:lnTo>
                  <a:lnTo>
                    <a:pt x="44" y="44"/>
                  </a:lnTo>
                  <a:lnTo>
                    <a:pt x="71" y="26"/>
                  </a:lnTo>
                  <a:lnTo>
                    <a:pt x="99" y="13"/>
                  </a:lnTo>
                  <a:lnTo>
                    <a:pt x="135" y="4"/>
                  </a:lnTo>
                  <a:lnTo>
                    <a:pt x="170" y="0"/>
                  </a:lnTo>
                  <a:lnTo>
                    <a:pt x="202" y="4"/>
                  </a:lnTo>
                  <a:lnTo>
                    <a:pt x="237" y="13"/>
                  </a:lnTo>
                  <a:lnTo>
                    <a:pt x="265" y="26"/>
                  </a:lnTo>
                  <a:lnTo>
                    <a:pt x="292" y="44"/>
                  </a:lnTo>
                  <a:lnTo>
                    <a:pt x="310" y="75"/>
                  </a:lnTo>
                  <a:lnTo>
                    <a:pt x="323" y="103"/>
                  </a:lnTo>
                  <a:lnTo>
                    <a:pt x="332" y="135"/>
                  </a:lnTo>
                  <a:lnTo>
                    <a:pt x="341" y="170"/>
                  </a:lnTo>
                  <a:lnTo>
                    <a:pt x="332" y="202"/>
                  </a:lnTo>
                  <a:lnTo>
                    <a:pt x="323" y="237"/>
                  </a:lnTo>
                  <a:lnTo>
                    <a:pt x="310" y="265"/>
                  </a:lnTo>
                  <a:lnTo>
                    <a:pt x="292" y="292"/>
                  </a:lnTo>
                  <a:lnTo>
                    <a:pt x="265" y="310"/>
                  </a:lnTo>
                  <a:lnTo>
                    <a:pt x="237" y="328"/>
                  </a:lnTo>
                  <a:lnTo>
                    <a:pt x="202" y="341"/>
                  </a:lnTo>
                  <a:lnTo>
                    <a:pt x="17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70880" y="4951440"/>
              <a:ext cx="122760" cy="124200"/>
            </a:xfrm>
            <a:custGeom>
              <a:avLst/>
              <a:gdLst/>
              <a:ahLst/>
              <a:rect l="0" t="0" r="r" b="b"/>
              <a:pathLst>
                <a:path w="341" h="345">
                  <a:moveTo>
                    <a:pt x="170" y="345"/>
                  </a:moveTo>
                  <a:lnTo>
                    <a:pt x="135" y="337"/>
                  </a:lnTo>
                  <a:lnTo>
                    <a:pt x="99" y="328"/>
                  </a:lnTo>
                  <a:lnTo>
                    <a:pt x="71" y="314"/>
                  </a:lnTo>
                  <a:lnTo>
                    <a:pt x="44" y="292"/>
                  </a:lnTo>
                  <a:lnTo>
                    <a:pt x="26" y="265"/>
                  </a:lnTo>
                  <a:lnTo>
                    <a:pt x="13" y="237"/>
                  </a:lnTo>
                  <a:lnTo>
                    <a:pt x="0" y="206"/>
                  </a:lnTo>
                  <a:lnTo>
                    <a:pt x="0" y="166"/>
                  </a:lnTo>
                  <a:lnTo>
                    <a:pt x="0" y="135"/>
                  </a:lnTo>
                  <a:lnTo>
                    <a:pt x="13" y="103"/>
                  </a:lnTo>
                  <a:lnTo>
                    <a:pt x="26" y="75"/>
                  </a:lnTo>
                  <a:lnTo>
                    <a:pt x="44" y="49"/>
                  </a:lnTo>
                  <a:lnTo>
                    <a:pt x="71" y="26"/>
                  </a:lnTo>
                  <a:lnTo>
                    <a:pt x="99" y="13"/>
                  </a:lnTo>
                  <a:lnTo>
                    <a:pt x="135" y="4"/>
                  </a:lnTo>
                  <a:lnTo>
                    <a:pt x="170" y="0"/>
                  </a:lnTo>
                  <a:lnTo>
                    <a:pt x="202" y="4"/>
                  </a:lnTo>
                  <a:lnTo>
                    <a:pt x="237" y="13"/>
                  </a:lnTo>
                  <a:lnTo>
                    <a:pt x="265" y="26"/>
                  </a:lnTo>
                  <a:lnTo>
                    <a:pt x="292" y="49"/>
                  </a:lnTo>
                  <a:lnTo>
                    <a:pt x="310" y="75"/>
                  </a:lnTo>
                  <a:lnTo>
                    <a:pt x="323" y="103"/>
                  </a:lnTo>
                  <a:lnTo>
                    <a:pt x="332" y="135"/>
                  </a:lnTo>
                  <a:lnTo>
                    <a:pt x="341" y="166"/>
                  </a:lnTo>
                  <a:lnTo>
                    <a:pt x="332" y="206"/>
                  </a:lnTo>
                  <a:lnTo>
                    <a:pt x="323" y="237"/>
                  </a:lnTo>
                  <a:lnTo>
                    <a:pt x="310" y="265"/>
                  </a:lnTo>
                  <a:lnTo>
                    <a:pt x="292" y="292"/>
                  </a:lnTo>
                  <a:lnTo>
                    <a:pt x="265" y="314"/>
                  </a:lnTo>
                  <a:lnTo>
                    <a:pt x="237" y="328"/>
                  </a:lnTo>
                  <a:lnTo>
                    <a:pt x="202" y="337"/>
                  </a:lnTo>
                  <a:lnTo>
                    <a:pt x="170" y="34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58080" y="5106960"/>
              <a:ext cx="81360" cy="79560"/>
            </a:xfrm>
            <a:custGeom>
              <a:avLst/>
              <a:gdLst/>
              <a:ahLst/>
              <a:rect l="0" t="0" r="r" b="b"/>
              <a:pathLst>
                <a:path w="226" h="221">
                  <a:moveTo>
                    <a:pt x="113" y="221"/>
                  </a:moveTo>
                  <a:lnTo>
                    <a:pt x="90" y="221"/>
                  </a:lnTo>
                  <a:lnTo>
                    <a:pt x="68" y="212"/>
                  </a:lnTo>
                  <a:lnTo>
                    <a:pt x="44" y="203"/>
                  </a:lnTo>
                  <a:lnTo>
                    <a:pt x="31" y="189"/>
                  </a:lnTo>
                  <a:lnTo>
                    <a:pt x="17" y="171"/>
                  </a:lnTo>
                  <a:lnTo>
                    <a:pt x="8" y="149"/>
                  </a:lnTo>
                  <a:lnTo>
                    <a:pt x="4" y="131"/>
                  </a:lnTo>
                  <a:lnTo>
                    <a:pt x="0" y="113"/>
                  </a:lnTo>
                  <a:lnTo>
                    <a:pt x="4" y="85"/>
                  </a:lnTo>
                  <a:lnTo>
                    <a:pt x="8" y="67"/>
                  </a:lnTo>
                  <a:lnTo>
                    <a:pt x="17" y="44"/>
                  </a:lnTo>
                  <a:lnTo>
                    <a:pt x="31" y="26"/>
                  </a:lnTo>
                  <a:lnTo>
                    <a:pt x="44" y="17"/>
                  </a:lnTo>
                  <a:lnTo>
                    <a:pt x="68" y="9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0"/>
                  </a:lnTo>
                  <a:lnTo>
                    <a:pt x="153" y="9"/>
                  </a:lnTo>
                  <a:lnTo>
                    <a:pt x="177" y="17"/>
                  </a:lnTo>
                  <a:lnTo>
                    <a:pt x="190" y="26"/>
                  </a:lnTo>
                  <a:lnTo>
                    <a:pt x="204" y="44"/>
                  </a:lnTo>
                  <a:lnTo>
                    <a:pt x="213" y="67"/>
                  </a:lnTo>
                  <a:lnTo>
                    <a:pt x="226" y="85"/>
                  </a:lnTo>
                  <a:lnTo>
                    <a:pt x="226" y="113"/>
                  </a:lnTo>
                  <a:lnTo>
                    <a:pt x="226" y="131"/>
                  </a:lnTo>
                  <a:lnTo>
                    <a:pt x="213" y="149"/>
                  </a:lnTo>
                  <a:lnTo>
                    <a:pt x="204" y="171"/>
                  </a:lnTo>
                  <a:lnTo>
                    <a:pt x="190" y="189"/>
                  </a:lnTo>
                  <a:lnTo>
                    <a:pt x="177" y="203"/>
                  </a:lnTo>
                  <a:lnTo>
                    <a:pt x="153" y="212"/>
                  </a:lnTo>
                  <a:lnTo>
                    <a:pt x="135" y="221"/>
                  </a:lnTo>
                  <a:lnTo>
                    <a:pt x="113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0160" y="5089680"/>
              <a:ext cx="79560" cy="81360"/>
            </a:xfrm>
            <a:custGeom>
              <a:avLst/>
              <a:gdLst/>
              <a:ahLst/>
              <a:rect l="0" t="0" r="r" b="b"/>
              <a:pathLst>
                <a:path w="221" h="226">
                  <a:moveTo>
                    <a:pt x="103" y="226"/>
                  </a:moveTo>
                  <a:lnTo>
                    <a:pt x="85" y="217"/>
                  </a:lnTo>
                  <a:lnTo>
                    <a:pt x="62" y="213"/>
                  </a:lnTo>
                  <a:lnTo>
                    <a:pt x="40" y="204"/>
                  </a:lnTo>
                  <a:lnTo>
                    <a:pt x="26" y="190"/>
                  </a:lnTo>
                  <a:lnTo>
                    <a:pt x="13" y="172"/>
                  </a:lnTo>
                  <a:lnTo>
                    <a:pt x="4" y="153"/>
                  </a:lnTo>
                  <a:lnTo>
                    <a:pt x="0" y="131"/>
                  </a:lnTo>
                  <a:lnTo>
                    <a:pt x="0" y="113"/>
                  </a:lnTo>
                  <a:lnTo>
                    <a:pt x="0" y="86"/>
                  </a:lnTo>
                  <a:lnTo>
                    <a:pt x="4" y="68"/>
                  </a:lnTo>
                  <a:lnTo>
                    <a:pt x="13" y="44"/>
                  </a:lnTo>
                  <a:lnTo>
                    <a:pt x="26" y="31"/>
                  </a:lnTo>
                  <a:lnTo>
                    <a:pt x="40" y="17"/>
                  </a:lnTo>
                  <a:lnTo>
                    <a:pt x="62" y="8"/>
                  </a:lnTo>
                  <a:lnTo>
                    <a:pt x="85" y="4"/>
                  </a:lnTo>
                  <a:lnTo>
                    <a:pt x="103" y="0"/>
                  </a:lnTo>
                  <a:lnTo>
                    <a:pt x="131" y="4"/>
                  </a:lnTo>
                  <a:lnTo>
                    <a:pt x="149" y="8"/>
                  </a:lnTo>
                  <a:lnTo>
                    <a:pt x="171" y="17"/>
                  </a:lnTo>
                  <a:lnTo>
                    <a:pt x="185" y="31"/>
                  </a:lnTo>
                  <a:lnTo>
                    <a:pt x="198" y="44"/>
                  </a:lnTo>
                  <a:lnTo>
                    <a:pt x="207" y="68"/>
                  </a:lnTo>
                  <a:lnTo>
                    <a:pt x="221" y="86"/>
                  </a:lnTo>
                  <a:lnTo>
                    <a:pt x="221" y="113"/>
                  </a:lnTo>
                  <a:lnTo>
                    <a:pt x="221" y="131"/>
                  </a:lnTo>
                  <a:lnTo>
                    <a:pt x="207" y="153"/>
                  </a:lnTo>
                  <a:lnTo>
                    <a:pt x="198" y="172"/>
                  </a:lnTo>
                  <a:lnTo>
                    <a:pt x="185" y="190"/>
                  </a:lnTo>
                  <a:lnTo>
                    <a:pt x="171" y="204"/>
                  </a:lnTo>
                  <a:lnTo>
                    <a:pt x="149" y="213"/>
                  </a:lnTo>
                  <a:lnTo>
                    <a:pt x="131" y="217"/>
                  </a:lnTo>
                  <a:lnTo>
                    <a:pt x="103" y="2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75440" y="4394160"/>
              <a:ext cx="122760" cy="125640"/>
            </a:xfrm>
            <a:custGeom>
              <a:avLst/>
              <a:gdLst/>
              <a:ahLst/>
              <a:rect l="0" t="0" r="r" b="b"/>
              <a:pathLst>
                <a:path w="341" h="349">
                  <a:moveTo>
                    <a:pt x="170" y="349"/>
                  </a:moveTo>
                  <a:lnTo>
                    <a:pt x="135" y="340"/>
                  </a:lnTo>
                  <a:lnTo>
                    <a:pt x="99" y="331"/>
                  </a:lnTo>
                  <a:lnTo>
                    <a:pt x="71" y="318"/>
                  </a:lnTo>
                  <a:lnTo>
                    <a:pt x="44" y="300"/>
                  </a:lnTo>
                  <a:lnTo>
                    <a:pt x="26" y="268"/>
                  </a:lnTo>
                  <a:lnTo>
                    <a:pt x="8" y="237"/>
                  </a:lnTo>
                  <a:lnTo>
                    <a:pt x="0" y="210"/>
                  </a:lnTo>
                  <a:lnTo>
                    <a:pt x="0" y="174"/>
                  </a:lnTo>
                  <a:lnTo>
                    <a:pt x="0" y="138"/>
                  </a:lnTo>
                  <a:lnTo>
                    <a:pt x="8" y="107"/>
                  </a:lnTo>
                  <a:lnTo>
                    <a:pt x="26" y="75"/>
                  </a:lnTo>
                  <a:lnTo>
                    <a:pt x="44" y="53"/>
                  </a:lnTo>
                  <a:lnTo>
                    <a:pt x="71" y="26"/>
                  </a:lnTo>
                  <a:lnTo>
                    <a:pt x="99" y="13"/>
                  </a:lnTo>
                  <a:lnTo>
                    <a:pt x="135" y="4"/>
                  </a:lnTo>
                  <a:lnTo>
                    <a:pt x="170" y="0"/>
                  </a:lnTo>
                  <a:lnTo>
                    <a:pt x="202" y="4"/>
                  </a:lnTo>
                  <a:lnTo>
                    <a:pt x="237" y="13"/>
                  </a:lnTo>
                  <a:lnTo>
                    <a:pt x="265" y="26"/>
                  </a:lnTo>
                  <a:lnTo>
                    <a:pt x="292" y="53"/>
                  </a:lnTo>
                  <a:lnTo>
                    <a:pt x="310" y="75"/>
                  </a:lnTo>
                  <a:lnTo>
                    <a:pt x="323" y="107"/>
                  </a:lnTo>
                  <a:lnTo>
                    <a:pt x="341" y="138"/>
                  </a:lnTo>
                  <a:lnTo>
                    <a:pt x="341" y="174"/>
                  </a:lnTo>
                  <a:lnTo>
                    <a:pt x="341" y="210"/>
                  </a:lnTo>
                  <a:lnTo>
                    <a:pt x="323" y="237"/>
                  </a:lnTo>
                  <a:lnTo>
                    <a:pt x="310" y="268"/>
                  </a:lnTo>
                  <a:lnTo>
                    <a:pt x="292" y="300"/>
                  </a:lnTo>
                  <a:lnTo>
                    <a:pt x="265" y="318"/>
                  </a:lnTo>
                  <a:lnTo>
                    <a:pt x="237" y="331"/>
                  </a:lnTo>
                  <a:lnTo>
                    <a:pt x="202" y="340"/>
                  </a:lnTo>
                  <a:lnTo>
                    <a:pt x="170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4640" y="4379760"/>
              <a:ext cx="124200" cy="122760"/>
            </a:xfrm>
            <a:custGeom>
              <a:avLst/>
              <a:gdLst/>
              <a:ahLst/>
              <a:rect l="0" t="0" r="r" b="b"/>
              <a:pathLst>
                <a:path w="345" h="341">
                  <a:moveTo>
                    <a:pt x="170" y="341"/>
                  </a:moveTo>
                  <a:lnTo>
                    <a:pt x="135" y="332"/>
                  </a:lnTo>
                  <a:lnTo>
                    <a:pt x="103" y="323"/>
                  </a:lnTo>
                  <a:lnTo>
                    <a:pt x="71" y="310"/>
                  </a:lnTo>
                  <a:lnTo>
                    <a:pt x="49" y="292"/>
                  </a:lnTo>
                  <a:lnTo>
                    <a:pt x="26" y="265"/>
                  </a:lnTo>
                  <a:lnTo>
                    <a:pt x="13" y="237"/>
                  </a:lnTo>
                  <a:lnTo>
                    <a:pt x="0" y="202"/>
                  </a:lnTo>
                  <a:lnTo>
                    <a:pt x="0" y="170"/>
                  </a:lnTo>
                  <a:lnTo>
                    <a:pt x="0" y="135"/>
                  </a:lnTo>
                  <a:lnTo>
                    <a:pt x="13" y="99"/>
                  </a:lnTo>
                  <a:lnTo>
                    <a:pt x="26" y="71"/>
                  </a:lnTo>
                  <a:lnTo>
                    <a:pt x="49" y="44"/>
                  </a:lnTo>
                  <a:lnTo>
                    <a:pt x="71" y="26"/>
                  </a:lnTo>
                  <a:lnTo>
                    <a:pt x="103" y="8"/>
                  </a:lnTo>
                  <a:lnTo>
                    <a:pt x="135" y="0"/>
                  </a:lnTo>
                  <a:lnTo>
                    <a:pt x="170" y="0"/>
                  </a:lnTo>
                  <a:lnTo>
                    <a:pt x="206" y="0"/>
                  </a:lnTo>
                  <a:lnTo>
                    <a:pt x="237" y="8"/>
                  </a:lnTo>
                  <a:lnTo>
                    <a:pt x="270" y="26"/>
                  </a:lnTo>
                  <a:lnTo>
                    <a:pt x="296" y="44"/>
                  </a:lnTo>
                  <a:lnTo>
                    <a:pt x="314" y="71"/>
                  </a:lnTo>
                  <a:lnTo>
                    <a:pt x="332" y="99"/>
                  </a:lnTo>
                  <a:lnTo>
                    <a:pt x="345" y="135"/>
                  </a:lnTo>
                  <a:lnTo>
                    <a:pt x="345" y="170"/>
                  </a:lnTo>
                  <a:lnTo>
                    <a:pt x="345" y="202"/>
                  </a:lnTo>
                  <a:lnTo>
                    <a:pt x="332" y="237"/>
                  </a:lnTo>
                  <a:lnTo>
                    <a:pt x="314" y="265"/>
                  </a:lnTo>
                  <a:lnTo>
                    <a:pt x="296" y="292"/>
                  </a:lnTo>
                  <a:lnTo>
                    <a:pt x="270" y="310"/>
                  </a:lnTo>
                  <a:lnTo>
                    <a:pt x="237" y="323"/>
                  </a:lnTo>
                  <a:lnTo>
                    <a:pt x="206" y="332"/>
                  </a:lnTo>
                  <a:lnTo>
                    <a:pt x="170" y="34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34320" y="4043520"/>
              <a:ext cx="81360" cy="81360"/>
            </a:xfrm>
            <a:custGeom>
              <a:avLst/>
              <a:gdLst/>
              <a:ahLst/>
              <a:rect l="0" t="0" r="r" b="b"/>
              <a:pathLst>
                <a:path w="226" h="226">
                  <a:moveTo>
                    <a:pt x="113" y="226"/>
                  </a:moveTo>
                  <a:lnTo>
                    <a:pt x="86" y="217"/>
                  </a:lnTo>
                  <a:lnTo>
                    <a:pt x="68" y="213"/>
                  </a:lnTo>
                  <a:lnTo>
                    <a:pt x="44" y="204"/>
                  </a:lnTo>
                  <a:lnTo>
                    <a:pt x="31" y="190"/>
                  </a:lnTo>
                  <a:lnTo>
                    <a:pt x="17" y="177"/>
                  </a:lnTo>
                  <a:lnTo>
                    <a:pt x="8" y="153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0" y="86"/>
                  </a:lnTo>
                  <a:lnTo>
                    <a:pt x="8" y="68"/>
                  </a:lnTo>
                  <a:lnTo>
                    <a:pt x="17" y="44"/>
                  </a:lnTo>
                  <a:lnTo>
                    <a:pt x="31" y="31"/>
                  </a:lnTo>
                  <a:lnTo>
                    <a:pt x="44" y="17"/>
                  </a:lnTo>
                  <a:lnTo>
                    <a:pt x="68" y="8"/>
                  </a:lnTo>
                  <a:lnTo>
                    <a:pt x="86" y="4"/>
                  </a:lnTo>
                  <a:lnTo>
                    <a:pt x="113" y="0"/>
                  </a:lnTo>
                  <a:lnTo>
                    <a:pt x="131" y="4"/>
                  </a:lnTo>
                  <a:lnTo>
                    <a:pt x="153" y="8"/>
                  </a:lnTo>
                  <a:lnTo>
                    <a:pt x="177" y="17"/>
                  </a:lnTo>
                  <a:lnTo>
                    <a:pt x="190" y="31"/>
                  </a:lnTo>
                  <a:lnTo>
                    <a:pt x="204" y="44"/>
                  </a:lnTo>
                  <a:lnTo>
                    <a:pt x="213" y="68"/>
                  </a:lnTo>
                  <a:lnTo>
                    <a:pt x="217" y="86"/>
                  </a:lnTo>
                  <a:lnTo>
                    <a:pt x="226" y="113"/>
                  </a:lnTo>
                  <a:lnTo>
                    <a:pt x="217" y="135"/>
                  </a:lnTo>
                  <a:lnTo>
                    <a:pt x="213" y="153"/>
                  </a:lnTo>
                  <a:lnTo>
                    <a:pt x="204" y="177"/>
                  </a:lnTo>
                  <a:lnTo>
                    <a:pt x="190" y="190"/>
                  </a:lnTo>
                  <a:lnTo>
                    <a:pt x="177" y="204"/>
                  </a:lnTo>
                  <a:lnTo>
                    <a:pt x="153" y="213"/>
                  </a:lnTo>
                  <a:lnTo>
                    <a:pt x="131" y="217"/>
                  </a:lnTo>
                  <a:lnTo>
                    <a:pt x="113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23160" y="4025880"/>
              <a:ext cx="81360" cy="81360"/>
            </a:xfrm>
            <a:custGeom>
              <a:avLst/>
              <a:gdLst/>
              <a:ahLst/>
              <a:rect l="0" t="0" r="r" b="b"/>
              <a:pathLst>
                <a:path w="226" h="226">
                  <a:moveTo>
                    <a:pt x="113" y="226"/>
                  </a:moveTo>
                  <a:lnTo>
                    <a:pt x="86" y="226"/>
                  </a:lnTo>
                  <a:lnTo>
                    <a:pt x="68" y="213"/>
                  </a:lnTo>
                  <a:lnTo>
                    <a:pt x="44" y="204"/>
                  </a:lnTo>
                  <a:lnTo>
                    <a:pt x="31" y="190"/>
                  </a:lnTo>
                  <a:lnTo>
                    <a:pt x="17" y="177"/>
                  </a:lnTo>
                  <a:lnTo>
                    <a:pt x="8" y="153"/>
                  </a:lnTo>
                  <a:lnTo>
                    <a:pt x="4" y="135"/>
                  </a:lnTo>
                  <a:lnTo>
                    <a:pt x="0" y="113"/>
                  </a:lnTo>
                  <a:lnTo>
                    <a:pt x="4" y="90"/>
                  </a:lnTo>
                  <a:lnTo>
                    <a:pt x="8" y="68"/>
                  </a:lnTo>
                  <a:lnTo>
                    <a:pt x="17" y="44"/>
                  </a:lnTo>
                  <a:lnTo>
                    <a:pt x="31" y="31"/>
                  </a:lnTo>
                  <a:lnTo>
                    <a:pt x="44" y="17"/>
                  </a:lnTo>
                  <a:lnTo>
                    <a:pt x="68" y="8"/>
                  </a:lnTo>
                  <a:lnTo>
                    <a:pt x="86" y="4"/>
                  </a:lnTo>
                  <a:lnTo>
                    <a:pt x="113" y="0"/>
                  </a:lnTo>
                  <a:lnTo>
                    <a:pt x="135" y="4"/>
                  </a:lnTo>
                  <a:lnTo>
                    <a:pt x="153" y="8"/>
                  </a:lnTo>
                  <a:lnTo>
                    <a:pt x="177" y="17"/>
                  </a:lnTo>
                  <a:lnTo>
                    <a:pt x="190" y="31"/>
                  </a:lnTo>
                  <a:lnTo>
                    <a:pt x="204" y="44"/>
                  </a:lnTo>
                  <a:lnTo>
                    <a:pt x="213" y="68"/>
                  </a:lnTo>
                  <a:lnTo>
                    <a:pt x="217" y="90"/>
                  </a:lnTo>
                  <a:lnTo>
                    <a:pt x="226" y="113"/>
                  </a:lnTo>
                  <a:lnTo>
                    <a:pt x="217" y="135"/>
                  </a:lnTo>
                  <a:lnTo>
                    <a:pt x="213" y="153"/>
                  </a:lnTo>
                  <a:lnTo>
                    <a:pt x="204" y="177"/>
                  </a:lnTo>
                  <a:lnTo>
                    <a:pt x="190" y="190"/>
                  </a:lnTo>
                  <a:lnTo>
                    <a:pt x="177" y="204"/>
                  </a:lnTo>
                  <a:lnTo>
                    <a:pt x="153" y="213"/>
                  </a:lnTo>
                  <a:lnTo>
                    <a:pt x="135" y="226"/>
                  </a:lnTo>
                  <a:lnTo>
                    <a:pt x="113" y="226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9760" y="4465800"/>
              <a:ext cx="54360" cy="55800"/>
            </a:xfrm>
            <a:custGeom>
              <a:avLst/>
              <a:gdLst/>
              <a:ahLst/>
              <a:rect l="0" t="0" r="r" b="b"/>
              <a:pathLst>
                <a:path w="151" h="155">
                  <a:moveTo>
                    <a:pt x="73" y="155"/>
                  </a:moveTo>
                  <a:lnTo>
                    <a:pt x="60" y="146"/>
                  </a:lnTo>
                  <a:lnTo>
                    <a:pt x="41" y="141"/>
                  </a:lnTo>
                  <a:lnTo>
                    <a:pt x="31" y="137"/>
                  </a:lnTo>
                  <a:lnTo>
                    <a:pt x="18" y="128"/>
                  </a:lnTo>
                  <a:lnTo>
                    <a:pt x="9" y="119"/>
                  </a:lnTo>
                  <a:lnTo>
                    <a:pt x="4" y="105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4" y="40"/>
                  </a:lnTo>
                  <a:lnTo>
                    <a:pt x="9" y="31"/>
                  </a:lnTo>
                  <a:lnTo>
                    <a:pt x="18" y="22"/>
                  </a:lnTo>
                  <a:lnTo>
                    <a:pt x="31" y="13"/>
                  </a:lnTo>
                  <a:lnTo>
                    <a:pt x="41" y="4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87" y="4"/>
                  </a:lnTo>
                  <a:lnTo>
                    <a:pt x="105" y="4"/>
                  </a:lnTo>
                  <a:lnTo>
                    <a:pt x="115" y="13"/>
                  </a:lnTo>
                  <a:lnTo>
                    <a:pt x="129" y="22"/>
                  </a:lnTo>
                  <a:lnTo>
                    <a:pt x="138" y="31"/>
                  </a:lnTo>
                  <a:lnTo>
                    <a:pt x="142" y="40"/>
                  </a:lnTo>
                  <a:lnTo>
                    <a:pt x="151" y="59"/>
                  </a:lnTo>
                  <a:lnTo>
                    <a:pt x="151" y="72"/>
                  </a:lnTo>
                  <a:lnTo>
                    <a:pt x="151" y="91"/>
                  </a:lnTo>
                  <a:lnTo>
                    <a:pt x="142" y="105"/>
                  </a:lnTo>
                  <a:lnTo>
                    <a:pt x="138" y="119"/>
                  </a:lnTo>
                  <a:lnTo>
                    <a:pt x="129" y="128"/>
                  </a:lnTo>
                  <a:lnTo>
                    <a:pt x="115" y="137"/>
                  </a:lnTo>
                  <a:lnTo>
                    <a:pt x="105" y="141"/>
                  </a:lnTo>
                  <a:lnTo>
                    <a:pt x="87" y="146"/>
                  </a:lnTo>
                  <a:lnTo>
                    <a:pt x="73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840" y="4451400"/>
              <a:ext cx="52920" cy="55800"/>
            </a:xfrm>
            <a:custGeom>
              <a:avLst/>
              <a:gdLst/>
              <a:ahLst/>
              <a:rect l="0" t="0" r="r" b="b"/>
              <a:pathLst>
                <a:path w="147" h="155">
                  <a:moveTo>
                    <a:pt x="73" y="155"/>
                  </a:moveTo>
                  <a:lnTo>
                    <a:pt x="55" y="146"/>
                  </a:lnTo>
                  <a:lnTo>
                    <a:pt x="41" y="141"/>
                  </a:lnTo>
                  <a:lnTo>
                    <a:pt x="31" y="137"/>
                  </a:lnTo>
                  <a:lnTo>
                    <a:pt x="22" y="128"/>
                  </a:lnTo>
                  <a:lnTo>
                    <a:pt x="13" y="119"/>
                  </a:lnTo>
                  <a:lnTo>
                    <a:pt x="4" y="105"/>
                  </a:lnTo>
                  <a:lnTo>
                    <a:pt x="0" y="91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4" y="45"/>
                  </a:lnTo>
                  <a:lnTo>
                    <a:pt x="13" y="31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41" y="9"/>
                  </a:lnTo>
                  <a:lnTo>
                    <a:pt x="55" y="4"/>
                  </a:lnTo>
                  <a:lnTo>
                    <a:pt x="73" y="0"/>
                  </a:lnTo>
                  <a:lnTo>
                    <a:pt x="87" y="4"/>
                  </a:lnTo>
                  <a:lnTo>
                    <a:pt x="101" y="9"/>
                  </a:lnTo>
                  <a:lnTo>
                    <a:pt x="115" y="13"/>
                  </a:lnTo>
                  <a:lnTo>
                    <a:pt x="124" y="22"/>
                  </a:lnTo>
                  <a:lnTo>
                    <a:pt x="133" y="31"/>
                  </a:lnTo>
                  <a:lnTo>
                    <a:pt x="138" y="45"/>
                  </a:lnTo>
                  <a:lnTo>
                    <a:pt x="147" y="59"/>
                  </a:lnTo>
                  <a:lnTo>
                    <a:pt x="147" y="72"/>
                  </a:lnTo>
                  <a:lnTo>
                    <a:pt x="147" y="91"/>
                  </a:lnTo>
                  <a:lnTo>
                    <a:pt x="138" y="105"/>
                  </a:lnTo>
                  <a:lnTo>
                    <a:pt x="133" y="119"/>
                  </a:lnTo>
                  <a:lnTo>
                    <a:pt x="124" y="128"/>
                  </a:lnTo>
                  <a:lnTo>
                    <a:pt x="115" y="137"/>
                  </a:lnTo>
                  <a:lnTo>
                    <a:pt x="101" y="141"/>
                  </a:lnTo>
                  <a:lnTo>
                    <a:pt x="87" y="146"/>
                  </a:lnTo>
                  <a:lnTo>
                    <a:pt x="73" y="15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78680" y="402264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78" y="147"/>
                  </a:moveTo>
                  <a:lnTo>
                    <a:pt x="59" y="147"/>
                  </a:lnTo>
                  <a:lnTo>
                    <a:pt x="45" y="138"/>
                  </a:lnTo>
                  <a:lnTo>
                    <a:pt x="31" y="129"/>
                  </a:lnTo>
                  <a:lnTo>
                    <a:pt x="22" y="124"/>
                  </a:lnTo>
                  <a:lnTo>
                    <a:pt x="13" y="111"/>
                  </a:lnTo>
                  <a:lnTo>
                    <a:pt x="9" y="101"/>
                  </a:lnTo>
                  <a:lnTo>
                    <a:pt x="4" y="87"/>
                  </a:lnTo>
                  <a:lnTo>
                    <a:pt x="0" y="73"/>
                  </a:lnTo>
                  <a:lnTo>
                    <a:pt x="4" y="55"/>
                  </a:lnTo>
                  <a:lnTo>
                    <a:pt x="9" y="41"/>
                  </a:lnTo>
                  <a:lnTo>
                    <a:pt x="13" y="27"/>
                  </a:lnTo>
                  <a:lnTo>
                    <a:pt x="22" y="18"/>
                  </a:lnTo>
                  <a:lnTo>
                    <a:pt x="31" y="9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28" y="18"/>
                  </a:lnTo>
                  <a:lnTo>
                    <a:pt x="137" y="27"/>
                  </a:lnTo>
                  <a:lnTo>
                    <a:pt x="146" y="41"/>
                  </a:lnTo>
                  <a:lnTo>
                    <a:pt x="146" y="55"/>
                  </a:lnTo>
                  <a:lnTo>
                    <a:pt x="155" y="73"/>
                  </a:lnTo>
                  <a:lnTo>
                    <a:pt x="146" y="87"/>
                  </a:lnTo>
                  <a:lnTo>
                    <a:pt x="146" y="101"/>
                  </a:lnTo>
                  <a:lnTo>
                    <a:pt x="137" y="111"/>
                  </a:lnTo>
                  <a:lnTo>
                    <a:pt x="128" y="124"/>
                  </a:lnTo>
                  <a:lnTo>
                    <a:pt x="119" y="129"/>
                  </a:lnTo>
                  <a:lnTo>
                    <a:pt x="105" y="138"/>
                  </a:lnTo>
                  <a:lnTo>
                    <a:pt x="91" y="147"/>
                  </a:lnTo>
                  <a:lnTo>
                    <a:pt x="7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2560" y="4008600"/>
              <a:ext cx="52920" cy="54360"/>
            </a:xfrm>
            <a:custGeom>
              <a:avLst/>
              <a:gdLst/>
              <a:ahLst/>
              <a:rect l="0" t="0" r="r" b="b"/>
              <a:pathLst>
                <a:path w="147" h="151">
                  <a:moveTo>
                    <a:pt x="73" y="151"/>
                  </a:moveTo>
                  <a:lnTo>
                    <a:pt x="55" y="151"/>
                  </a:lnTo>
                  <a:lnTo>
                    <a:pt x="41" y="142"/>
                  </a:lnTo>
                  <a:lnTo>
                    <a:pt x="27" y="138"/>
                  </a:lnTo>
                  <a:lnTo>
                    <a:pt x="18" y="129"/>
                  </a:lnTo>
                  <a:lnTo>
                    <a:pt x="9" y="115"/>
                  </a:lnTo>
                  <a:lnTo>
                    <a:pt x="4" y="105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4" y="41"/>
                  </a:lnTo>
                  <a:lnTo>
                    <a:pt x="9" y="27"/>
                  </a:lnTo>
                  <a:lnTo>
                    <a:pt x="18" y="18"/>
                  </a:lnTo>
                  <a:lnTo>
                    <a:pt x="27" y="9"/>
                  </a:lnTo>
                  <a:lnTo>
                    <a:pt x="41" y="4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87" y="0"/>
                  </a:lnTo>
                  <a:lnTo>
                    <a:pt x="101" y="4"/>
                  </a:lnTo>
                  <a:lnTo>
                    <a:pt x="111" y="9"/>
                  </a:lnTo>
                  <a:lnTo>
                    <a:pt x="124" y="18"/>
                  </a:lnTo>
                  <a:lnTo>
                    <a:pt x="129" y="27"/>
                  </a:lnTo>
                  <a:lnTo>
                    <a:pt x="138" y="41"/>
                  </a:lnTo>
                  <a:lnTo>
                    <a:pt x="147" y="60"/>
                  </a:lnTo>
                  <a:lnTo>
                    <a:pt x="147" y="73"/>
                  </a:lnTo>
                  <a:lnTo>
                    <a:pt x="147" y="87"/>
                  </a:lnTo>
                  <a:lnTo>
                    <a:pt x="138" y="105"/>
                  </a:lnTo>
                  <a:lnTo>
                    <a:pt x="129" y="115"/>
                  </a:lnTo>
                  <a:lnTo>
                    <a:pt x="124" y="129"/>
                  </a:lnTo>
                  <a:lnTo>
                    <a:pt x="111" y="138"/>
                  </a:lnTo>
                  <a:lnTo>
                    <a:pt x="101" y="142"/>
                  </a:lnTo>
                  <a:lnTo>
                    <a:pt x="87" y="151"/>
                  </a:lnTo>
                  <a:lnTo>
                    <a:pt x="73" y="15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4120" y="3889440"/>
              <a:ext cx="1715040" cy="1256040"/>
            </a:xfrm>
            <a:custGeom>
              <a:avLst/>
              <a:gdLst/>
              <a:ahLst/>
              <a:rect l="0" t="0" r="r" b="b"/>
              <a:pathLst>
                <a:path w="4764" h="3489">
                  <a:moveTo>
                    <a:pt x="4764" y="1890"/>
                  </a:moveTo>
                  <a:lnTo>
                    <a:pt x="4751" y="1842"/>
                  </a:lnTo>
                  <a:lnTo>
                    <a:pt x="4738" y="1793"/>
                  </a:lnTo>
                  <a:lnTo>
                    <a:pt x="4720" y="1745"/>
                  </a:lnTo>
                  <a:lnTo>
                    <a:pt x="4693" y="1699"/>
                  </a:lnTo>
                  <a:lnTo>
                    <a:pt x="4662" y="1655"/>
                  </a:lnTo>
                  <a:lnTo>
                    <a:pt x="4627" y="1616"/>
                  </a:lnTo>
                  <a:lnTo>
                    <a:pt x="4583" y="1580"/>
                  </a:lnTo>
                  <a:lnTo>
                    <a:pt x="4543" y="1540"/>
                  </a:lnTo>
                  <a:lnTo>
                    <a:pt x="4548" y="1518"/>
                  </a:lnTo>
                  <a:lnTo>
                    <a:pt x="4557" y="1496"/>
                  </a:lnTo>
                  <a:lnTo>
                    <a:pt x="4561" y="1465"/>
                  </a:lnTo>
                  <a:lnTo>
                    <a:pt x="4565" y="1443"/>
                  </a:lnTo>
                  <a:lnTo>
                    <a:pt x="4565" y="1412"/>
                  </a:lnTo>
                  <a:lnTo>
                    <a:pt x="4570" y="1390"/>
                  </a:lnTo>
                  <a:lnTo>
                    <a:pt x="4570" y="1359"/>
                  </a:lnTo>
                  <a:lnTo>
                    <a:pt x="4565" y="1333"/>
                  </a:lnTo>
                  <a:lnTo>
                    <a:pt x="4534" y="1196"/>
                  </a:lnTo>
                  <a:lnTo>
                    <a:pt x="4473" y="1072"/>
                  </a:lnTo>
                  <a:lnTo>
                    <a:pt x="4384" y="958"/>
                  </a:lnTo>
                  <a:lnTo>
                    <a:pt x="4261" y="860"/>
                  </a:lnTo>
                  <a:lnTo>
                    <a:pt x="4124" y="777"/>
                  </a:lnTo>
                  <a:lnTo>
                    <a:pt x="3956" y="710"/>
                  </a:lnTo>
                  <a:lnTo>
                    <a:pt x="3780" y="671"/>
                  </a:lnTo>
                  <a:lnTo>
                    <a:pt x="3586" y="644"/>
                  </a:lnTo>
                  <a:lnTo>
                    <a:pt x="3536" y="498"/>
                  </a:lnTo>
                  <a:lnTo>
                    <a:pt x="3457" y="366"/>
                  </a:lnTo>
                  <a:lnTo>
                    <a:pt x="3337" y="247"/>
                  </a:lnTo>
                  <a:lnTo>
                    <a:pt x="3183" y="150"/>
                  </a:lnTo>
                  <a:lnTo>
                    <a:pt x="3011" y="75"/>
                  </a:lnTo>
                  <a:lnTo>
                    <a:pt x="2808" y="22"/>
                  </a:lnTo>
                  <a:lnTo>
                    <a:pt x="2596" y="0"/>
                  </a:lnTo>
                  <a:lnTo>
                    <a:pt x="2366" y="4"/>
                  </a:lnTo>
                  <a:lnTo>
                    <a:pt x="2199" y="22"/>
                  </a:lnTo>
                  <a:lnTo>
                    <a:pt x="2040" y="61"/>
                  </a:lnTo>
                  <a:lnTo>
                    <a:pt x="1894" y="105"/>
                  </a:lnTo>
                  <a:lnTo>
                    <a:pt x="1753" y="172"/>
                  </a:lnTo>
                  <a:lnTo>
                    <a:pt x="1634" y="247"/>
                  </a:lnTo>
                  <a:lnTo>
                    <a:pt x="1523" y="326"/>
                  </a:lnTo>
                  <a:lnTo>
                    <a:pt x="1431" y="423"/>
                  </a:lnTo>
                  <a:lnTo>
                    <a:pt x="1360" y="521"/>
                  </a:lnTo>
                  <a:lnTo>
                    <a:pt x="1325" y="521"/>
                  </a:lnTo>
                  <a:lnTo>
                    <a:pt x="1298" y="521"/>
                  </a:lnTo>
                  <a:lnTo>
                    <a:pt x="1263" y="516"/>
                  </a:lnTo>
                  <a:lnTo>
                    <a:pt x="1232" y="516"/>
                  </a:lnTo>
                  <a:lnTo>
                    <a:pt x="1197" y="516"/>
                  </a:lnTo>
                  <a:lnTo>
                    <a:pt x="1165" y="521"/>
                  </a:lnTo>
                  <a:lnTo>
                    <a:pt x="1129" y="521"/>
                  </a:lnTo>
                  <a:lnTo>
                    <a:pt x="1094" y="521"/>
                  </a:lnTo>
                  <a:lnTo>
                    <a:pt x="865" y="560"/>
                  </a:lnTo>
                  <a:lnTo>
                    <a:pt x="648" y="622"/>
                  </a:lnTo>
                  <a:lnTo>
                    <a:pt x="459" y="706"/>
                  </a:lnTo>
                  <a:lnTo>
                    <a:pt x="295" y="816"/>
                  </a:lnTo>
                  <a:lnTo>
                    <a:pt x="158" y="944"/>
                  </a:lnTo>
                  <a:lnTo>
                    <a:pt x="66" y="1081"/>
                  </a:lnTo>
                  <a:lnTo>
                    <a:pt x="13" y="1236"/>
                  </a:lnTo>
                  <a:lnTo>
                    <a:pt x="0" y="1395"/>
                  </a:lnTo>
                  <a:lnTo>
                    <a:pt x="13" y="1479"/>
                  </a:lnTo>
                  <a:lnTo>
                    <a:pt x="39" y="1567"/>
                  </a:lnTo>
                  <a:lnTo>
                    <a:pt x="83" y="1642"/>
                  </a:lnTo>
                  <a:lnTo>
                    <a:pt x="136" y="1721"/>
                  </a:lnTo>
                  <a:lnTo>
                    <a:pt x="203" y="1789"/>
                  </a:lnTo>
                  <a:lnTo>
                    <a:pt x="282" y="1851"/>
                  </a:lnTo>
                  <a:lnTo>
                    <a:pt x="366" y="1908"/>
                  </a:lnTo>
                  <a:lnTo>
                    <a:pt x="463" y="1956"/>
                  </a:lnTo>
                  <a:lnTo>
                    <a:pt x="401" y="2005"/>
                  </a:lnTo>
                  <a:lnTo>
                    <a:pt x="348" y="2058"/>
                  </a:lnTo>
                  <a:lnTo>
                    <a:pt x="304" y="2111"/>
                  </a:lnTo>
                  <a:lnTo>
                    <a:pt x="264" y="2168"/>
                  </a:lnTo>
                  <a:lnTo>
                    <a:pt x="238" y="2230"/>
                  </a:lnTo>
                  <a:lnTo>
                    <a:pt x="216" y="2288"/>
                  </a:lnTo>
                  <a:lnTo>
                    <a:pt x="203" y="2354"/>
                  </a:lnTo>
                  <a:lnTo>
                    <a:pt x="207" y="2416"/>
                  </a:lnTo>
                  <a:lnTo>
                    <a:pt x="233" y="2535"/>
                  </a:lnTo>
                  <a:lnTo>
                    <a:pt x="295" y="2641"/>
                  </a:lnTo>
                  <a:lnTo>
                    <a:pt x="388" y="2738"/>
                  </a:lnTo>
                  <a:lnTo>
                    <a:pt x="503" y="2813"/>
                  </a:lnTo>
                  <a:lnTo>
                    <a:pt x="635" y="2875"/>
                  </a:lnTo>
                  <a:lnTo>
                    <a:pt x="790" y="2919"/>
                  </a:lnTo>
                  <a:lnTo>
                    <a:pt x="957" y="2941"/>
                  </a:lnTo>
                  <a:lnTo>
                    <a:pt x="1138" y="2941"/>
                  </a:lnTo>
                  <a:lnTo>
                    <a:pt x="1143" y="2941"/>
                  </a:lnTo>
                  <a:lnTo>
                    <a:pt x="1147" y="2941"/>
                  </a:lnTo>
                  <a:lnTo>
                    <a:pt x="1156" y="2937"/>
                  </a:lnTo>
                  <a:lnTo>
                    <a:pt x="1165" y="2937"/>
                  </a:lnTo>
                  <a:lnTo>
                    <a:pt x="1169" y="2937"/>
                  </a:lnTo>
                  <a:lnTo>
                    <a:pt x="1178" y="2937"/>
                  </a:lnTo>
                  <a:lnTo>
                    <a:pt x="1182" y="2937"/>
                  </a:lnTo>
                  <a:lnTo>
                    <a:pt x="1187" y="2937"/>
                  </a:lnTo>
                  <a:lnTo>
                    <a:pt x="1187" y="2941"/>
                  </a:lnTo>
                  <a:lnTo>
                    <a:pt x="1187" y="2946"/>
                  </a:lnTo>
                  <a:lnTo>
                    <a:pt x="1187" y="2954"/>
                  </a:lnTo>
                  <a:lnTo>
                    <a:pt x="1187" y="2959"/>
                  </a:lnTo>
                  <a:lnTo>
                    <a:pt x="1187" y="2968"/>
                  </a:lnTo>
                  <a:lnTo>
                    <a:pt x="1187" y="2972"/>
                  </a:lnTo>
                  <a:lnTo>
                    <a:pt x="1187" y="2976"/>
                  </a:lnTo>
                  <a:lnTo>
                    <a:pt x="1187" y="2985"/>
                  </a:lnTo>
                  <a:lnTo>
                    <a:pt x="1214" y="3096"/>
                  </a:lnTo>
                  <a:lnTo>
                    <a:pt x="1276" y="3202"/>
                  </a:lnTo>
                  <a:lnTo>
                    <a:pt x="1360" y="3290"/>
                  </a:lnTo>
                  <a:lnTo>
                    <a:pt x="1470" y="3365"/>
                  </a:lnTo>
                  <a:lnTo>
                    <a:pt x="1598" y="3427"/>
                  </a:lnTo>
                  <a:lnTo>
                    <a:pt x="1748" y="3467"/>
                  </a:lnTo>
                  <a:lnTo>
                    <a:pt x="1912" y="3489"/>
                  </a:lnTo>
                  <a:lnTo>
                    <a:pt x="2084" y="3489"/>
                  </a:lnTo>
                  <a:lnTo>
                    <a:pt x="2203" y="3471"/>
                  </a:lnTo>
                  <a:lnTo>
                    <a:pt x="2313" y="3444"/>
                  </a:lnTo>
                  <a:lnTo>
                    <a:pt x="2424" y="3409"/>
                  </a:lnTo>
                  <a:lnTo>
                    <a:pt x="2521" y="3365"/>
                  </a:lnTo>
                  <a:lnTo>
                    <a:pt x="2613" y="3312"/>
                  </a:lnTo>
                  <a:lnTo>
                    <a:pt x="2689" y="3255"/>
                  </a:lnTo>
                  <a:lnTo>
                    <a:pt x="2755" y="3188"/>
                  </a:lnTo>
                  <a:lnTo>
                    <a:pt x="2808" y="3122"/>
                  </a:lnTo>
                  <a:lnTo>
                    <a:pt x="2865" y="3140"/>
                  </a:lnTo>
                  <a:lnTo>
                    <a:pt x="2922" y="3157"/>
                  </a:lnTo>
                  <a:lnTo>
                    <a:pt x="2984" y="3171"/>
                  </a:lnTo>
                  <a:lnTo>
                    <a:pt x="3050" y="3184"/>
                  </a:lnTo>
                  <a:lnTo>
                    <a:pt x="3112" y="3188"/>
                  </a:lnTo>
                  <a:lnTo>
                    <a:pt x="3178" y="3193"/>
                  </a:lnTo>
                  <a:lnTo>
                    <a:pt x="3245" y="3193"/>
                  </a:lnTo>
                  <a:lnTo>
                    <a:pt x="3315" y="3188"/>
                  </a:lnTo>
                  <a:lnTo>
                    <a:pt x="3483" y="3166"/>
                  </a:lnTo>
                  <a:lnTo>
                    <a:pt x="3643" y="3118"/>
                  </a:lnTo>
                  <a:lnTo>
                    <a:pt x="3784" y="3056"/>
                  </a:lnTo>
                  <a:lnTo>
                    <a:pt x="3903" y="2972"/>
                  </a:lnTo>
                  <a:lnTo>
                    <a:pt x="4000" y="2884"/>
                  </a:lnTo>
                  <a:lnTo>
                    <a:pt x="4071" y="2782"/>
                  </a:lnTo>
                  <a:lnTo>
                    <a:pt x="4115" y="2667"/>
                  </a:lnTo>
                  <a:lnTo>
                    <a:pt x="4120" y="2553"/>
                  </a:lnTo>
                  <a:lnTo>
                    <a:pt x="4120" y="2548"/>
                  </a:lnTo>
                  <a:lnTo>
                    <a:pt x="4120" y="2539"/>
                  </a:lnTo>
                  <a:lnTo>
                    <a:pt x="4120" y="2530"/>
                  </a:lnTo>
                  <a:lnTo>
                    <a:pt x="4120" y="2526"/>
                  </a:lnTo>
                  <a:lnTo>
                    <a:pt x="4115" y="2522"/>
                  </a:lnTo>
                  <a:lnTo>
                    <a:pt x="4115" y="2517"/>
                  </a:lnTo>
                  <a:lnTo>
                    <a:pt x="4115" y="2513"/>
                  </a:lnTo>
                  <a:lnTo>
                    <a:pt x="4115" y="2504"/>
                  </a:lnTo>
                  <a:lnTo>
                    <a:pt x="4252" y="2464"/>
                  </a:lnTo>
                  <a:lnTo>
                    <a:pt x="4384" y="2411"/>
                  </a:lnTo>
                  <a:lnTo>
                    <a:pt x="4499" y="2349"/>
                  </a:lnTo>
                  <a:lnTo>
                    <a:pt x="4592" y="2274"/>
                  </a:lnTo>
                  <a:lnTo>
                    <a:pt x="4671" y="2186"/>
                  </a:lnTo>
                  <a:lnTo>
                    <a:pt x="4724" y="2089"/>
                  </a:lnTo>
                  <a:lnTo>
                    <a:pt x="4755" y="1996"/>
                  </a:lnTo>
                  <a:lnTo>
                    <a:pt x="4764" y="18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10360" y="3868560"/>
              <a:ext cx="1711800" cy="1256040"/>
            </a:xfrm>
            <a:custGeom>
              <a:avLst/>
              <a:gdLst/>
              <a:ahLst/>
              <a:rect l="0" t="0" r="r" b="b"/>
              <a:pathLst>
                <a:path w="4755" h="3489">
                  <a:moveTo>
                    <a:pt x="4755" y="1890"/>
                  </a:moveTo>
                  <a:lnTo>
                    <a:pt x="4746" y="1837"/>
                  </a:lnTo>
                  <a:lnTo>
                    <a:pt x="4733" y="1789"/>
                  </a:lnTo>
                  <a:lnTo>
                    <a:pt x="4715" y="1745"/>
                  </a:lnTo>
                  <a:lnTo>
                    <a:pt x="4689" y="1695"/>
                  </a:lnTo>
                  <a:lnTo>
                    <a:pt x="4658" y="1651"/>
                  </a:lnTo>
                  <a:lnTo>
                    <a:pt x="4618" y="1616"/>
                  </a:lnTo>
                  <a:lnTo>
                    <a:pt x="4579" y="1576"/>
                  </a:lnTo>
                  <a:lnTo>
                    <a:pt x="4534" y="1540"/>
                  </a:lnTo>
                  <a:lnTo>
                    <a:pt x="4543" y="1518"/>
                  </a:lnTo>
                  <a:lnTo>
                    <a:pt x="4548" y="1487"/>
                  </a:lnTo>
                  <a:lnTo>
                    <a:pt x="4552" y="1465"/>
                  </a:lnTo>
                  <a:lnTo>
                    <a:pt x="4557" y="1434"/>
                  </a:lnTo>
                  <a:lnTo>
                    <a:pt x="4561" y="1412"/>
                  </a:lnTo>
                  <a:lnTo>
                    <a:pt x="4561" y="1386"/>
                  </a:lnTo>
                  <a:lnTo>
                    <a:pt x="4561" y="1355"/>
                  </a:lnTo>
                  <a:lnTo>
                    <a:pt x="4561" y="1333"/>
                  </a:lnTo>
                  <a:lnTo>
                    <a:pt x="4534" y="1196"/>
                  </a:lnTo>
                  <a:lnTo>
                    <a:pt x="4468" y="1068"/>
                  </a:lnTo>
                  <a:lnTo>
                    <a:pt x="4380" y="958"/>
                  </a:lnTo>
                  <a:lnTo>
                    <a:pt x="4261" y="856"/>
                  </a:lnTo>
                  <a:lnTo>
                    <a:pt x="4115" y="777"/>
                  </a:lnTo>
                  <a:lnTo>
                    <a:pt x="3952" y="710"/>
                  </a:lnTo>
                  <a:lnTo>
                    <a:pt x="3771" y="666"/>
                  </a:lnTo>
                  <a:lnTo>
                    <a:pt x="3581" y="644"/>
                  </a:lnTo>
                  <a:lnTo>
                    <a:pt x="3536" y="498"/>
                  </a:lnTo>
                  <a:lnTo>
                    <a:pt x="3448" y="362"/>
                  </a:lnTo>
                  <a:lnTo>
                    <a:pt x="3329" y="247"/>
                  </a:lnTo>
                  <a:lnTo>
                    <a:pt x="3178" y="150"/>
                  </a:lnTo>
                  <a:lnTo>
                    <a:pt x="3002" y="75"/>
                  </a:lnTo>
                  <a:lnTo>
                    <a:pt x="2808" y="22"/>
                  </a:lnTo>
                  <a:lnTo>
                    <a:pt x="2591" y="0"/>
                  </a:lnTo>
                  <a:lnTo>
                    <a:pt x="2366" y="0"/>
                  </a:lnTo>
                  <a:lnTo>
                    <a:pt x="2199" y="22"/>
                  </a:lnTo>
                  <a:lnTo>
                    <a:pt x="2035" y="61"/>
                  </a:lnTo>
                  <a:lnTo>
                    <a:pt x="1885" y="105"/>
                  </a:lnTo>
                  <a:lnTo>
                    <a:pt x="1753" y="172"/>
                  </a:lnTo>
                  <a:lnTo>
                    <a:pt x="1629" y="247"/>
                  </a:lnTo>
                  <a:lnTo>
                    <a:pt x="1523" y="326"/>
                  </a:lnTo>
                  <a:lnTo>
                    <a:pt x="1431" y="419"/>
                  </a:lnTo>
                  <a:lnTo>
                    <a:pt x="1360" y="521"/>
                  </a:lnTo>
                  <a:lnTo>
                    <a:pt x="1325" y="521"/>
                  </a:lnTo>
                  <a:lnTo>
                    <a:pt x="1294" y="516"/>
                  </a:lnTo>
                  <a:lnTo>
                    <a:pt x="1258" y="516"/>
                  </a:lnTo>
                  <a:lnTo>
                    <a:pt x="1223" y="516"/>
                  </a:lnTo>
                  <a:lnTo>
                    <a:pt x="1192" y="516"/>
                  </a:lnTo>
                  <a:lnTo>
                    <a:pt x="1160" y="516"/>
                  </a:lnTo>
                  <a:lnTo>
                    <a:pt x="1125" y="521"/>
                  </a:lnTo>
                  <a:lnTo>
                    <a:pt x="1094" y="521"/>
                  </a:lnTo>
                  <a:lnTo>
                    <a:pt x="860" y="556"/>
                  </a:lnTo>
                  <a:lnTo>
                    <a:pt x="644" y="618"/>
                  </a:lnTo>
                  <a:lnTo>
                    <a:pt x="459" y="706"/>
                  </a:lnTo>
                  <a:lnTo>
                    <a:pt x="291" y="812"/>
                  </a:lnTo>
                  <a:lnTo>
                    <a:pt x="158" y="944"/>
                  </a:lnTo>
                  <a:lnTo>
                    <a:pt x="66" y="1081"/>
                  </a:lnTo>
                  <a:lnTo>
                    <a:pt x="8" y="1231"/>
                  </a:lnTo>
                  <a:lnTo>
                    <a:pt x="0" y="1395"/>
                  </a:lnTo>
                  <a:lnTo>
                    <a:pt x="13" y="1479"/>
                  </a:lnTo>
                  <a:lnTo>
                    <a:pt x="39" y="1563"/>
                  </a:lnTo>
                  <a:lnTo>
                    <a:pt x="79" y="1642"/>
                  </a:lnTo>
                  <a:lnTo>
                    <a:pt x="136" y="1717"/>
                  </a:lnTo>
                  <a:lnTo>
                    <a:pt x="198" y="1789"/>
                  </a:lnTo>
                  <a:lnTo>
                    <a:pt x="273" y="1851"/>
                  </a:lnTo>
                  <a:lnTo>
                    <a:pt x="361" y="1908"/>
                  </a:lnTo>
                  <a:lnTo>
                    <a:pt x="459" y="1956"/>
                  </a:lnTo>
                  <a:lnTo>
                    <a:pt x="401" y="2005"/>
                  </a:lnTo>
                  <a:lnTo>
                    <a:pt x="348" y="2058"/>
                  </a:lnTo>
                  <a:lnTo>
                    <a:pt x="300" y="2111"/>
                  </a:lnTo>
                  <a:lnTo>
                    <a:pt x="260" y="2168"/>
                  </a:lnTo>
                  <a:lnTo>
                    <a:pt x="233" y="2226"/>
                  </a:lnTo>
                  <a:lnTo>
                    <a:pt x="211" y="2288"/>
                  </a:lnTo>
                  <a:lnTo>
                    <a:pt x="203" y="2349"/>
                  </a:lnTo>
                  <a:lnTo>
                    <a:pt x="203" y="2416"/>
                  </a:lnTo>
                  <a:lnTo>
                    <a:pt x="233" y="2530"/>
                  </a:lnTo>
                  <a:lnTo>
                    <a:pt x="291" y="2641"/>
                  </a:lnTo>
                  <a:lnTo>
                    <a:pt x="379" y="2734"/>
                  </a:lnTo>
                  <a:lnTo>
                    <a:pt x="494" y="2813"/>
                  </a:lnTo>
                  <a:lnTo>
                    <a:pt x="631" y="2875"/>
                  </a:lnTo>
                  <a:lnTo>
                    <a:pt x="790" y="2919"/>
                  </a:lnTo>
                  <a:lnTo>
                    <a:pt x="957" y="2941"/>
                  </a:lnTo>
                  <a:lnTo>
                    <a:pt x="1134" y="2941"/>
                  </a:lnTo>
                  <a:lnTo>
                    <a:pt x="1138" y="2937"/>
                  </a:lnTo>
                  <a:lnTo>
                    <a:pt x="1147" y="2937"/>
                  </a:lnTo>
                  <a:lnTo>
                    <a:pt x="1152" y="2937"/>
                  </a:lnTo>
                  <a:lnTo>
                    <a:pt x="1156" y="2937"/>
                  </a:lnTo>
                  <a:lnTo>
                    <a:pt x="1165" y="2937"/>
                  </a:lnTo>
                  <a:lnTo>
                    <a:pt x="1169" y="2937"/>
                  </a:lnTo>
                  <a:lnTo>
                    <a:pt x="1178" y="2937"/>
                  </a:lnTo>
                  <a:lnTo>
                    <a:pt x="1187" y="2928"/>
                  </a:lnTo>
                  <a:lnTo>
                    <a:pt x="1187" y="2941"/>
                  </a:lnTo>
                  <a:lnTo>
                    <a:pt x="1182" y="2946"/>
                  </a:lnTo>
                  <a:lnTo>
                    <a:pt x="1182" y="2950"/>
                  </a:lnTo>
                  <a:lnTo>
                    <a:pt x="1182" y="2959"/>
                  </a:lnTo>
                  <a:lnTo>
                    <a:pt x="1182" y="2963"/>
                  </a:lnTo>
                  <a:lnTo>
                    <a:pt x="1187" y="2972"/>
                  </a:lnTo>
                  <a:lnTo>
                    <a:pt x="1187" y="2976"/>
                  </a:lnTo>
                  <a:lnTo>
                    <a:pt x="1187" y="2981"/>
                  </a:lnTo>
                  <a:lnTo>
                    <a:pt x="1210" y="3096"/>
                  </a:lnTo>
                  <a:lnTo>
                    <a:pt x="1267" y="3197"/>
                  </a:lnTo>
                  <a:lnTo>
                    <a:pt x="1356" y="3290"/>
                  </a:lnTo>
                  <a:lnTo>
                    <a:pt x="1466" y="3365"/>
                  </a:lnTo>
                  <a:lnTo>
                    <a:pt x="1598" y="3422"/>
                  </a:lnTo>
                  <a:lnTo>
                    <a:pt x="1744" y="3467"/>
                  </a:lnTo>
                  <a:lnTo>
                    <a:pt x="1907" y="3489"/>
                  </a:lnTo>
                  <a:lnTo>
                    <a:pt x="2079" y="3489"/>
                  </a:lnTo>
                  <a:lnTo>
                    <a:pt x="2199" y="3467"/>
                  </a:lnTo>
                  <a:lnTo>
                    <a:pt x="2313" y="3444"/>
                  </a:lnTo>
                  <a:lnTo>
                    <a:pt x="2419" y="3409"/>
                  </a:lnTo>
                  <a:lnTo>
                    <a:pt x="2521" y="3365"/>
                  </a:lnTo>
                  <a:lnTo>
                    <a:pt x="2605" y="3312"/>
                  </a:lnTo>
                  <a:lnTo>
                    <a:pt x="2689" y="3255"/>
                  </a:lnTo>
                  <a:lnTo>
                    <a:pt x="2755" y="3188"/>
                  </a:lnTo>
                  <a:lnTo>
                    <a:pt x="2808" y="3118"/>
                  </a:lnTo>
                  <a:lnTo>
                    <a:pt x="2861" y="3140"/>
                  </a:lnTo>
                  <a:lnTo>
                    <a:pt x="2922" y="3157"/>
                  </a:lnTo>
                  <a:lnTo>
                    <a:pt x="2980" y="3171"/>
                  </a:lnTo>
                  <a:lnTo>
                    <a:pt x="3042" y="3180"/>
                  </a:lnTo>
                  <a:lnTo>
                    <a:pt x="3108" y="3188"/>
                  </a:lnTo>
                  <a:lnTo>
                    <a:pt x="3174" y="3193"/>
                  </a:lnTo>
                  <a:lnTo>
                    <a:pt x="3245" y="3193"/>
                  </a:lnTo>
                  <a:lnTo>
                    <a:pt x="3311" y="3188"/>
                  </a:lnTo>
                  <a:lnTo>
                    <a:pt x="3483" y="3166"/>
                  </a:lnTo>
                  <a:lnTo>
                    <a:pt x="3643" y="3118"/>
                  </a:lnTo>
                  <a:lnTo>
                    <a:pt x="3780" y="3056"/>
                  </a:lnTo>
                  <a:lnTo>
                    <a:pt x="3899" y="2972"/>
                  </a:lnTo>
                  <a:lnTo>
                    <a:pt x="3996" y="2884"/>
                  </a:lnTo>
                  <a:lnTo>
                    <a:pt x="4067" y="2778"/>
                  </a:lnTo>
                  <a:lnTo>
                    <a:pt x="4106" y="2667"/>
                  </a:lnTo>
                  <a:lnTo>
                    <a:pt x="4115" y="2553"/>
                  </a:lnTo>
                  <a:lnTo>
                    <a:pt x="4115" y="2548"/>
                  </a:lnTo>
                  <a:lnTo>
                    <a:pt x="4111" y="2535"/>
                  </a:lnTo>
                  <a:lnTo>
                    <a:pt x="4111" y="2530"/>
                  </a:lnTo>
                  <a:lnTo>
                    <a:pt x="4111" y="2526"/>
                  </a:lnTo>
                  <a:lnTo>
                    <a:pt x="4111" y="2522"/>
                  </a:lnTo>
                  <a:lnTo>
                    <a:pt x="4111" y="2513"/>
                  </a:lnTo>
                  <a:lnTo>
                    <a:pt x="4106" y="2508"/>
                  </a:lnTo>
                  <a:lnTo>
                    <a:pt x="4106" y="2504"/>
                  </a:lnTo>
                  <a:lnTo>
                    <a:pt x="4252" y="2464"/>
                  </a:lnTo>
                  <a:lnTo>
                    <a:pt x="4376" y="2411"/>
                  </a:lnTo>
                  <a:lnTo>
                    <a:pt x="4490" y="2345"/>
                  </a:lnTo>
                  <a:lnTo>
                    <a:pt x="4587" y="2266"/>
                  </a:lnTo>
                  <a:lnTo>
                    <a:pt x="4662" y="2186"/>
                  </a:lnTo>
                  <a:lnTo>
                    <a:pt x="4720" y="2089"/>
                  </a:lnTo>
                  <a:lnTo>
                    <a:pt x="4746" y="1987"/>
                  </a:lnTo>
                  <a:lnTo>
                    <a:pt x="4755" y="189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67400" y="3944880"/>
              <a:ext cx="289440" cy="943200"/>
            </a:xfrm>
            <a:custGeom>
              <a:avLst/>
              <a:gdLst/>
              <a:ahLst/>
              <a:rect l="0" t="0" r="r" b="b"/>
              <a:pathLst>
                <a:path w="804" h="2620">
                  <a:moveTo>
                    <a:pt x="644" y="1569"/>
                  </a:moveTo>
                  <a:lnTo>
                    <a:pt x="644" y="2196"/>
                  </a:lnTo>
                  <a:lnTo>
                    <a:pt x="804" y="2196"/>
                  </a:lnTo>
                  <a:lnTo>
                    <a:pt x="804" y="1569"/>
                  </a:lnTo>
                  <a:lnTo>
                    <a:pt x="742" y="1569"/>
                  </a:lnTo>
                  <a:lnTo>
                    <a:pt x="742" y="1520"/>
                  </a:lnTo>
                  <a:lnTo>
                    <a:pt x="751" y="1511"/>
                  </a:lnTo>
                  <a:lnTo>
                    <a:pt x="760" y="1498"/>
                  </a:lnTo>
                  <a:lnTo>
                    <a:pt x="764" y="1489"/>
                  </a:lnTo>
                  <a:lnTo>
                    <a:pt x="769" y="1480"/>
                  </a:lnTo>
                  <a:lnTo>
                    <a:pt x="773" y="1476"/>
                  </a:lnTo>
                  <a:lnTo>
                    <a:pt x="777" y="1467"/>
                  </a:lnTo>
                  <a:lnTo>
                    <a:pt x="777" y="1463"/>
                  </a:lnTo>
                  <a:lnTo>
                    <a:pt x="782" y="1463"/>
                  </a:lnTo>
                  <a:lnTo>
                    <a:pt x="764" y="1383"/>
                  </a:lnTo>
                  <a:lnTo>
                    <a:pt x="773" y="1099"/>
                  </a:lnTo>
                  <a:lnTo>
                    <a:pt x="769" y="1082"/>
                  </a:lnTo>
                  <a:lnTo>
                    <a:pt x="769" y="1029"/>
                  </a:lnTo>
                  <a:lnTo>
                    <a:pt x="764" y="954"/>
                  </a:lnTo>
                  <a:lnTo>
                    <a:pt x="760" y="861"/>
                  </a:lnTo>
                  <a:lnTo>
                    <a:pt x="751" y="764"/>
                  </a:lnTo>
                  <a:lnTo>
                    <a:pt x="738" y="680"/>
                  </a:lnTo>
                  <a:lnTo>
                    <a:pt x="720" y="605"/>
                  </a:lnTo>
                  <a:lnTo>
                    <a:pt x="702" y="560"/>
                  </a:lnTo>
                  <a:lnTo>
                    <a:pt x="671" y="530"/>
                  </a:lnTo>
                  <a:lnTo>
                    <a:pt x="640" y="494"/>
                  </a:lnTo>
                  <a:lnTo>
                    <a:pt x="599" y="468"/>
                  </a:lnTo>
                  <a:lnTo>
                    <a:pt x="555" y="437"/>
                  </a:lnTo>
                  <a:lnTo>
                    <a:pt x="524" y="415"/>
                  </a:lnTo>
                  <a:lnTo>
                    <a:pt x="488" y="397"/>
                  </a:lnTo>
                  <a:lnTo>
                    <a:pt x="471" y="384"/>
                  </a:lnTo>
                  <a:lnTo>
                    <a:pt x="462" y="379"/>
                  </a:lnTo>
                  <a:lnTo>
                    <a:pt x="471" y="313"/>
                  </a:lnTo>
                  <a:lnTo>
                    <a:pt x="506" y="238"/>
                  </a:lnTo>
                  <a:lnTo>
                    <a:pt x="506" y="234"/>
                  </a:lnTo>
                  <a:lnTo>
                    <a:pt x="510" y="216"/>
                  </a:lnTo>
                  <a:lnTo>
                    <a:pt x="510" y="198"/>
                  </a:lnTo>
                  <a:lnTo>
                    <a:pt x="519" y="176"/>
                  </a:lnTo>
                  <a:lnTo>
                    <a:pt x="519" y="150"/>
                  </a:lnTo>
                  <a:lnTo>
                    <a:pt x="510" y="128"/>
                  </a:lnTo>
                  <a:lnTo>
                    <a:pt x="502" y="97"/>
                  </a:lnTo>
                  <a:lnTo>
                    <a:pt x="488" y="75"/>
                  </a:lnTo>
                  <a:lnTo>
                    <a:pt x="475" y="57"/>
                  </a:lnTo>
                  <a:lnTo>
                    <a:pt x="471" y="39"/>
                  </a:lnTo>
                  <a:lnTo>
                    <a:pt x="462" y="26"/>
                  </a:lnTo>
                  <a:lnTo>
                    <a:pt x="453" y="17"/>
                  </a:lnTo>
                  <a:lnTo>
                    <a:pt x="444" y="8"/>
                  </a:lnTo>
                  <a:lnTo>
                    <a:pt x="426" y="4"/>
                  </a:lnTo>
                  <a:lnTo>
                    <a:pt x="404" y="0"/>
                  </a:lnTo>
                  <a:lnTo>
                    <a:pt x="364" y="0"/>
                  </a:lnTo>
                  <a:lnTo>
                    <a:pt x="324" y="0"/>
                  </a:lnTo>
                  <a:lnTo>
                    <a:pt x="298" y="0"/>
                  </a:lnTo>
                  <a:lnTo>
                    <a:pt x="280" y="4"/>
                  </a:lnTo>
                  <a:lnTo>
                    <a:pt x="271" y="8"/>
                  </a:lnTo>
                  <a:lnTo>
                    <a:pt x="267" y="17"/>
                  </a:lnTo>
                  <a:lnTo>
                    <a:pt x="262" y="26"/>
                  </a:lnTo>
                  <a:lnTo>
                    <a:pt x="249" y="35"/>
                  </a:lnTo>
                  <a:lnTo>
                    <a:pt x="231" y="57"/>
                  </a:lnTo>
                  <a:lnTo>
                    <a:pt x="213" y="70"/>
                  </a:lnTo>
                  <a:lnTo>
                    <a:pt x="209" y="92"/>
                  </a:lnTo>
                  <a:lnTo>
                    <a:pt x="204" y="123"/>
                  </a:lnTo>
                  <a:lnTo>
                    <a:pt x="209" y="150"/>
                  </a:lnTo>
                  <a:lnTo>
                    <a:pt x="213" y="176"/>
                  </a:lnTo>
                  <a:lnTo>
                    <a:pt x="218" y="198"/>
                  </a:lnTo>
                  <a:lnTo>
                    <a:pt x="222" y="212"/>
                  </a:lnTo>
                  <a:lnTo>
                    <a:pt x="222" y="216"/>
                  </a:lnTo>
                  <a:lnTo>
                    <a:pt x="275" y="335"/>
                  </a:lnTo>
                  <a:lnTo>
                    <a:pt x="280" y="379"/>
                  </a:lnTo>
                  <a:lnTo>
                    <a:pt x="271" y="384"/>
                  </a:lnTo>
                  <a:lnTo>
                    <a:pt x="249" y="401"/>
                  </a:lnTo>
                  <a:lnTo>
                    <a:pt x="213" y="424"/>
                  </a:lnTo>
                  <a:lnTo>
                    <a:pt x="172" y="450"/>
                  </a:lnTo>
                  <a:lnTo>
                    <a:pt x="133" y="477"/>
                  </a:lnTo>
                  <a:lnTo>
                    <a:pt x="93" y="507"/>
                  </a:lnTo>
                  <a:lnTo>
                    <a:pt x="70" y="525"/>
                  </a:lnTo>
                  <a:lnTo>
                    <a:pt x="62" y="543"/>
                  </a:lnTo>
                  <a:lnTo>
                    <a:pt x="62" y="569"/>
                  </a:lnTo>
                  <a:lnTo>
                    <a:pt x="48" y="622"/>
                  </a:lnTo>
                  <a:lnTo>
                    <a:pt x="44" y="689"/>
                  </a:lnTo>
                  <a:lnTo>
                    <a:pt x="35" y="768"/>
                  </a:lnTo>
                  <a:lnTo>
                    <a:pt x="26" y="848"/>
                  </a:lnTo>
                  <a:lnTo>
                    <a:pt x="17" y="923"/>
                  </a:lnTo>
                  <a:lnTo>
                    <a:pt x="13" y="980"/>
                  </a:lnTo>
                  <a:lnTo>
                    <a:pt x="8" y="1015"/>
                  </a:lnTo>
                  <a:lnTo>
                    <a:pt x="8" y="1042"/>
                  </a:lnTo>
                  <a:lnTo>
                    <a:pt x="8" y="1091"/>
                  </a:lnTo>
                  <a:lnTo>
                    <a:pt x="4" y="1148"/>
                  </a:lnTo>
                  <a:lnTo>
                    <a:pt x="0" y="1219"/>
                  </a:lnTo>
                  <a:lnTo>
                    <a:pt x="0" y="1294"/>
                  </a:lnTo>
                  <a:lnTo>
                    <a:pt x="0" y="1361"/>
                  </a:lnTo>
                  <a:lnTo>
                    <a:pt x="4" y="1423"/>
                  </a:lnTo>
                  <a:lnTo>
                    <a:pt x="13" y="1471"/>
                  </a:lnTo>
                  <a:lnTo>
                    <a:pt x="22" y="1485"/>
                  </a:lnTo>
                  <a:lnTo>
                    <a:pt x="31" y="1493"/>
                  </a:lnTo>
                  <a:lnTo>
                    <a:pt x="44" y="1507"/>
                  </a:lnTo>
                  <a:lnTo>
                    <a:pt x="62" y="1507"/>
                  </a:lnTo>
                  <a:lnTo>
                    <a:pt x="75" y="1507"/>
                  </a:lnTo>
                  <a:lnTo>
                    <a:pt x="84" y="1507"/>
                  </a:lnTo>
                  <a:lnTo>
                    <a:pt x="93" y="1507"/>
                  </a:lnTo>
                  <a:lnTo>
                    <a:pt x="97" y="1507"/>
                  </a:lnTo>
                  <a:lnTo>
                    <a:pt x="48" y="1436"/>
                  </a:lnTo>
                  <a:lnTo>
                    <a:pt x="128" y="958"/>
                  </a:lnTo>
                  <a:lnTo>
                    <a:pt x="124" y="1476"/>
                  </a:lnTo>
                  <a:lnTo>
                    <a:pt x="231" y="2434"/>
                  </a:lnTo>
                  <a:lnTo>
                    <a:pt x="146" y="2545"/>
                  </a:lnTo>
                  <a:lnTo>
                    <a:pt x="128" y="2611"/>
                  </a:lnTo>
                  <a:lnTo>
                    <a:pt x="262" y="2607"/>
                  </a:lnTo>
                  <a:lnTo>
                    <a:pt x="373" y="2527"/>
                  </a:lnTo>
                  <a:lnTo>
                    <a:pt x="377" y="2527"/>
                  </a:lnTo>
                  <a:lnTo>
                    <a:pt x="391" y="2536"/>
                  </a:lnTo>
                  <a:lnTo>
                    <a:pt x="417" y="2549"/>
                  </a:lnTo>
                  <a:lnTo>
                    <a:pt x="439" y="2567"/>
                  </a:lnTo>
                  <a:lnTo>
                    <a:pt x="471" y="2580"/>
                  </a:lnTo>
                  <a:lnTo>
                    <a:pt x="497" y="2593"/>
                  </a:lnTo>
                  <a:lnTo>
                    <a:pt x="524" y="2607"/>
                  </a:lnTo>
                  <a:lnTo>
                    <a:pt x="541" y="2611"/>
                  </a:lnTo>
                  <a:lnTo>
                    <a:pt x="555" y="2620"/>
                  </a:lnTo>
                  <a:lnTo>
                    <a:pt x="577" y="2620"/>
                  </a:lnTo>
                  <a:lnTo>
                    <a:pt x="595" y="2611"/>
                  </a:lnTo>
                  <a:lnTo>
                    <a:pt x="609" y="2607"/>
                  </a:lnTo>
                  <a:lnTo>
                    <a:pt x="622" y="2607"/>
                  </a:lnTo>
                  <a:lnTo>
                    <a:pt x="640" y="2602"/>
                  </a:lnTo>
                  <a:lnTo>
                    <a:pt x="644" y="2598"/>
                  </a:lnTo>
                  <a:lnTo>
                    <a:pt x="649" y="2598"/>
                  </a:lnTo>
                  <a:lnTo>
                    <a:pt x="618" y="2501"/>
                  </a:lnTo>
                  <a:lnTo>
                    <a:pt x="524" y="2443"/>
                  </a:lnTo>
                  <a:lnTo>
                    <a:pt x="613" y="1538"/>
                  </a:lnTo>
                  <a:lnTo>
                    <a:pt x="653" y="1432"/>
                  </a:lnTo>
                  <a:lnTo>
                    <a:pt x="605" y="914"/>
                  </a:lnTo>
                  <a:lnTo>
                    <a:pt x="707" y="1445"/>
                  </a:lnTo>
                  <a:lnTo>
                    <a:pt x="675" y="1489"/>
                  </a:lnTo>
                  <a:lnTo>
                    <a:pt x="680" y="1493"/>
                  </a:lnTo>
                  <a:lnTo>
                    <a:pt x="684" y="1498"/>
                  </a:lnTo>
                  <a:lnTo>
                    <a:pt x="693" y="1507"/>
                  </a:lnTo>
                  <a:lnTo>
                    <a:pt x="698" y="1511"/>
                  </a:lnTo>
                  <a:lnTo>
                    <a:pt x="702" y="1511"/>
                  </a:lnTo>
                  <a:lnTo>
                    <a:pt x="702" y="1569"/>
                  </a:lnTo>
                  <a:lnTo>
                    <a:pt x="644" y="1569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24520" y="4721400"/>
              <a:ext cx="578160" cy="316440"/>
            </a:xfrm>
            <a:custGeom>
              <a:avLst/>
              <a:gdLst/>
              <a:ahLst/>
              <a:rect l="0" t="0" r="r" b="b"/>
              <a:pathLst>
                <a:path w="1606" h="879">
                  <a:moveTo>
                    <a:pt x="526" y="879"/>
                  </a:moveTo>
                  <a:lnTo>
                    <a:pt x="1606" y="572"/>
                  </a:lnTo>
                  <a:lnTo>
                    <a:pt x="1606" y="448"/>
                  </a:lnTo>
                  <a:lnTo>
                    <a:pt x="849" y="0"/>
                  </a:lnTo>
                  <a:lnTo>
                    <a:pt x="0" y="519"/>
                  </a:lnTo>
                  <a:lnTo>
                    <a:pt x="0" y="599"/>
                  </a:lnTo>
                  <a:lnTo>
                    <a:pt x="526" y="879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15160" y="4665600"/>
              <a:ext cx="587880" cy="344880"/>
            </a:xfrm>
            <a:custGeom>
              <a:avLst/>
              <a:gdLst/>
              <a:ahLst/>
              <a:rect l="0" t="0" r="r" b="b"/>
              <a:pathLst>
                <a:path w="1633" h="958">
                  <a:moveTo>
                    <a:pt x="527" y="958"/>
                  </a:moveTo>
                  <a:lnTo>
                    <a:pt x="1633" y="652"/>
                  </a:lnTo>
                  <a:lnTo>
                    <a:pt x="1633" y="275"/>
                  </a:lnTo>
                  <a:lnTo>
                    <a:pt x="1177" y="0"/>
                  </a:lnTo>
                  <a:lnTo>
                    <a:pt x="0" y="302"/>
                  </a:lnTo>
                  <a:lnTo>
                    <a:pt x="0" y="630"/>
                  </a:lnTo>
                  <a:lnTo>
                    <a:pt x="527" y="9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15160" y="4791240"/>
              <a:ext cx="192600" cy="200520"/>
            </a:xfrm>
            <a:custGeom>
              <a:avLst/>
              <a:gdLst/>
              <a:ahLst/>
              <a:rect l="0" t="0" r="r" b="b"/>
              <a:pathLst>
                <a:path w="535" h="557">
                  <a:moveTo>
                    <a:pt x="0" y="281"/>
                  </a:moveTo>
                  <a:lnTo>
                    <a:pt x="0" y="0"/>
                  </a:lnTo>
                  <a:lnTo>
                    <a:pt x="535" y="254"/>
                  </a:lnTo>
                  <a:lnTo>
                    <a:pt x="535" y="55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21440" y="4927680"/>
              <a:ext cx="508320" cy="200520"/>
            </a:xfrm>
            <a:custGeom>
              <a:avLst/>
              <a:gdLst/>
              <a:ahLst/>
              <a:rect l="0" t="0" r="r" b="b"/>
              <a:pathLst>
                <a:path w="1412" h="557">
                  <a:moveTo>
                    <a:pt x="247" y="557"/>
                  </a:moveTo>
                  <a:lnTo>
                    <a:pt x="1412" y="227"/>
                  </a:lnTo>
                  <a:lnTo>
                    <a:pt x="1005" y="0"/>
                  </a:lnTo>
                  <a:lnTo>
                    <a:pt x="0" y="249"/>
                  </a:lnTo>
                  <a:lnTo>
                    <a:pt x="247" y="55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1160" y="4919760"/>
              <a:ext cx="498960" cy="198720"/>
            </a:xfrm>
            <a:custGeom>
              <a:avLst/>
              <a:gdLst/>
              <a:ahLst/>
              <a:rect l="0" t="0" r="r" b="b"/>
              <a:pathLst>
                <a:path w="1386" h="552">
                  <a:moveTo>
                    <a:pt x="252" y="552"/>
                  </a:moveTo>
                  <a:lnTo>
                    <a:pt x="1386" y="222"/>
                  </a:lnTo>
                  <a:lnTo>
                    <a:pt x="978" y="0"/>
                  </a:lnTo>
                  <a:lnTo>
                    <a:pt x="0" y="248"/>
                  </a:lnTo>
                  <a:lnTo>
                    <a:pt x="252" y="5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600" y="4394160"/>
              <a:ext cx="540000" cy="471960"/>
            </a:xfrm>
            <a:custGeom>
              <a:avLst/>
              <a:gdLst/>
              <a:ahLst/>
              <a:rect l="0" t="0" r="r" b="b"/>
              <a:pathLst>
                <a:path w="1500" h="1311">
                  <a:moveTo>
                    <a:pt x="420" y="1311"/>
                  </a:moveTo>
                  <a:lnTo>
                    <a:pt x="1500" y="1006"/>
                  </a:lnTo>
                  <a:lnTo>
                    <a:pt x="1473" y="48"/>
                  </a:lnTo>
                  <a:lnTo>
                    <a:pt x="1398" y="0"/>
                  </a:lnTo>
                  <a:lnTo>
                    <a:pt x="420" y="252"/>
                  </a:lnTo>
                  <a:lnTo>
                    <a:pt x="194" y="150"/>
                  </a:lnTo>
                  <a:lnTo>
                    <a:pt x="0" y="278"/>
                  </a:lnTo>
                  <a:lnTo>
                    <a:pt x="97" y="1032"/>
                  </a:lnTo>
                  <a:lnTo>
                    <a:pt x="420" y="131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32440" y="4378320"/>
              <a:ext cx="562320" cy="470160"/>
            </a:xfrm>
            <a:custGeom>
              <a:avLst/>
              <a:gdLst/>
              <a:ahLst/>
              <a:rect l="0" t="0" r="r" b="b"/>
              <a:pathLst>
                <a:path w="1562" h="1306">
                  <a:moveTo>
                    <a:pt x="274" y="1177"/>
                  </a:moveTo>
                  <a:lnTo>
                    <a:pt x="477" y="1306"/>
                  </a:lnTo>
                  <a:lnTo>
                    <a:pt x="1562" y="1000"/>
                  </a:lnTo>
                  <a:lnTo>
                    <a:pt x="1531" y="44"/>
                  </a:lnTo>
                  <a:lnTo>
                    <a:pt x="1460" y="0"/>
                  </a:lnTo>
                  <a:lnTo>
                    <a:pt x="477" y="247"/>
                  </a:lnTo>
                  <a:lnTo>
                    <a:pt x="252" y="146"/>
                  </a:lnTo>
                  <a:lnTo>
                    <a:pt x="26" y="221"/>
                  </a:lnTo>
                  <a:lnTo>
                    <a:pt x="0" y="247"/>
                  </a:lnTo>
                  <a:lnTo>
                    <a:pt x="0" y="899"/>
                  </a:lnTo>
                  <a:lnTo>
                    <a:pt x="274" y="117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43600" y="4440240"/>
              <a:ext cx="71640" cy="327240"/>
            </a:xfrm>
            <a:custGeom>
              <a:avLst/>
              <a:gdLst/>
              <a:ahLst/>
              <a:rect l="0" t="0" r="r" b="b"/>
              <a:pathLst>
                <a:path w="199" h="909">
                  <a:moveTo>
                    <a:pt x="0" y="705"/>
                  </a:moveTo>
                  <a:lnTo>
                    <a:pt x="0" y="97"/>
                  </a:lnTo>
                  <a:lnTo>
                    <a:pt x="199" y="0"/>
                  </a:lnTo>
                  <a:lnTo>
                    <a:pt x="199" y="909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2520" y="4449600"/>
              <a:ext cx="63720" cy="379800"/>
            </a:xfrm>
            <a:custGeom>
              <a:avLst/>
              <a:gdLst/>
              <a:ahLst/>
              <a:rect l="0" t="0" r="r" b="b"/>
              <a:pathLst>
                <a:path w="177" h="1055">
                  <a:moveTo>
                    <a:pt x="0" y="954"/>
                  </a:moveTo>
                  <a:lnTo>
                    <a:pt x="177" y="1055"/>
                  </a:lnTo>
                  <a:lnTo>
                    <a:pt x="177" y="97"/>
                  </a:lnTo>
                  <a:lnTo>
                    <a:pt x="22" y="0"/>
                  </a:lnTo>
                  <a:lnTo>
                    <a:pt x="0" y="95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58160" y="4430880"/>
              <a:ext cx="290880" cy="354240"/>
            </a:xfrm>
            <a:custGeom>
              <a:avLst/>
              <a:gdLst/>
              <a:ahLst/>
              <a:rect l="0" t="0" r="r" b="b"/>
              <a:pathLst>
                <a:path w="808" h="984">
                  <a:moveTo>
                    <a:pt x="808" y="780"/>
                  </a:moveTo>
                  <a:lnTo>
                    <a:pt x="0" y="984"/>
                  </a:lnTo>
                  <a:lnTo>
                    <a:pt x="22" y="225"/>
                  </a:lnTo>
                  <a:lnTo>
                    <a:pt x="782" y="0"/>
                  </a:lnTo>
                  <a:lnTo>
                    <a:pt x="808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24600" y="4332240"/>
              <a:ext cx="433800" cy="136800"/>
            </a:xfrm>
            <a:custGeom>
              <a:avLst/>
              <a:gdLst/>
              <a:ahLst/>
              <a:rect l="0" t="0" r="r" b="b"/>
              <a:pathLst>
                <a:path w="1205" h="380">
                  <a:moveTo>
                    <a:pt x="980" y="0"/>
                  </a:moveTo>
                  <a:lnTo>
                    <a:pt x="1205" y="124"/>
                  </a:lnTo>
                  <a:lnTo>
                    <a:pt x="221" y="380"/>
                  </a:lnTo>
                  <a:lnTo>
                    <a:pt x="0" y="277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4360" y="3816360"/>
              <a:ext cx="244800" cy="514800"/>
            </a:xfrm>
            <a:custGeom>
              <a:avLst/>
              <a:gdLst/>
              <a:ahLst/>
              <a:rect l="0" t="0" r="r" b="b"/>
              <a:pathLst>
                <a:path w="680" h="1430">
                  <a:moveTo>
                    <a:pt x="0" y="1053"/>
                  </a:moveTo>
                  <a:lnTo>
                    <a:pt x="0" y="0"/>
                  </a:lnTo>
                  <a:lnTo>
                    <a:pt x="680" y="372"/>
                  </a:lnTo>
                  <a:lnTo>
                    <a:pt x="680" y="1430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94360" y="3925800"/>
              <a:ext cx="60840" cy="106560"/>
            </a:xfrm>
            <a:custGeom>
              <a:avLst/>
              <a:gdLst/>
              <a:ahLst/>
              <a:rect l="0" t="0" r="r" b="b"/>
              <a:pathLst>
                <a:path w="169" h="296">
                  <a:moveTo>
                    <a:pt x="169" y="184"/>
                  </a:moveTo>
                  <a:lnTo>
                    <a:pt x="4" y="0"/>
                  </a:lnTo>
                  <a:lnTo>
                    <a:pt x="0" y="157"/>
                  </a:lnTo>
                  <a:lnTo>
                    <a:pt x="18" y="189"/>
                  </a:lnTo>
                  <a:lnTo>
                    <a:pt x="36" y="211"/>
                  </a:lnTo>
                  <a:lnTo>
                    <a:pt x="50" y="238"/>
                  </a:lnTo>
                  <a:lnTo>
                    <a:pt x="68" y="256"/>
                  </a:lnTo>
                  <a:lnTo>
                    <a:pt x="77" y="269"/>
                  </a:lnTo>
                  <a:lnTo>
                    <a:pt x="87" y="283"/>
                  </a:lnTo>
                  <a:lnTo>
                    <a:pt x="91" y="287"/>
                  </a:lnTo>
                  <a:lnTo>
                    <a:pt x="91" y="296"/>
                  </a:lnTo>
                  <a:lnTo>
                    <a:pt x="169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21360" y="3984480"/>
              <a:ext cx="157680" cy="214560"/>
            </a:xfrm>
            <a:custGeom>
              <a:avLst/>
              <a:gdLst/>
              <a:ahLst/>
              <a:rect l="0" t="0" r="r" b="b"/>
              <a:pathLst>
                <a:path w="438" h="596">
                  <a:moveTo>
                    <a:pt x="219" y="551"/>
                  </a:moveTo>
                  <a:lnTo>
                    <a:pt x="259" y="578"/>
                  </a:lnTo>
                  <a:lnTo>
                    <a:pt x="303" y="587"/>
                  </a:lnTo>
                  <a:lnTo>
                    <a:pt x="340" y="596"/>
                  </a:lnTo>
                  <a:lnTo>
                    <a:pt x="371" y="582"/>
                  </a:lnTo>
                  <a:lnTo>
                    <a:pt x="402" y="565"/>
                  </a:lnTo>
                  <a:lnTo>
                    <a:pt x="420" y="529"/>
                  </a:lnTo>
                  <a:lnTo>
                    <a:pt x="429" y="494"/>
                  </a:lnTo>
                  <a:lnTo>
                    <a:pt x="438" y="445"/>
                  </a:lnTo>
                  <a:lnTo>
                    <a:pt x="429" y="391"/>
                  </a:lnTo>
                  <a:lnTo>
                    <a:pt x="420" y="334"/>
                  </a:lnTo>
                  <a:lnTo>
                    <a:pt x="402" y="275"/>
                  </a:lnTo>
                  <a:lnTo>
                    <a:pt x="371" y="222"/>
                  </a:lnTo>
                  <a:lnTo>
                    <a:pt x="340" y="168"/>
                  </a:lnTo>
                  <a:lnTo>
                    <a:pt x="303" y="115"/>
                  </a:lnTo>
                  <a:lnTo>
                    <a:pt x="259" y="75"/>
                  </a:lnTo>
                  <a:lnTo>
                    <a:pt x="219" y="35"/>
                  </a:lnTo>
                  <a:lnTo>
                    <a:pt x="174" y="13"/>
                  </a:lnTo>
                  <a:lnTo>
                    <a:pt x="130" y="4"/>
                  </a:lnTo>
                  <a:lnTo>
                    <a:pt x="93" y="0"/>
                  </a:lnTo>
                  <a:lnTo>
                    <a:pt x="62" y="8"/>
                  </a:lnTo>
                  <a:lnTo>
                    <a:pt x="35" y="26"/>
                  </a:lnTo>
                  <a:lnTo>
                    <a:pt x="17" y="62"/>
                  </a:lnTo>
                  <a:lnTo>
                    <a:pt x="4" y="97"/>
                  </a:lnTo>
                  <a:lnTo>
                    <a:pt x="0" y="146"/>
                  </a:lnTo>
                  <a:lnTo>
                    <a:pt x="4" y="199"/>
                  </a:lnTo>
                  <a:lnTo>
                    <a:pt x="17" y="257"/>
                  </a:lnTo>
                  <a:lnTo>
                    <a:pt x="35" y="316"/>
                  </a:lnTo>
                  <a:lnTo>
                    <a:pt x="62" y="369"/>
                  </a:lnTo>
                  <a:lnTo>
                    <a:pt x="93" y="423"/>
                  </a:lnTo>
                  <a:lnTo>
                    <a:pt x="130" y="471"/>
                  </a:lnTo>
                  <a:lnTo>
                    <a:pt x="174" y="516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99520" y="4344840"/>
              <a:ext cx="217800" cy="201960"/>
            </a:xfrm>
            <a:custGeom>
              <a:avLst/>
              <a:gdLst/>
              <a:ahLst/>
              <a:rect l="0" t="0" r="r" b="b"/>
              <a:pathLst>
                <a:path w="605" h="561">
                  <a:moveTo>
                    <a:pt x="605" y="396"/>
                  </a:moveTo>
                  <a:lnTo>
                    <a:pt x="605" y="0"/>
                  </a:lnTo>
                  <a:lnTo>
                    <a:pt x="0" y="168"/>
                  </a:lnTo>
                  <a:lnTo>
                    <a:pt x="0" y="561"/>
                  </a:lnTo>
                  <a:lnTo>
                    <a:pt x="605" y="3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54880" y="4379760"/>
              <a:ext cx="46440" cy="167040"/>
            </a:xfrm>
            <a:custGeom>
              <a:avLst/>
              <a:gdLst/>
              <a:ahLst/>
              <a:rect l="0" t="0" r="r" b="b"/>
              <a:pathLst>
                <a:path w="129" h="464">
                  <a:moveTo>
                    <a:pt x="0" y="388"/>
                  </a:moveTo>
                  <a:lnTo>
                    <a:pt x="0" y="0"/>
                  </a:lnTo>
                  <a:lnTo>
                    <a:pt x="129" y="71"/>
                  </a:lnTo>
                  <a:lnTo>
                    <a:pt x="129" y="464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37360" y="3859200"/>
              <a:ext cx="344880" cy="471960"/>
            </a:xfrm>
            <a:custGeom>
              <a:avLst/>
              <a:gdLst/>
              <a:ahLst/>
              <a:rect l="0" t="0" r="r" b="b"/>
              <a:pathLst>
                <a:path w="958" h="1311">
                  <a:moveTo>
                    <a:pt x="958" y="1050"/>
                  </a:moveTo>
                  <a:lnTo>
                    <a:pt x="958" y="0"/>
                  </a:lnTo>
                  <a:lnTo>
                    <a:pt x="0" y="256"/>
                  </a:lnTo>
                  <a:lnTo>
                    <a:pt x="0" y="1311"/>
                  </a:lnTo>
                  <a:lnTo>
                    <a:pt x="958" y="10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3960" y="4000680"/>
              <a:ext cx="216360" cy="246600"/>
            </a:xfrm>
            <a:custGeom>
              <a:avLst/>
              <a:gdLst/>
              <a:ahLst/>
              <a:rect l="0" t="0" r="r" b="b"/>
              <a:pathLst>
                <a:path w="601" h="685">
                  <a:moveTo>
                    <a:pt x="601" y="525"/>
                  </a:moveTo>
                  <a:lnTo>
                    <a:pt x="601" y="0"/>
                  </a:lnTo>
                  <a:lnTo>
                    <a:pt x="0" y="155"/>
                  </a:lnTo>
                  <a:lnTo>
                    <a:pt x="0" y="685"/>
                  </a:lnTo>
                  <a:lnTo>
                    <a:pt x="601" y="52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01080" y="4170240"/>
              <a:ext cx="278280" cy="235440"/>
            </a:xfrm>
            <a:custGeom>
              <a:avLst/>
              <a:gdLst/>
              <a:ahLst/>
              <a:rect l="0" t="0" r="r" b="b"/>
              <a:pathLst>
                <a:path w="773" h="654">
                  <a:moveTo>
                    <a:pt x="0" y="0"/>
                  </a:moveTo>
                  <a:lnTo>
                    <a:pt x="0" y="209"/>
                  </a:lnTo>
                  <a:lnTo>
                    <a:pt x="773" y="654"/>
                  </a:lnTo>
                  <a:lnTo>
                    <a:pt x="773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92920" y="3726000"/>
              <a:ext cx="587880" cy="227520"/>
            </a:xfrm>
            <a:custGeom>
              <a:avLst/>
              <a:gdLst/>
              <a:ahLst/>
              <a:rect l="0" t="0" r="r" b="b"/>
              <a:pathLst>
                <a:path w="1633" h="632">
                  <a:moveTo>
                    <a:pt x="1633" y="369"/>
                  </a:moveTo>
                  <a:lnTo>
                    <a:pt x="947" y="0"/>
                  </a:lnTo>
                  <a:lnTo>
                    <a:pt x="0" y="254"/>
                  </a:lnTo>
                  <a:lnTo>
                    <a:pt x="681" y="632"/>
                  </a:lnTo>
                  <a:lnTo>
                    <a:pt x="1633" y="36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1400" y="3795840"/>
              <a:ext cx="167040" cy="227520"/>
            </a:xfrm>
            <a:custGeom>
              <a:avLst/>
              <a:gdLst/>
              <a:ahLst/>
              <a:rect l="0" t="0" r="r" b="b"/>
              <a:pathLst>
                <a:path w="464" h="632">
                  <a:moveTo>
                    <a:pt x="464" y="521"/>
                  </a:moveTo>
                  <a:lnTo>
                    <a:pt x="446" y="499"/>
                  </a:lnTo>
                  <a:lnTo>
                    <a:pt x="410" y="445"/>
                  </a:lnTo>
                  <a:lnTo>
                    <a:pt x="352" y="369"/>
                  </a:lnTo>
                  <a:lnTo>
                    <a:pt x="290" y="276"/>
                  </a:lnTo>
                  <a:lnTo>
                    <a:pt x="222" y="187"/>
                  </a:lnTo>
                  <a:lnTo>
                    <a:pt x="164" y="106"/>
                  </a:lnTo>
                  <a:lnTo>
                    <a:pt x="129" y="48"/>
                  </a:lnTo>
                  <a:lnTo>
                    <a:pt x="115" y="26"/>
                  </a:lnTo>
                  <a:lnTo>
                    <a:pt x="106" y="22"/>
                  </a:lnTo>
                  <a:lnTo>
                    <a:pt x="97" y="17"/>
                  </a:lnTo>
                  <a:lnTo>
                    <a:pt x="89" y="8"/>
                  </a:lnTo>
                  <a:lnTo>
                    <a:pt x="80" y="4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4"/>
                  </a:lnTo>
                  <a:lnTo>
                    <a:pt x="31" y="8"/>
                  </a:lnTo>
                  <a:lnTo>
                    <a:pt x="22" y="13"/>
                  </a:lnTo>
                  <a:lnTo>
                    <a:pt x="8" y="22"/>
                  </a:lnTo>
                  <a:lnTo>
                    <a:pt x="4" y="35"/>
                  </a:lnTo>
                  <a:lnTo>
                    <a:pt x="0" y="48"/>
                  </a:lnTo>
                  <a:lnTo>
                    <a:pt x="4" y="71"/>
                  </a:lnTo>
                  <a:lnTo>
                    <a:pt x="13" y="93"/>
                  </a:lnTo>
                  <a:lnTo>
                    <a:pt x="35" y="128"/>
                  </a:lnTo>
                  <a:lnTo>
                    <a:pt x="75" y="178"/>
                  </a:lnTo>
                  <a:lnTo>
                    <a:pt x="124" y="245"/>
                  </a:lnTo>
                  <a:lnTo>
                    <a:pt x="186" y="329"/>
                  </a:lnTo>
                  <a:lnTo>
                    <a:pt x="245" y="418"/>
                  </a:lnTo>
                  <a:lnTo>
                    <a:pt x="299" y="494"/>
                  </a:lnTo>
                  <a:lnTo>
                    <a:pt x="348" y="565"/>
                  </a:lnTo>
                  <a:lnTo>
                    <a:pt x="379" y="614"/>
                  </a:lnTo>
                  <a:lnTo>
                    <a:pt x="388" y="632"/>
                  </a:lnTo>
                  <a:lnTo>
                    <a:pt x="464" y="521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05440" y="3813120"/>
              <a:ext cx="130680" cy="173520"/>
            </a:xfrm>
            <a:custGeom>
              <a:avLst/>
              <a:gdLst/>
              <a:ahLst/>
              <a:rect l="0" t="0" r="r" b="b"/>
              <a:pathLst>
                <a:path w="363" h="482">
                  <a:moveTo>
                    <a:pt x="0" y="22"/>
                  </a:moveTo>
                  <a:lnTo>
                    <a:pt x="22" y="0"/>
                  </a:lnTo>
                  <a:lnTo>
                    <a:pt x="363" y="48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1320" y="3968640"/>
              <a:ext cx="157680" cy="213120"/>
            </a:xfrm>
            <a:custGeom>
              <a:avLst/>
              <a:gdLst/>
              <a:ahLst/>
              <a:rect l="0" t="0" r="r" b="b"/>
              <a:pathLst>
                <a:path w="438" h="592">
                  <a:moveTo>
                    <a:pt x="219" y="552"/>
                  </a:moveTo>
                  <a:lnTo>
                    <a:pt x="259" y="575"/>
                  </a:lnTo>
                  <a:lnTo>
                    <a:pt x="299" y="592"/>
                  </a:lnTo>
                  <a:lnTo>
                    <a:pt x="340" y="592"/>
                  </a:lnTo>
                  <a:lnTo>
                    <a:pt x="371" y="579"/>
                  </a:lnTo>
                  <a:lnTo>
                    <a:pt x="398" y="561"/>
                  </a:lnTo>
                  <a:lnTo>
                    <a:pt x="416" y="530"/>
                  </a:lnTo>
                  <a:lnTo>
                    <a:pt x="429" y="495"/>
                  </a:lnTo>
                  <a:lnTo>
                    <a:pt x="438" y="440"/>
                  </a:lnTo>
                  <a:lnTo>
                    <a:pt x="429" y="387"/>
                  </a:lnTo>
                  <a:lnTo>
                    <a:pt x="416" y="329"/>
                  </a:lnTo>
                  <a:lnTo>
                    <a:pt x="398" y="276"/>
                  </a:lnTo>
                  <a:lnTo>
                    <a:pt x="371" y="218"/>
                  </a:lnTo>
                  <a:lnTo>
                    <a:pt x="340" y="165"/>
                  </a:lnTo>
                  <a:lnTo>
                    <a:pt x="299" y="115"/>
                  </a:lnTo>
                  <a:lnTo>
                    <a:pt x="259" y="71"/>
                  </a:lnTo>
                  <a:lnTo>
                    <a:pt x="219" y="35"/>
                  </a:lnTo>
                  <a:lnTo>
                    <a:pt x="174" y="13"/>
                  </a:lnTo>
                  <a:lnTo>
                    <a:pt x="130" y="0"/>
                  </a:lnTo>
                  <a:lnTo>
                    <a:pt x="89" y="0"/>
                  </a:lnTo>
                  <a:lnTo>
                    <a:pt x="62" y="8"/>
                  </a:lnTo>
                  <a:lnTo>
                    <a:pt x="31" y="26"/>
                  </a:lnTo>
                  <a:lnTo>
                    <a:pt x="13" y="57"/>
                  </a:lnTo>
                  <a:lnTo>
                    <a:pt x="0" y="93"/>
                  </a:lnTo>
                  <a:lnTo>
                    <a:pt x="0" y="142"/>
                  </a:lnTo>
                  <a:lnTo>
                    <a:pt x="0" y="196"/>
                  </a:lnTo>
                  <a:lnTo>
                    <a:pt x="13" y="254"/>
                  </a:lnTo>
                  <a:lnTo>
                    <a:pt x="31" y="312"/>
                  </a:lnTo>
                  <a:lnTo>
                    <a:pt x="62" y="369"/>
                  </a:lnTo>
                  <a:lnTo>
                    <a:pt x="89" y="423"/>
                  </a:lnTo>
                  <a:lnTo>
                    <a:pt x="130" y="472"/>
                  </a:lnTo>
                  <a:lnTo>
                    <a:pt x="174" y="517"/>
                  </a:lnTo>
                  <a:lnTo>
                    <a:pt x="219" y="55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59520" y="3968640"/>
              <a:ext cx="133560" cy="222480"/>
            </a:xfrm>
            <a:custGeom>
              <a:avLst/>
              <a:gdLst/>
              <a:ahLst/>
              <a:rect l="0" t="0" r="r" b="b"/>
              <a:pathLst>
                <a:path w="371" h="618">
                  <a:moveTo>
                    <a:pt x="371" y="582"/>
                  </a:moveTo>
                  <a:lnTo>
                    <a:pt x="84" y="0"/>
                  </a:lnTo>
                  <a:lnTo>
                    <a:pt x="0" y="35"/>
                  </a:lnTo>
                  <a:lnTo>
                    <a:pt x="286" y="618"/>
                  </a:lnTo>
                  <a:lnTo>
                    <a:pt x="371" y="58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1080" y="3981600"/>
              <a:ext cx="159120" cy="211320"/>
            </a:xfrm>
            <a:custGeom>
              <a:avLst/>
              <a:gdLst/>
              <a:ahLst/>
              <a:rect l="0" t="0" r="r" b="b"/>
              <a:pathLst>
                <a:path w="442" h="587">
                  <a:moveTo>
                    <a:pt x="223" y="547"/>
                  </a:moveTo>
                  <a:lnTo>
                    <a:pt x="259" y="574"/>
                  </a:lnTo>
                  <a:lnTo>
                    <a:pt x="303" y="587"/>
                  </a:lnTo>
                  <a:lnTo>
                    <a:pt x="344" y="587"/>
                  </a:lnTo>
                  <a:lnTo>
                    <a:pt x="371" y="578"/>
                  </a:lnTo>
                  <a:lnTo>
                    <a:pt x="402" y="556"/>
                  </a:lnTo>
                  <a:lnTo>
                    <a:pt x="420" y="529"/>
                  </a:lnTo>
                  <a:lnTo>
                    <a:pt x="434" y="489"/>
                  </a:lnTo>
                  <a:lnTo>
                    <a:pt x="442" y="440"/>
                  </a:lnTo>
                  <a:lnTo>
                    <a:pt x="434" y="387"/>
                  </a:lnTo>
                  <a:lnTo>
                    <a:pt x="420" y="329"/>
                  </a:lnTo>
                  <a:lnTo>
                    <a:pt x="402" y="271"/>
                  </a:lnTo>
                  <a:lnTo>
                    <a:pt x="371" y="213"/>
                  </a:lnTo>
                  <a:lnTo>
                    <a:pt x="344" y="159"/>
                  </a:lnTo>
                  <a:lnTo>
                    <a:pt x="303" y="111"/>
                  </a:lnTo>
                  <a:lnTo>
                    <a:pt x="259" y="71"/>
                  </a:lnTo>
                  <a:lnTo>
                    <a:pt x="223" y="35"/>
                  </a:lnTo>
                  <a:lnTo>
                    <a:pt x="174" y="13"/>
                  </a:lnTo>
                  <a:lnTo>
                    <a:pt x="134" y="0"/>
                  </a:lnTo>
                  <a:lnTo>
                    <a:pt x="93" y="0"/>
                  </a:lnTo>
                  <a:lnTo>
                    <a:pt x="66" y="8"/>
                  </a:lnTo>
                  <a:lnTo>
                    <a:pt x="35" y="26"/>
                  </a:lnTo>
                  <a:lnTo>
                    <a:pt x="17" y="53"/>
                  </a:lnTo>
                  <a:lnTo>
                    <a:pt x="4" y="97"/>
                  </a:lnTo>
                  <a:lnTo>
                    <a:pt x="0" y="146"/>
                  </a:lnTo>
                  <a:lnTo>
                    <a:pt x="4" y="199"/>
                  </a:lnTo>
                  <a:lnTo>
                    <a:pt x="17" y="257"/>
                  </a:lnTo>
                  <a:lnTo>
                    <a:pt x="35" y="316"/>
                  </a:lnTo>
                  <a:lnTo>
                    <a:pt x="66" y="369"/>
                  </a:lnTo>
                  <a:lnTo>
                    <a:pt x="93" y="423"/>
                  </a:lnTo>
                  <a:lnTo>
                    <a:pt x="134" y="471"/>
                  </a:lnTo>
                  <a:lnTo>
                    <a:pt x="174" y="511"/>
                  </a:lnTo>
                  <a:lnTo>
                    <a:pt x="223" y="547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01080" y="4040280"/>
              <a:ext cx="493920" cy="330480"/>
            </a:xfrm>
            <a:custGeom>
              <a:avLst/>
              <a:gdLst/>
              <a:ahLst/>
              <a:rect l="0" t="0" r="r" b="b"/>
              <a:pathLst>
                <a:path w="1372" h="918">
                  <a:moveTo>
                    <a:pt x="1372" y="683"/>
                  </a:moveTo>
                  <a:lnTo>
                    <a:pt x="185" y="0"/>
                  </a:lnTo>
                  <a:lnTo>
                    <a:pt x="128" y="13"/>
                  </a:lnTo>
                  <a:lnTo>
                    <a:pt x="0" y="44"/>
                  </a:lnTo>
                  <a:lnTo>
                    <a:pt x="0" y="403"/>
                  </a:lnTo>
                  <a:lnTo>
                    <a:pt x="868" y="918"/>
                  </a:lnTo>
                  <a:lnTo>
                    <a:pt x="1372" y="68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09000" y="4200480"/>
              <a:ext cx="49680" cy="66960"/>
            </a:xfrm>
            <a:custGeom>
              <a:avLst/>
              <a:gdLst/>
              <a:ahLst/>
              <a:rect l="0" t="0" r="r" b="b"/>
              <a:pathLst>
                <a:path w="138" h="186">
                  <a:moveTo>
                    <a:pt x="69" y="168"/>
                  </a:moveTo>
                  <a:lnTo>
                    <a:pt x="83" y="177"/>
                  </a:lnTo>
                  <a:lnTo>
                    <a:pt x="96" y="186"/>
                  </a:lnTo>
                  <a:lnTo>
                    <a:pt x="106" y="186"/>
                  </a:lnTo>
                  <a:lnTo>
                    <a:pt x="115" y="177"/>
                  </a:lnTo>
                  <a:lnTo>
                    <a:pt x="125" y="172"/>
                  </a:lnTo>
                  <a:lnTo>
                    <a:pt x="129" y="163"/>
                  </a:lnTo>
                  <a:lnTo>
                    <a:pt x="138" y="154"/>
                  </a:lnTo>
                  <a:lnTo>
                    <a:pt x="138" y="141"/>
                  </a:lnTo>
                  <a:lnTo>
                    <a:pt x="138" y="118"/>
                  </a:lnTo>
                  <a:lnTo>
                    <a:pt x="129" y="100"/>
                  </a:lnTo>
                  <a:lnTo>
                    <a:pt x="125" y="85"/>
                  </a:lnTo>
                  <a:lnTo>
                    <a:pt x="115" y="67"/>
                  </a:lnTo>
                  <a:lnTo>
                    <a:pt x="106" y="49"/>
                  </a:lnTo>
                  <a:lnTo>
                    <a:pt x="96" y="31"/>
                  </a:lnTo>
                  <a:lnTo>
                    <a:pt x="83" y="22"/>
                  </a:lnTo>
                  <a:lnTo>
                    <a:pt x="69" y="9"/>
                  </a:lnTo>
                  <a:lnTo>
                    <a:pt x="51" y="4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8" y="4"/>
                  </a:lnTo>
                  <a:lnTo>
                    <a:pt x="13" y="9"/>
                  </a:lnTo>
                  <a:lnTo>
                    <a:pt x="4" y="18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4" y="81"/>
                  </a:lnTo>
                  <a:lnTo>
                    <a:pt x="13" y="95"/>
                  </a:lnTo>
                  <a:lnTo>
                    <a:pt x="18" y="113"/>
                  </a:lnTo>
                  <a:lnTo>
                    <a:pt x="27" y="132"/>
                  </a:lnTo>
                  <a:lnTo>
                    <a:pt x="42" y="150"/>
                  </a:lnTo>
                  <a:lnTo>
                    <a:pt x="51" y="159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57960" y="4228920"/>
              <a:ext cx="51120" cy="66960"/>
            </a:xfrm>
            <a:custGeom>
              <a:avLst/>
              <a:gdLst/>
              <a:ahLst/>
              <a:rect l="0" t="0" r="r" b="b"/>
              <a:pathLst>
                <a:path w="142" h="186">
                  <a:moveTo>
                    <a:pt x="68" y="168"/>
                  </a:moveTo>
                  <a:lnTo>
                    <a:pt x="82" y="177"/>
                  </a:lnTo>
                  <a:lnTo>
                    <a:pt x="96" y="186"/>
                  </a:lnTo>
                  <a:lnTo>
                    <a:pt x="110" y="186"/>
                  </a:lnTo>
                  <a:lnTo>
                    <a:pt x="119" y="177"/>
                  </a:lnTo>
                  <a:lnTo>
                    <a:pt x="123" y="172"/>
                  </a:lnTo>
                  <a:lnTo>
                    <a:pt x="133" y="163"/>
                  </a:lnTo>
                  <a:lnTo>
                    <a:pt x="142" y="150"/>
                  </a:lnTo>
                  <a:lnTo>
                    <a:pt x="142" y="136"/>
                  </a:lnTo>
                  <a:lnTo>
                    <a:pt x="142" y="118"/>
                  </a:lnTo>
                  <a:lnTo>
                    <a:pt x="133" y="100"/>
                  </a:lnTo>
                  <a:lnTo>
                    <a:pt x="123" y="81"/>
                  </a:lnTo>
                  <a:lnTo>
                    <a:pt x="119" y="67"/>
                  </a:lnTo>
                  <a:lnTo>
                    <a:pt x="110" y="45"/>
                  </a:lnTo>
                  <a:lnTo>
                    <a:pt x="96" y="31"/>
                  </a:lnTo>
                  <a:lnTo>
                    <a:pt x="82" y="18"/>
                  </a:lnTo>
                  <a:lnTo>
                    <a:pt x="68" y="9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4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9" y="95"/>
                  </a:lnTo>
                  <a:lnTo>
                    <a:pt x="18" y="113"/>
                  </a:lnTo>
                  <a:lnTo>
                    <a:pt x="27" y="132"/>
                  </a:lnTo>
                  <a:lnTo>
                    <a:pt x="36" y="145"/>
                  </a:lnTo>
                  <a:lnTo>
                    <a:pt x="54" y="159"/>
                  </a:lnTo>
                  <a:lnTo>
                    <a:pt x="6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07280" y="4257720"/>
              <a:ext cx="49680" cy="66960"/>
            </a:xfrm>
            <a:custGeom>
              <a:avLst/>
              <a:gdLst/>
              <a:ahLst/>
              <a:rect l="0" t="0" r="r" b="b"/>
              <a:pathLst>
                <a:path w="138" h="186">
                  <a:moveTo>
                    <a:pt x="69" y="172"/>
                  </a:moveTo>
                  <a:lnTo>
                    <a:pt x="83" y="186"/>
                  </a:lnTo>
                  <a:lnTo>
                    <a:pt x="96" y="186"/>
                  </a:lnTo>
                  <a:lnTo>
                    <a:pt x="106" y="186"/>
                  </a:lnTo>
                  <a:lnTo>
                    <a:pt x="115" y="186"/>
                  </a:lnTo>
                  <a:lnTo>
                    <a:pt x="125" y="177"/>
                  </a:lnTo>
                  <a:lnTo>
                    <a:pt x="129" y="168"/>
                  </a:lnTo>
                  <a:lnTo>
                    <a:pt x="138" y="154"/>
                  </a:lnTo>
                  <a:lnTo>
                    <a:pt x="138" y="141"/>
                  </a:lnTo>
                  <a:lnTo>
                    <a:pt x="138" y="118"/>
                  </a:lnTo>
                  <a:lnTo>
                    <a:pt x="129" y="104"/>
                  </a:lnTo>
                  <a:lnTo>
                    <a:pt x="125" y="85"/>
                  </a:lnTo>
                  <a:lnTo>
                    <a:pt x="115" y="67"/>
                  </a:lnTo>
                  <a:lnTo>
                    <a:pt x="106" y="49"/>
                  </a:lnTo>
                  <a:lnTo>
                    <a:pt x="96" y="36"/>
                  </a:lnTo>
                  <a:lnTo>
                    <a:pt x="83" y="22"/>
                  </a:lnTo>
                  <a:lnTo>
                    <a:pt x="69" y="13"/>
                  </a:lnTo>
                  <a:lnTo>
                    <a:pt x="51" y="4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8" y="4"/>
                  </a:lnTo>
                  <a:lnTo>
                    <a:pt x="13" y="9"/>
                  </a:lnTo>
                  <a:lnTo>
                    <a:pt x="4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63"/>
                  </a:lnTo>
                  <a:lnTo>
                    <a:pt x="4" y="81"/>
                  </a:lnTo>
                  <a:lnTo>
                    <a:pt x="13" y="100"/>
                  </a:lnTo>
                  <a:lnTo>
                    <a:pt x="18" y="113"/>
                  </a:lnTo>
                  <a:lnTo>
                    <a:pt x="27" y="136"/>
                  </a:lnTo>
                  <a:lnTo>
                    <a:pt x="42" y="150"/>
                  </a:lnTo>
                  <a:lnTo>
                    <a:pt x="51" y="163"/>
                  </a:lnTo>
                  <a:lnTo>
                    <a:pt x="6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6600" y="4286160"/>
              <a:ext cx="51120" cy="66960"/>
            </a:xfrm>
            <a:custGeom>
              <a:avLst/>
              <a:gdLst/>
              <a:ahLst/>
              <a:rect l="0" t="0" r="r" b="b"/>
              <a:pathLst>
                <a:path w="142" h="186">
                  <a:moveTo>
                    <a:pt x="68" y="172"/>
                  </a:moveTo>
                  <a:lnTo>
                    <a:pt x="78" y="177"/>
                  </a:lnTo>
                  <a:lnTo>
                    <a:pt x="96" y="186"/>
                  </a:lnTo>
                  <a:lnTo>
                    <a:pt x="105" y="186"/>
                  </a:lnTo>
                  <a:lnTo>
                    <a:pt x="119" y="186"/>
                  </a:lnTo>
                  <a:lnTo>
                    <a:pt x="123" y="172"/>
                  </a:lnTo>
                  <a:lnTo>
                    <a:pt x="133" y="163"/>
                  </a:lnTo>
                  <a:lnTo>
                    <a:pt x="133" y="154"/>
                  </a:lnTo>
                  <a:lnTo>
                    <a:pt x="142" y="141"/>
                  </a:lnTo>
                  <a:lnTo>
                    <a:pt x="133" y="118"/>
                  </a:lnTo>
                  <a:lnTo>
                    <a:pt x="133" y="104"/>
                  </a:lnTo>
                  <a:lnTo>
                    <a:pt x="123" y="85"/>
                  </a:lnTo>
                  <a:lnTo>
                    <a:pt x="119" y="67"/>
                  </a:lnTo>
                  <a:lnTo>
                    <a:pt x="105" y="49"/>
                  </a:lnTo>
                  <a:lnTo>
                    <a:pt x="96" y="36"/>
                  </a:lnTo>
                  <a:lnTo>
                    <a:pt x="78" y="22"/>
                  </a:lnTo>
                  <a:lnTo>
                    <a:pt x="68" y="13"/>
                  </a:lnTo>
                  <a:lnTo>
                    <a:pt x="54" y="4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8" y="4"/>
                  </a:lnTo>
                  <a:lnTo>
                    <a:pt x="9" y="9"/>
                  </a:lnTo>
                  <a:lnTo>
                    <a:pt x="4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63"/>
                  </a:lnTo>
                  <a:lnTo>
                    <a:pt x="4" y="81"/>
                  </a:lnTo>
                  <a:lnTo>
                    <a:pt x="9" y="100"/>
                  </a:lnTo>
                  <a:lnTo>
                    <a:pt x="18" y="113"/>
                  </a:lnTo>
                  <a:lnTo>
                    <a:pt x="27" y="136"/>
                  </a:lnTo>
                  <a:lnTo>
                    <a:pt x="36" y="150"/>
                  </a:lnTo>
                  <a:lnTo>
                    <a:pt x="54" y="163"/>
                  </a:lnTo>
                  <a:lnTo>
                    <a:pt x="68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05560" y="4314960"/>
              <a:ext cx="49680" cy="68760"/>
            </a:xfrm>
            <a:custGeom>
              <a:avLst/>
              <a:gdLst/>
              <a:ahLst/>
              <a:rect l="0" t="0" r="r" b="b"/>
              <a:pathLst>
                <a:path w="138" h="191">
                  <a:moveTo>
                    <a:pt x="69" y="178"/>
                  </a:moveTo>
                  <a:lnTo>
                    <a:pt x="83" y="182"/>
                  </a:lnTo>
                  <a:lnTo>
                    <a:pt x="96" y="191"/>
                  </a:lnTo>
                  <a:lnTo>
                    <a:pt x="106" y="191"/>
                  </a:lnTo>
                  <a:lnTo>
                    <a:pt x="115" y="182"/>
                  </a:lnTo>
                  <a:lnTo>
                    <a:pt x="125" y="178"/>
                  </a:lnTo>
                  <a:lnTo>
                    <a:pt x="129" y="169"/>
                  </a:lnTo>
                  <a:lnTo>
                    <a:pt x="138" y="160"/>
                  </a:lnTo>
                  <a:lnTo>
                    <a:pt x="138" y="146"/>
                  </a:lnTo>
                  <a:lnTo>
                    <a:pt x="138" y="122"/>
                  </a:lnTo>
                  <a:lnTo>
                    <a:pt x="129" y="104"/>
                  </a:lnTo>
                  <a:lnTo>
                    <a:pt x="125" y="86"/>
                  </a:lnTo>
                  <a:lnTo>
                    <a:pt x="115" y="68"/>
                  </a:lnTo>
                  <a:lnTo>
                    <a:pt x="106" y="55"/>
                  </a:lnTo>
                  <a:lnTo>
                    <a:pt x="96" y="31"/>
                  </a:lnTo>
                  <a:lnTo>
                    <a:pt x="83" y="22"/>
                  </a:lnTo>
                  <a:lnTo>
                    <a:pt x="69" y="9"/>
                  </a:lnTo>
                  <a:lnTo>
                    <a:pt x="51" y="4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4" y="18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4"/>
                  </a:lnTo>
                  <a:lnTo>
                    <a:pt x="4" y="82"/>
                  </a:lnTo>
                  <a:lnTo>
                    <a:pt x="9" y="100"/>
                  </a:lnTo>
                  <a:lnTo>
                    <a:pt x="18" y="118"/>
                  </a:lnTo>
                  <a:lnTo>
                    <a:pt x="27" y="131"/>
                  </a:lnTo>
                  <a:lnTo>
                    <a:pt x="42" y="150"/>
                  </a:lnTo>
                  <a:lnTo>
                    <a:pt x="51" y="164"/>
                  </a:lnTo>
                  <a:lnTo>
                    <a:pt x="6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54880" y="4344840"/>
              <a:ext cx="49680" cy="66960"/>
            </a:xfrm>
            <a:custGeom>
              <a:avLst/>
              <a:gdLst/>
              <a:ahLst/>
              <a:rect l="0" t="0" r="r" b="b"/>
              <a:pathLst>
                <a:path w="138" h="186">
                  <a:moveTo>
                    <a:pt x="69" y="168"/>
                  </a:moveTo>
                  <a:lnTo>
                    <a:pt x="78" y="177"/>
                  </a:lnTo>
                  <a:lnTo>
                    <a:pt x="92" y="186"/>
                  </a:lnTo>
                  <a:lnTo>
                    <a:pt x="101" y="186"/>
                  </a:lnTo>
                  <a:lnTo>
                    <a:pt x="115" y="177"/>
                  </a:lnTo>
                  <a:lnTo>
                    <a:pt x="120" y="172"/>
                  </a:lnTo>
                  <a:lnTo>
                    <a:pt x="125" y="163"/>
                  </a:lnTo>
                  <a:lnTo>
                    <a:pt x="129" y="150"/>
                  </a:lnTo>
                  <a:lnTo>
                    <a:pt x="138" y="136"/>
                  </a:lnTo>
                  <a:lnTo>
                    <a:pt x="129" y="118"/>
                  </a:lnTo>
                  <a:lnTo>
                    <a:pt x="125" y="100"/>
                  </a:lnTo>
                  <a:lnTo>
                    <a:pt x="120" y="81"/>
                  </a:lnTo>
                  <a:lnTo>
                    <a:pt x="115" y="67"/>
                  </a:lnTo>
                  <a:lnTo>
                    <a:pt x="101" y="45"/>
                  </a:lnTo>
                  <a:lnTo>
                    <a:pt x="92" y="31"/>
                  </a:lnTo>
                  <a:lnTo>
                    <a:pt x="78" y="18"/>
                  </a:lnTo>
                  <a:lnTo>
                    <a:pt x="69" y="9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4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9" y="95"/>
                  </a:lnTo>
                  <a:lnTo>
                    <a:pt x="18" y="113"/>
                  </a:lnTo>
                  <a:lnTo>
                    <a:pt x="27" y="132"/>
                  </a:lnTo>
                  <a:lnTo>
                    <a:pt x="37" y="145"/>
                  </a:lnTo>
                  <a:lnTo>
                    <a:pt x="51" y="159"/>
                  </a:lnTo>
                  <a:lnTo>
                    <a:pt x="69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61360" y="4284720"/>
              <a:ext cx="263880" cy="125640"/>
            </a:xfrm>
            <a:custGeom>
              <a:avLst/>
              <a:gdLst/>
              <a:ahLst/>
              <a:rect l="0" t="0" r="r" b="b"/>
              <a:pathLst>
                <a:path w="733" h="349">
                  <a:moveTo>
                    <a:pt x="706" y="184"/>
                  </a:moveTo>
                  <a:lnTo>
                    <a:pt x="710" y="184"/>
                  </a:lnTo>
                  <a:lnTo>
                    <a:pt x="715" y="179"/>
                  </a:lnTo>
                  <a:lnTo>
                    <a:pt x="719" y="174"/>
                  </a:lnTo>
                  <a:lnTo>
                    <a:pt x="719" y="165"/>
                  </a:lnTo>
                  <a:lnTo>
                    <a:pt x="724" y="160"/>
                  </a:lnTo>
                  <a:lnTo>
                    <a:pt x="724" y="151"/>
                  </a:lnTo>
                  <a:lnTo>
                    <a:pt x="733" y="147"/>
                  </a:lnTo>
                  <a:lnTo>
                    <a:pt x="733" y="138"/>
                  </a:lnTo>
                  <a:lnTo>
                    <a:pt x="724" y="120"/>
                  </a:lnTo>
                  <a:lnTo>
                    <a:pt x="724" y="102"/>
                  </a:lnTo>
                  <a:lnTo>
                    <a:pt x="715" y="84"/>
                  </a:lnTo>
                  <a:lnTo>
                    <a:pt x="710" y="66"/>
                  </a:lnTo>
                  <a:lnTo>
                    <a:pt x="697" y="49"/>
                  </a:lnTo>
                  <a:lnTo>
                    <a:pt x="688" y="35"/>
                  </a:lnTo>
                  <a:lnTo>
                    <a:pt x="670" y="22"/>
                  </a:lnTo>
                  <a:lnTo>
                    <a:pt x="662" y="13"/>
                  </a:lnTo>
                  <a:lnTo>
                    <a:pt x="653" y="8"/>
                  </a:lnTo>
                  <a:lnTo>
                    <a:pt x="648" y="4"/>
                  </a:lnTo>
                  <a:lnTo>
                    <a:pt x="639" y="4"/>
                  </a:lnTo>
                  <a:lnTo>
                    <a:pt x="635" y="0"/>
                  </a:lnTo>
                  <a:lnTo>
                    <a:pt x="630" y="0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3" y="4"/>
                  </a:lnTo>
                  <a:lnTo>
                    <a:pt x="0" y="165"/>
                  </a:lnTo>
                  <a:lnTo>
                    <a:pt x="4" y="165"/>
                  </a:lnTo>
                  <a:lnTo>
                    <a:pt x="8" y="160"/>
                  </a:lnTo>
                  <a:lnTo>
                    <a:pt x="13" y="160"/>
                  </a:lnTo>
                  <a:lnTo>
                    <a:pt x="17" y="160"/>
                  </a:lnTo>
                  <a:lnTo>
                    <a:pt x="22" y="165"/>
                  </a:lnTo>
                  <a:lnTo>
                    <a:pt x="31" y="165"/>
                  </a:lnTo>
                  <a:lnTo>
                    <a:pt x="35" y="174"/>
                  </a:lnTo>
                  <a:lnTo>
                    <a:pt x="44" y="179"/>
                  </a:lnTo>
                  <a:lnTo>
                    <a:pt x="57" y="188"/>
                  </a:lnTo>
                  <a:lnTo>
                    <a:pt x="70" y="201"/>
                  </a:lnTo>
                  <a:lnTo>
                    <a:pt x="79" y="215"/>
                  </a:lnTo>
                  <a:lnTo>
                    <a:pt x="93" y="233"/>
                  </a:lnTo>
                  <a:lnTo>
                    <a:pt x="97" y="251"/>
                  </a:lnTo>
                  <a:lnTo>
                    <a:pt x="102" y="268"/>
                  </a:lnTo>
                  <a:lnTo>
                    <a:pt x="106" y="282"/>
                  </a:lnTo>
                  <a:lnTo>
                    <a:pt x="115" y="304"/>
                  </a:lnTo>
                  <a:lnTo>
                    <a:pt x="115" y="313"/>
                  </a:lnTo>
                  <a:lnTo>
                    <a:pt x="106" y="318"/>
                  </a:lnTo>
                  <a:lnTo>
                    <a:pt x="106" y="327"/>
                  </a:lnTo>
                  <a:lnTo>
                    <a:pt x="102" y="331"/>
                  </a:lnTo>
                  <a:lnTo>
                    <a:pt x="102" y="335"/>
                  </a:lnTo>
                  <a:lnTo>
                    <a:pt x="97" y="340"/>
                  </a:lnTo>
                  <a:lnTo>
                    <a:pt x="93" y="349"/>
                  </a:lnTo>
                  <a:lnTo>
                    <a:pt x="88" y="349"/>
                  </a:lnTo>
                  <a:lnTo>
                    <a:pt x="706" y="1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00960" y="4303800"/>
              <a:ext cx="195480" cy="62280"/>
            </a:xfrm>
            <a:custGeom>
              <a:avLst/>
              <a:gdLst/>
              <a:ahLst/>
              <a:rect l="0" t="0" r="r" b="b"/>
              <a:pathLst>
                <a:path w="543" h="173">
                  <a:moveTo>
                    <a:pt x="543" y="18"/>
                  </a:moveTo>
                  <a:lnTo>
                    <a:pt x="534" y="0"/>
                  </a:lnTo>
                  <a:lnTo>
                    <a:pt x="0" y="155"/>
                  </a:lnTo>
                  <a:lnTo>
                    <a:pt x="0" y="173"/>
                  </a:lnTo>
                  <a:lnTo>
                    <a:pt x="543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4319640"/>
              <a:ext cx="195480" cy="62280"/>
            </a:xfrm>
            <a:custGeom>
              <a:avLst/>
              <a:gdLst/>
              <a:ahLst/>
              <a:rect l="0" t="0" r="r" b="b"/>
              <a:pathLst>
                <a:path w="543" h="173">
                  <a:moveTo>
                    <a:pt x="543" y="13"/>
                  </a:moveTo>
                  <a:lnTo>
                    <a:pt x="534" y="0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543" y="1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81880" y="4127400"/>
              <a:ext cx="140040" cy="189360"/>
            </a:xfrm>
            <a:custGeom>
              <a:avLst/>
              <a:gdLst/>
              <a:ahLst/>
              <a:rect l="0" t="0" r="r" b="b"/>
              <a:pathLst>
                <a:path w="389" h="526">
                  <a:moveTo>
                    <a:pt x="389" y="424"/>
                  </a:moveTo>
                  <a:lnTo>
                    <a:pt x="389" y="0"/>
                  </a:lnTo>
                  <a:lnTo>
                    <a:pt x="0" y="97"/>
                  </a:lnTo>
                  <a:lnTo>
                    <a:pt x="0" y="526"/>
                  </a:lnTo>
                  <a:lnTo>
                    <a:pt x="389" y="42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6480" y="4110120"/>
              <a:ext cx="97200" cy="206640"/>
            </a:xfrm>
            <a:custGeom>
              <a:avLst/>
              <a:gdLst/>
              <a:ahLst/>
              <a:rect l="0" t="0" r="r" b="b"/>
              <a:pathLst>
                <a:path w="270" h="574">
                  <a:moveTo>
                    <a:pt x="0" y="423"/>
                  </a:moveTo>
                  <a:lnTo>
                    <a:pt x="0" y="0"/>
                  </a:lnTo>
                  <a:lnTo>
                    <a:pt x="270" y="146"/>
                  </a:lnTo>
                  <a:lnTo>
                    <a:pt x="270" y="574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98989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5040" y="4073400"/>
              <a:ext cx="235440" cy="92520"/>
            </a:xfrm>
            <a:custGeom>
              <a:avLst/>
              <a:gdLst/>
              <a:ahLst/>
              <a:rect l="0" t="0" r="r" b="b"/>
              <a:pathLst>
                <a:path w="654" h="257">
                  <a:moveTo>
                    <a:pt x="654" y="149"/>
                  </a:moveTo>
                  <a:lnTo>
                    <a:pt x="378" y="0"/>
                  </a:lnTo>
                  <a:lnTo>
                    <a:pt x="0" y="104"/>
                  </a:lnTo>
                  <a:lnTo>
                    <a:pt x="267" y="257"/>
                  </a:lnTo>
                  <a:lnTo>
                    <a:pt x="654" y="1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789600" y="3724200"/>
              <a:ext cx="943560" cy="830880"/>
              <a:chOff x="6789600" y="3724200"/>
              <a:chExt cx="943560" cy="830880"/>
            </a:xfrm>
          </p:grpSpPr>
          <p:sp>
            <p:nvSpPr>
              <p:cNvPr id="237" name=""/>
              <p:cNvSpPr/>
              <p:nvPr/>
            </p:nvSpPr>
            <p:spPr>
              <a:xfrm>
                <a:off x="6892920" y="3817800"/>
                <a:ext cx="248040" cy="518040"/>
              </a:xfrm>
              <a:custGeom>
                <a:avLst/>
                <a:gdLst/>
                <a:ahLst/>
                <a:rect l="0" t="0" r="r" b="b"/>
                <a:pathLst>
                  <a:path w="689" h="1439">
                    <a:moveTo>
                      <a:pt x="0" y="1062"/>
                    </a:moveTo>
                    <a:lnTo>
                      <a:pt x="0" y="0"/>
                    </a:lnTo>
                    <a:lnTo>
                      <a:pt x="689" y="372"/>
                    </a:lnTo>
                    <a:lnTo>
                      <a:pt x="689" y="1439"/>
                    </a:lnTo>
                    <a:lnTo>
                      <a:pt x="0" y="106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92920" y="3925800"/>
                <a:ext cx="62280" cy="109800"/>
              </a:xfrm>
              <a:custGeom>
                <a:avLst/>
                <a:gdLst/>
                <a:ahLst/>
                <a:rect l="0" t="0" r="r" b="b"/>
                <a:pathLst>
                  <a:path w="173" h="305">
                    <a:moveTo>
                      <a:pt x="173" y="188"/>
                    </a:moveTo>
                    <a:lnTo>
                      <a:pt x="0" y="0"/>
                    </a:lnTo>
                    <a:lnTo>
                      <a:pt x="0" y="162"/>
                    </a:lnTo>
                    <a:lnTo>
                      <a:pt x="18" y="193"/>
                    </a:lnTo>
                    <a:lnTo>
                      <a:pt x="36" y="220"/>
                    </a:lnTo>
                    <a:lnTo>
                      <a:pt x="50" y="242"/>
                    </a:lnTo>
                    <a:lnTo>
                      <a:pt x="68" y="264"/>
                    </a:lnTo>
                    <a:lnTo>
                      <a:pt x="77" y="278"/>
                    </a:lnTo>
                    <a:lnTo>
                      <a:pt x="91" y="291"/>
                    </a:lnTo>
                    <a:lnTo>
                      <a:pt x="91" y="300"/>
                    </a:lnTo>
                    <a:lnTo>
                      <a:pt x="96" y="305"/>
                    </a:lnTo>
                    <a:lnTo>
                      <a:pt x="173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21360" y="3986280"/>
                <a:ext cx="160560" cy="216360"/>
              </a:xfrm>
              <a:custGeom>
                <a:avLst/>
                <a:gdLst/>
                <a:ahLst/>
                <a:rect l="0" t="0" r="r" b="b"/>
                <a:pathLst>
                  <a:path w="446" h="601">
                    <a:moveTo>
                      <a:pt x="218" y="557"/>
                    </a:moveTo>
                    <a:lnTo>
                      <a:pt x="263" y="583"/>
                    </a:lnTo>
                    <a:lnTo>
                      <a:pt x="308" y="597"/>
                    </a:lnTo>
                    <a:lnTo>
                      <a:pt x="343" y="601"/>
                    </a:lnTo>
                    <a:lnTo>
                      <a:pt x="375" y="588"/>
                    </a:lnTo>
                    <a:lnTo>
                      <a:pt x="406" y="566"/>
                    </a:lnTo>
                    <a:lnTo>
                      <a:pt x="424" y="539"/>
                    </a:lnTo>
                    <a:lnTo>
                      <a:pt x="437" y="499"/>
                    </a:lnTo>
                    <a:lnTo>
                      <a:pt x="446" y="449"/>
                    </a:lnTo>
                    <a:lnTo>
                      <a:pt x="437" y="391"/>
                    </a:lnTo>
                    <a:lnTo>
                      <a:pt x="424" y="334"/>
                    </a:lnTo>
                    <a:lnTo>
                      <a:pt x="406" y="276"/>
                    </a:lnTo>
                    <a:lnTo>
                      <a:pt x="375" y="223"/>
                    </a:lnTo>
                    <a:lnTo>
                      <a:pt x="343" y="165"/>
                    </a:lnTo>
                    <a:lnTo>
                      <a:pt x="308" y="119"/>
                    </a:lnTo>
                    <a:lnTo>
                      <a:pt x="263" y="75"/>
                    </a:lnTo>
                    <a:lnTo>
                      <a:pt x="218" y="39"/>
                    </a:lnTo>
                    <a:lnTo>
                      <a:pt x="173" y="13"/>
                    </a:lnTo>
                    <a:lnTo>
                      <a:pt x="133" y="0"/>
                    </a:lnTo>
                    <a:lnTo>
                      <a:pt x="97" y="0"/>
                    </a:lnTo>
                    <a:lnTo>
                      <a:pt x="62" y="8"/>
                    </a:lnTo>
                    <a:lnTo>
                      <a:pt x="35" y="31"/>
                    </a:lnTo>
                    <a:lnTo>
                      <a:pt x="13" y="57"/>
                    </a:lnTo>
                    <a:lnTo>
                      <a:pt x="0" y="97"/>
                    </a:lnTo>
                    <a:lnTo>
                      <a:pt x="0" y="146"/>
                    </a:lnTo>
                    <a:lnTo>
                      <a:pt x="0" y="205"/>
                    </a:lnTo>
                    <a:lnTo>
                      <a:pt x="13" y="263"/>
                    </a:lnTo>
                    <a:lnTo>
                      <a:pt x="35" y="320"/>
                    </a:lnTo>
                    <a:lnTo>
                      <a:pt x="62" y="378"/>
                    </a:lnTo>
                    <a:lnTo>
                      <a:pt x="97" y="431"/>
                    </a:lnTo>
                    <a:lnTo>
                      <a:pt x="133" y="477"/>
                    </a:lnTo>
                    <a:lnTo>
                      <a:pt x="173" y="521"/>
                    </a:lnTo>
                    <a:lnTo>
                      <a:pt x="218" y="5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640" y="4351320"/>
                <a:ext cx="216360" cy="203400"/>
              </a:xfrm>
              <a:custGeom>
                <a:avLst/>
                <a:gdLst/>
                <a:ahLst/>
                <a:rect l="0" t="0" r="r" b="b"/>
                <a:pathLst>
                  <a:path w="601" h="565">
                    <a:moveTo>
                      <a:pt x="601" y="392"/>
                    </a:moveTo>
                    <a:lnTo>
                      <a:pt x="601" y="0"/>
                    </a:lnTo>
                    <a:lnTo>
                      <a:pt x="0" y="164"/>
                    </a:lnTo>
                    <a:lnTo>
                      <a:pt x="0" y="565"/>
                    </a:lnTo>
                    <a:lnTo>
                      <a:pt x="601" y="39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58120" y="4384800"/>
                <a:ext cx="49680" cy="170280"/>
              </a:xfrm>
              <a:custGeom>
                <a:avLst/>
                <a:gdLst/>
                <a:ahLst/>
                <a:rect l="0" t="0" r="r" b="b"/>
                <a:pathLst>
                  <a:path w="138" h="473">
                    <a:moveTo>
                      <a:pt x="0" y="398"/>
                    </a:moveTo>
                    <a:lnTo>
                      <a:pt x="0" y="0"/>
                    </a:lnTo>
                    <a:lnTo>
                      <a:pt x="138" y="71"/>
                    </a:lnTo>
                    <a:lnTo>
                      <a:pt x="138" y="473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39160" y="3860640"/>
                <a:ext cx="349560" cy="478080"/>
              </a:xfrm>
              <a:custGeom>
                <a:avLst/>
                <a:gdLst/>
                <a:ahLst/>
                <a:rect l="0" t="0" r="r" b="b"/>
                <a:pathLst>
                  <a:path w="971" h="1328">
                    <a:moveTo>
                      <a:pt x="971" y="1062"/>
                    </a:moveTo>
                    <a:lnTo>
                      <a:pt x="971" y="0"/>
                    </a:lnTo>
                    <a:lnTo>
                      <a:pt x="0" y="261"/>
                    </a:lnTo>
                    <a:lnTo>
                      <a:pt x="0" y="1328"/>
                    </a:lnTo>
                    <a:lnTo>
                      <a:pt x="971" y="106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03960" y="4002120"/>
                <a:ext cx="219600" cy="249480"/>
              </a:xfrm>
              <a:custGeom>
                <a:avLst/>
                <a:gdLst/>
                <a:ahLst/>
                <a:rect l="0" t="0" r="r" b="b"/>
                <a:pathLst>
                  <a:path w="610" h="693">
                    <a:moveTo>
                      <a:pt x="610" y="529"/>
                    </a:moveTo>
                    <a:lnTo>
                      <a:pt x="610" y="0"/>
                    </a:lnTo>
                    <a:lnTo>
                      <a:pt x="0" y="159"/>
                    </a:lnTo>
                    <a:lnTo>
                      <a:pt x="0" y="693"/>
                    </a:lnTo>
                    <a:lnTo>
                      <a:pt x="610" y="52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03960" y="4173480"/>
                <a:ext cx="279720" cy="236880"/>
              </a:xfrm>
              <a:custGeom>
                <a:avLst/>
                <a:gdLst/>
                <a:ahLst/>
                <a:rect l="0" t="0" r="r" b="b"/>
                <a:pathLst>
                  <a:path w="777" h="658">
                    <a:moveTo>
                      <a:pt x="0" y="0"/>
                    </a:moveTo>
                    <a:lnTo>
                      <a:pt x="0" y="208"/>
                    </a:lnTo>
                    <a:lnTo>
                      <a:pt x="777" y="658"/>
                    </a:lnTo>
                    <a:lnTo>
                      <a:pt x="777" y="4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89680" y="3724200"/>
                <a:ext cx="598680" cy="233640"/>
              </a:xfrm>
              <a:custGeom>
                <a:avLst/>
                <a:gdLst/>
                <a:ahLst/>
                <a:rect l="0" t="0" r="r" b="b"/>
                <a:pathLst>
                  <a:path w="1663" h="649">
                    <a:moveTo>
                      <a:pt x="1663" y="382"/>
                    </a:moveTo>
                    <a:lnTo>
                      <a:pt x="964" y="0"/>
                    </a:lnTo>
                    <a:lnTo>
                      <a:pt x="0" y="257"/>
                    </a:lnTo>
                    <a:lnTo>
                      <a:pt x="694" y="649"/>
                    </a:lnTo>
                    <a:lnTo>
                      <a:pt x="1663" y="38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89600" y="3795840"/>
                <a:ext cx="168480" cy="230400"/>
              </a:xfrm>
              <a:custGeom>
                <a:avLst/>
                <a:gdLst/>
                <a:ahLst/>
                <a:rect l="0" t="0" r="r" b="b"/>
                <a:pathLst>
                  <a:path w="468" h="640">
                    <a:moveTo>
                      <a:pt x="468" y="524"/>
                    </a:moveTo>
                    <a:lnTo>
                      <a:pt x="455" y="507"/>
                    </a:lnTo>
                    <a:lnTo>
                      <a:pt x="410" y="449"/>
                    </a:lnTo>
                    <a:lnTo>
                      <a:pt x="357" y="373"/>
                    </a:lnTo>
                    <a:lnTo>
                      <a:pt x="290" y="279"/>
                    </a:lnTo>
                    <a:lnTo>
                      <a:pt x="227" y="190"/>
                    </a:lnTo>
                    <a:lnTo>
                      <a:pt x="169" y="111"/>
                    </a:lnTo>
                    <a:lnTo>
                      <a:pt x="133" y="53"/>
                    </a:lnTo>
                    <a:lnTo>
                      <a:pt x="111" y="31"/>
                    </a:lnTo>
                    <a:lnTo>
                      <a:pt x="111" y="22"/>
                    </a:lnTo>
                    <a:lnTo>
                      <a:pt x="102" y="17"/>
                    </a:lnTo>
                    <a:lnTo>
                      <a:pt x="89" y="8"/>
                    </a:lnTo>
                    <a:lnTo>
                      <a:pt x="75" y="8"/>
                    </a:lnTo>
                    <a:lnTo>
                      <a:pt x="66" y="0"/>
                    </a:lnTo>
                    <a:lnTo>
                      <a:pt x="53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31" y="8"/>
                    </a:lnTo>
                    <a:lnTo>
                      <a:pt x="22" y="13"/>
                    </a:lnTo>
                    <a:lnTo>
                      <a:pt x="8" y="22"/>
                    </a:lnTo>
                    <a:lnTo>
                      <a:pt x="0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13" y="97"/>
                    </a:lnTo>
                    <a:lnTo>
                      <a:pt x="35" y="128"/>
                    </a:lnTo>
                    <a:lnTo>
                      <a:pt x="75" y="177"/>
                    </a:lnTo>
                    <a:lnTo>
                      <a:pt x="129" y="248"/>
                    </a:lnTo>
                    <a:lnTo>
                      <a:pt x="186" y="334"/>
                    </a:lnTo>
                    <a:lnTo>
                      <a:pt x="245" y="422"/>
                    </a:lnTo>
                    <a:lnTo>
                      <a:pt x="303" y="502"/>
                    </a:lnTo>
                    <a:lnTo>
                      <a:pt x="352" y="573"/>
                    </a:lnTo>
                    <a:lnTo>
                      <a:pt x="383" y="618"/>
                    </a:lnTo>
                    <a:lnTo>
                      <a:pt x="397" y="640"/>
                    </a:lnTo>
                    <a:lnTo>
                      <a:pt x="468" y="52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04000" y="3816360"/>
                <a:ext cx="130680" cy="171720"/>
              </a:xfrm>
              <a:custGeom>
                <a:avLst/>
                <a:gdLst/>
                <a:ahLst/>
                <a:rect l="0" t="0" r="r" b="b"/>
                <a:pathLst>
                  <a:path w="363" h="477">
                    <a:moveTo>
                      <a:pt x="0" y="22"/>
                    </a:moveTo>
                    <a:lnTo>
                      <a:pt x="22" y="0"/>
                    </a:lnTo>
                    <a:lnTo>
                      <a:pt x="363" y="47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59520" y="3968640"/>
                <a:ext cx="159120" cy="214560"/>
              </a:xfrm>
              <a:custGeom>
                <a:avLst/>
                <a:gdLst/>
                <a:ahLst/>
                <a:rect l="0" t="0" r="r" b="b"/>
                <a:pathLst>
                  <a:path w="442" h="596">
                    <a:moveTo>
                      <a:pt x="219" y="551"/>
                    </a:moveTo>
                    <a:lnTo>
                      <a:pt x="263" y="578"/>
                    </a:lnTo>
                    <a:lnTo>
                      <a:pt x="308" y="591"/>
                    </a:lnTo>
                    <a:lnTo>
                      <a:pt x="344" y="596"/>
                    </a:lnTo>
                    <a:lnTo>
                      <a:pt x="376" y="582"/>
                    </a:lnTo>
                    <a:lnTo>
                      <a:pt x="407" y="560"/>
                    </a:lnTo>
                    <a:lnTo>
                      <a:pt x="425" y="534"/>
                    </a:lnTo>
                    <a:lnTo>
                      <a:pt x="438" y="494"/>
                    </a:lnTo>
                    <a:lnTo>
                      <a:pt x="442" y="445"/>
                    </a:lnTo>
                    <a:lnTo>
                      <a:pt x="438" y="387"/>
                    </a:lnTo>
                    <a:lnTo>
                      <a:pt x="425" y="334"/>
                    </a:lnTo>
                    <a:lnTo>
                      <a:pt x="407" y="275"/>
                    </a:lnTo>
                    <a:lnTo>
                      <a:pt x="376" y="217"/>
                    </a:lnTo>
                    <a:lnTo>
                      <a:pt x="344" y="164"/>
                    </a:lnTo>
                    <a:lnTo>
                      <a:pt x="308" y="115"/>
                    </a:lnTo>
                    <a:lnTo>
                      <a:pt x="263" y="75"/>
                    </a:lnTo>
                    <a:lnTo>
                      <a:pt x="219" y="39"/>
                    </a:lnTo>
                    <a:lnTo>
                      <a:pt x="174" y="13"/>
                    </a:lnTo>
                    <a:lnTo>
                      <a:pt x="134" y="0"/>
                    </a:lnTo>
                    <a:lnTo>
                      <a:pt x="97" y="0"/>
                    </a:lnTo>
                    <a:lnTo>
                      <a:pt x="62" y="8"/>
                    </a:lnTo>
                    <a:lnTo>
                      <a:pt x="35" y="31"/>
                    </a:lnTo>
                    <a:lnTo>
                      <a:pt x="17" y="57"/>
                    </a:lnTo>
                    <a:lnTo>
                      <a:pt x="4" y="97"/>
                    </a:lnTo>
                    <a:lnTo>
                      <a:pt x="0" y="146"/>
                    </a:lnTo>
                    <a:lnTo>
                      <a:pt x="4" y="204"/>
                    </a:lnTo>
                    <a:lnTo>
                      <a:pt x="17" y="257"/>
                    </a:lnTo>
                    <a:lnTo>
                      <a:pt x="35" y="316"/>
                    </a:lnTo>
                    <a:lnTo>
                      <a:pt x="62" y="374"/>
                    </a:lnTo>
                    <a:lnTo>
                      <a:pt x="97" y="427"/>
                    </a:lnTo>
                    <a:lnTo>
                      <a:pt x="134" y="476"/>
                    </a:lnTo>
                    <a:lnTo>
                      <a:pt x="174" y="516"/>
                    </a:lnTo>
                    <a:lnTo>
                      <a:pt x="219" y="5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59520" y="3970440"/>
                <a:ext cx="133560" cy="224280"/>
              </a:xfrm>
              <a:custGeom>
                <a:avLst/>
                <a:gdLst/>
                <a:ahLst/>
                <a:rect l="0" t="0" r="r" b="b"/>
                <a:pathLst>
                  <a:path w="371" h="623">
                    <a:moveTo>
                      <a:pt x="371" y="588"/>
                    </a:moveTo>
                    <a:lnTo>
                      <a:pt x="84" y="0"/>
                    </a:lnTo>
                    <a:lnTo>
                      <a:pt x="0" y="35"/>
                    </a:lnTo>
                    <a:lnTo>
                      <a:pt x="282" y="623"/>
                    </a:lnTo>
                    <a:lnTo>
                      <a:pt x="371" y="588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29280" y="3981600"/>
                <a:ext cx="160560" cy="217800"/>
              </a:xfrm>
              <a:custGeom>
                <a:avLst/>
                <a:gdLst/>
                <a:ahLst/>
                <a:rect l="0" t="0" r="r" b="b"/>
                <a:pathLst>
                  <a:path w="446" h="605">
                    <a:moveTo>
                      <a:pt x="222" y="565"/>
                    </a:moveTo>
                    <a:lnTo>
                      <a:pt x="268" y="591"/>
                    </a:lnTo>
                    <a:lnTo>
                      <a:pt x="308" y="605"/>
                    </a:lnTo>
                    <a:lnTo>
                      <a:pt x="343" y="605"/>
                    </a:lnTo>
                    <a:lnTo>
                      <a:pt x="379" y="591"/>
                    </a:lnTo>
                    <a:lnTo>
                      <a:pt x="406" y="574"/>
                    </a:lnTo>
                    <a:lnTo>
                      <a:pt x="428" y="542"/>
                    </a:lnTo>
                    <a:lnTo>
                      <a:pt x="441" y="502"/>
                    </a:lnTo>
                    <a:lnTo>
                      <a:pt x="446" y="454"/>
                    </a:lnTo>
                    <a:lnTo>
                      <a:pt x="441" y="396"/>
                    </a:lnTo>
                    <a:lnTo>
                      <a:pt x="428" y="338"/>
                    </a:lnTo>
                    <a:lnTo>
                      <a:pt x="406" y="279"/>
                    </a:lnTo>
                    <a:lnTo>
                      <a:pt x="379" y="222"/>
                    </a:lnTo>
                    <a:lnTo>
                      <a:pt x="343" y="168"/>
                    </a:lnTo>
                    <a:lnTo>
                      <a:pt x="308" y="115"/>
                    </a:lnTo>
                    <a:lnTo>
                      <a:pt x="268" y="75"/>
                    </a:lnTo>
                    <a:lnTo>
                      <a:pt x="222" y="35"/>
                    </a:lnTo>
                    <a:lnTo>
                      <a:pt x="178" y="13"/>
                    </a:lnTo>
                    <a:lnTo>
                      <a:pt x="133" y="0"/>
                    </a:lnTo>
                    <a:lnTo>
                      <a:pt x="97" y="0"/>
                    </a:lnTo>
                    <a:lnTo>
                      <a:pt x="62" y="8"/>
                    </a:lnTo>
                    <a:lnTo>
                      <a:pt x="35" y="26"/>
                    </a:lnTo>
                    <a:lnTo>
                      <a:pt x="17" y="57"/>
                    </a:lnTo>
                    <a:lnTo>
                      <a:pt x="4" y="97"/>
                    </a:lnTo>
                    <a:lnTo>
                      <a:pt x="0" y="151"/>
                    </a:lnTo>
                    <a:lnTo>
                      <a:pt x="4" y="204"/>
                    </a:lnTo>
                    <a:lnTo>
                      <a:pt x="17" y="262"/>
                    </a:lnTo>
                    <a:lnTo>
                      <a:pt x="35" y="325"/>
                    </a:lnTo>
                    <a:lnTo>
                      <a:pt x="62" y="378"/>
                    </a:lnTo>
                    <a:lnTo>
                      <a:pt x="97" y="431"/>
                    </a:lnTo>
                    <a:lnTo>
                      <a:pt x="133" y="485"/>
                    </a:lnTo>
                    <a:lnTo>
                      <a:pt x="178" y="529"/>
                    </a:lnTo>
                    <a:lnTo>
                      <a:pt x="222" y="5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03960" y="4043520"/>
                <a:ext cx="497160" cy="335160"/>
              </a:xfrm>
              <a:custGeom>
                <a:avLst/>
                <a:gdLst/>
                <a:ahLst/>
                <a:rect l="0" t="0" r="r" b="b"/>
                <a:pathLst>
                  <a:path w="1381" h="931">
                    <a:moveTo>
                      <a:pt x="1381" y="692"/>
                    </a:moveTo>
                    <a:lnTo>
                      <a:pt x="181" y="0"/>
                    </a:lnTo>
                    <a:lnTo>
                      <a:pt x="128" y="8"/>
                    </a:lnTo>
                    <a:lnTo>
                      <a:pt x="0" y="44"/>
                    </a:lnTo>
                    <a:lnTo>
                      <a:pt x="0" y="403"/>
                    </a:lnTo>
                    <a:lnTo>
                      <a:pt x="872" y="931"/>
                    </a:lnTo>
                    <a:lnTo>
                      <a:pt x="1381" y="69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10440" y="4205160"/>
                <a:ext cx="49680" cy="66960"/>
              </a:xfrm>
              <a:custGeom>
                <a:avLst/>
                <a:gdLst/>
                <a:ahLst/>
                <a:rect l="0" t="0" r="r" b="b"/>
                <a:pathLst>
                  <a:path w="138" h="186">
                    <a:moveTo>
                      <a:pt x="64" y="172"/>
                    </a:moveTo>
                    <a:lnTo>
                      <a:pt x="83" y="177"/>
                    </a:lnTo>
                    <a:lnTo>
                      <a:pt x="92" y="186"/>
                    </a:lnTo>
                    <a:lnTo>
                      <a:pt x="106" y="186"/>
                    </a:lnTo>
                    <a:lnTo>
                      <a:pt x="115" y="181"/>
                    </a:lnTo>
                    <a:lnTo>
                      <a:pt x="125" y="172"/>
                    </a:lnTo>
                    <a:lnTo>
                      <a:pt x="129" y="163"/>
                    </a:lnTo>
                    <a:lnTo>
                      <a:pt x="138" y="154"/>
                    </a:lnTo>
                    <a:lnTo>
                      <a:pt x="138" y="136"/>
                    </a:lnTo>
                    <a:lnTo>
                      <a:pt x="138" y="122"/>
                    </a:lnTo>
                    <a:lnTo>
                      <a:pt x="129" y="100"/>
                    </a:lnTo>
                    <a:lnTo>
                      <a:pt x="125" y="81"/>
                    </a:lnTo>
                    <a:lnTo>
                      <a:pt x="115" y="67"/>
                    </a:lnTo>
                    <a:lnTo>
                      <a:pt x="106" y="49"/>
                    </a:lnTo>
                    <a:lnTo>
                      <a:pt x="92" y="36"/>
                    </a:lnTo>
                    <a:lnTo>
                      <a:pt x="83" y="18"/>
                    </a:lnTo>
                    <a:lnTo>
                      <a:pt x="64" y="9"/>
                    </a:lnTo>
                    <a:lnTo>
                      <a:pt x="51" y="0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9"/>
                    </a:lnTo>
                    <a:lnTo>
                      <a:pt x="4" y="18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58"/>
                    </a:lnTo>
                    <a:lnTo>
                      <a:pt x="4" y="81"/>
                    </a:lnTo>
                    <a:lnTo>
                      <a:pt x="9" y="95"/>
                    </a:lnTo>
                    <a:lnTo>
                      <a:pt x="18" y="113"/>
                    </a:lnTo>
                    <a:lnTo>
                      <a:pt x="27" y="132"/>
                    </a:lnTo>
                    <a:lnTo>
                      <a:pt x="42" y="145"/>
                    </a:lnTo>
                    <a:lnTo>
                      <a:pt x="51" y="159"/>
                    </a:lnTo>
                    <a:lnTo>
                      <a:pt x="64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61200" y="4233960"/>
                <a:ext cx="51120" cy="68760"/>
              </a:xfrm>
              <a:custGeom>
                <a:avLst/>
                <a:gdLst/>
                <a:ahLst/>
                <a:rect l="0" t="0" r="r" b="b"/>
                <a:pathLst>
                  <a:path w="142" h="191">
                    <a:moveTo>
                      <a:pt x="68" y="178"/>
                    </a:moveTo>
                    <a:lnTo>
                      <a:pt x="82" y="182"/>
                    </a:lnTo>
                    <a:lnTo>
                      <a:pt x="96" y="187"/>
                    </a:lnTo>
                    <a:lnTo>
                      <a:pt x="105" y="191"/>
                    </a:lnTo>
                    <a:lnTo>
                      <a:pt x="119" y="187"/>
                    </a:lnTo>
                    <a:lnTo>
                      <a:pt x="128" y="178"/>
                    </a:lnTo>
                    <a:lnTo>
                      <a:pt x="133" y="169"/>
                    </a:lnTo>
                    <a:lnTo>
                      <a:pt x="137" y="155"/>
                    </a:lnTo>
                    <a:lnTo>
                      <a:pt x="142" y="140"/>
                    </a:lnTo>
                    <a:lnTo>
                      <a:pt x="137" y="122"/>
                    </a:lnTo>
                    <a:lnTo>
                      <a:pt x="133" y="104"/>
                    </a:lnTo>
                    <a:lnTo>
                      <a:pt x="128" y="86"/>
                    </a:lnTo>
                    <a:lnTo>
                      <a:pt x="119" y="64"/>
                    </a:lnTo>
                    <a:lnTo>
                      <a:pt x="105" y="50"/>
                    </a:lnTo>
                    <a:lnTo>
                      <a:pt x="96" y="31"/>
                    </a:lnTo>
                    <a:lnTo>
                      <a:pt x="82" y="18"/>
                    </a:lnTo>
                    <a:lnTo>
                      <a:pt x="68" y="9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9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64"/>
                    </a:lnTo>
                    <a:lnTo>
                      <a:pt x="0" y="77"/>
                    </a:lnTo>
                    <a:lnTo>
                      <a:pt x="9" y="100"/>
                    </a:lnTo>
                    <a:lnTo>
                      <a:pt x="18" y="118"/>
                    </a:lnTo>
                    <a:lnTo>
                      <a:pt x="27" y="131"/>
                    </a:lnTo>
                    <a:lnTo>
                      <a:pt x="40" y="150"/>
                    </a:lnTo>
                    <a:lnTo>
                      <a:pt x="54" y="164"/>
                    </a:lnTo>
                    <a:lnTo>
                      <a:pt x="68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10520" y="4260960"/>
                <a:ext cx="49680" cy="68760"/>
              </a:xfrm>
              <a:custGeom>
                <a:avLst/>
                <a:gdLst/>
                <a:ahLst/>
                <a:rect l="0" t="0" r="r" b="b"/>
                <a:pathLst>
                  <a:path w="138" h="191">
                    <a:moveTo>
                      <a:pt x="69" y="178"/>
                    </a:moveTo>
                    <a:lnTo>
                      <a:pt x="78" y="187"/>
                    </a:lnTo>
                    <a:lnTo>
                      <a:pt x="92" y="191"/>
                    </a:lnTo>
                    <a:lnTo>
                      <a:pt x="106" y="191"/>
                    </a:lnTo>
                    <a:lnTo>
                      <a:pt x="115" y="187"/>
                    </a:lnTo>
                    <a:lnTo>
                      <a:pt x="125" y="178"/>
                    </a:lnTo>
                    <a:lnTo>
                      <a:pt x="129" y="169"/>
                    </a:lnTo>
                    <a:lnTo>
                      <a:pt x="134" y="155"/>
                    </a:lnTo>
                    <a:lnTo>
                      <a:pt x="138" y="140"/>
                    </a:lnTo>
                    <a:lnTo>
                      <a:pt x="134" y="122"/>
                    </a:lnTo>
                    <a:lnTo>
                      <a:pt x="129" y="104"/>
                    </a:lnTo>
                    <a:lnTo>
                      <a:pt x="125" y="86"/>
                    </a:lnTo>
                    <a:lnTo>
                      <a:pt x="115" y="68"/>
                    </a:lnTo>
                    <a:lnTo>
                      <a:pt x="106" y="55"/>
                    </a:lnTo>
                    <a:lnTo>
                      <a:pt x="92" y="36"/>
                    </a:lnTo>
                    <a:lnTo>
                      <a:pt x="78" y="22"/>
                    </a:lnTo>
                    <a:lnTo>
                      <a:pt x="69" y="9"/>
                    </a:lnTo>
                    <a:lnTo>
                      <a:pt x="55" y="4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9"/>
                    </a:lnTo>
                    <a:lnTo>
                      <a:pt x="4" y="18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4"/>
                    </a:lnTo>
                    <a:lnTo>
                      <a:pt x="4" y="82"/>
                    </a:lnTo>
                    <a:lnTo>
                      <a:pt x="9" y="100"/>
                    </a:lnTo>
                    <a:lnTo>
                      <a:pt x="18" y="118"/>
                    </a:lnTo>
                    <a:lnTo>
                      <a:pt x="27" y="136"/>
                    </a:lnTo>
                    <a:lnTo>
                      <a:pt x="42" y="155"/>
                    </a:lnTo>
                    <a:lnTo>
                      <a:pt x="55" y="169"/>
                    </a:lnTo>
                    <a:lnTo>
                      <a:pt x="69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58040" y="4292640"/>
                <a:ext cx="52920" cy="68760"/>
              </a:xfrm>
              <a:custGeom>
                <a:avLst/>
                <a:gdLst/>
                <a:ahLst/>
                <a:rect l="0" t="0" r="r" b="b"/>
                <a:pathLst>
                  <a:path w="147" h="191">
                    <a:moveTo>
                      <a:pt x="73" y="178"/>
                    </a:moveTo>
                    <a:lnTo>
                      <a:pt x="82" y="187"/>
                    </a:lnTo>
                    <a:lnTo>
                      <a:pt x="96" y="191"/>
                    </a:lnTo>
                    <a:lnTo>
                      <a:pt x="111" y="191"/>
                    </a:lnTo>
                    <a:lnTo>
                      <a:pt x="120" y="187"/>
                    </a:lnTo>
                    <a:lnTo>
                      <a:pt x="133" y="178"/>
                    </a:lnTo>
                    <a:lnTo>
                      <a:pt x="138" y="169"/>
                    </a:lnTo>
                    <a:lnTo>
                      <a:pt x="142" y="160"/>
                    </a:lnTo>
                    <a:lnTo>
                      <a:pt x="147" y="140"/>
                    </a:lnTo>
                    <a:lnTo>
                      <a:pt x="142" y="122"/>
                    </a:lnTo>
                    <a:lnTo>
                      <a:pt x="138" y="104"/>
                    </a:lnTo>
                    <a:lnTo>
                      <a:pt x="133" y="86"/>
                    </a:lnTo>
                    <a:lnTo>
                      <a:pt x="120" y="68"/>
                    </a:lnTo>
                    <a:lnTo>
                      <a:pt x="111" y="50"/>
                    </a:lnTo>
                    <a:lnTo>
                      <a:pt x="96" y="31"/>
                    </a:lnTo>
                    <a:lnTo>
                      <a:pt x="82" y="22"/>
                    </a:lnTo>
                    <a:lnTo>
                      <a:pt x="73" y="9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9" y="4"/>
                    </a:lnTo>
                    <a:lnTo>
                      <a:pt x="4" y="13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4"/>
                    </a:lnTo>
                    <a:lnTo>
                      <a:pt x="4" y="82"/>
                    </a:lnTo>
                    <a:lnTo>
                      <a:pt x="9" y="100"/>
                    </a:lnTo>
                    <a:lnTo>
                      <a:pt x="18" y="118"/>
                    </a:lnTo>
                    <a:lnTo>
                      <a:pt x="31" y="136"/>
                    </a:lnTo>
                    <a:lnTo>
                      <a:pt x="41" y="155"/>
                    </a:lnTo>
                    <a:lnTo>
                      <a:pt x="55" y="164"/>
                    </a:lnTo>
                    <a:lnTo>
                      <a:pt x="73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08800" y="4319640"/>
                <a:ext cx="49680" cy="68760"/>
              </a:xfrm>
              <a:custGeom>
                <a:avLst/>
                <a:gdLst/>
                <a:ahLst/>
                <a:rect l="0" t="0" r="r" b="b"/>
                <a:pathLst>
                  <a:path w="138" h="191">
                    <a:moveTo>
                      <a:pt x="69" y="178"/>
                    </a:moveTo>
                    <a:lnTo>
                      <a:pt x="83" y="187"/>
                    </a:lnTo>
                    <a:lnTo>
                      <a:pt x="92" y="191"/>
                    </a:lnTo>
                    <a:lnTo>
                      <a:pt x="106" y="191"/>
                    </a:lnTo>
                    <a:lnTo>
                      <a:pt x="115" y="187"/>
                    </a:lnTo>
                    <a:lnTo>
                      <a:pt x="125" y="178"/>
                    </a:lnTo>
                    <a:lnTo>
                      <a:pt x="134" y="169"/>
                    </a:lnTo>
                    <a:lnTo>
                      <a:pt x="138" y="155"/>
                    </a:lnTo>
                    <a:lnTo>
                      <a:pt x="138" y="140"/>
                    </a:lnTo>
                    <a:lnTo>
                      <a:pt x="138" y="122"/>
                    </a:lnTo>
                    <a:lnTo>
                      <a:pt x="134" y="104"/>
                    </a:lnTo>
                    <a:lnTo>
                      <a:pt x="125" y="86"/>
                    </a:lnTo>
                    <a:lnTo>
                      <a:pt x="115" y="68"/>
                    </a:lnTo>
                    <a:lnTo>
                      <a:pt x="106" y="55"/>
                    </a:lnTo>
                    <a:lnTo>
                      <a:pt x="92" y="36"/>
                    </a:lnTo>
                    <a:lnTo>
                      <a:pt x="83" y="22"/>
                    </a:lnTo>
                    <a:lnTo>
                      <a:pt x="69" y="9"/>
                    </a:lnTo>
                    <a:lnTo>
                      <a:pt x="51" y="4"/>
                    </a:lnTo>
                    <a:lnTo>
                      <a:pt x="42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9"/>
                    </a:lnTo>
                    <a:lnTo>
                      <a:pt x="4" y="18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4"/>
                    </a:lnTo>
                    <a:lnTo>
                      <a:pt x="4" y="82"/>
                    </a:lnTo>
                    <a:lnTo>
                      <a:pt x="9" y="100"/>
                    </a:lnTo>
                    <a:lnTo>
                      <a:pt x="18" y="118"/>
                    </a:lnTo>
                    <a:lnTo>
                      <a:pt x="27" y="136"/>
                    </a:lnTo>
                    <a:lnTo>
                      <a:pt x="42" y="150"/>
                    </a:lnTo>
                    <a:lnTo>
                      <a:pt x="51" y="169"/>
                    </a:lnTo>
                    <a:lnTo>
                      <a:pt x="69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58120" y="4349880"/>
                <a:ext cx="51120" cy="66960"/>
              </a:xfrm>
              <a:custGeom>
                <a:avLst/>
                <a:gdLst/>
                <a:ahLst/>
                <a:rect l="0" t="0" r="r" b="b"/>
                <a:pathLst>
                  <a:path w="142" h="186">
                    <a:moveTo>
                      <a:pt x="68" y="172"/>
                    </a:moveTo>
                    <a:lnTo>
                      <a:pt x="82" y="177"/>
                    </a:lnTo>
                    <a:lnTo>
                      <a:pt x="96" y="186"/>
                    </a:lnTo>
                    <a:lnTo>
                      <a:pt x="110" y="186"/>
                    </a:lnTo>
                    <a:lnTo>
                      <a:pt x="119" y="181"/>
                    </a:lnTo>
                    <a:lnTo>
                      <a:pt x="128" y="172"/>
                    </a:lnTo>
                    <a:lnTo>
                      <a:pt x="133" y="163"/>
                    </a:lnTo>
                    <a:lnTo>
                      <a:pt x="142" y="154"/>
                    </a:lnTo>
                    <a:lnTo>
                      <a:pt x="142" y="136"/>
                    </a:lnTo>
                    <a:lnTo>
                      <a:pt x="142" y="122"/>
                    </a:lnTo>
                    <a:lnTo>
                      <a:pt x="133" y="100"/>
                    </a:lnTo>
                    <a:lnTo>
                      <a:pt x="128" y="81"/>
                    </a:lnTo>
                    <a:lnTo>
                      <a:pt x="119" y="67"/>
                    </a:lnTo>
                    <a:lnTo>
                      <a:pt x="110" y="49"/>
                    </a:lnTo>
                    <a:lnTo>
                      <a:pt x="96" y="36"/>
                    </a:lnTo>
                    <a:lnTo>
                      <a:pt x="82" y="18"/>
                    </a:lnTo>
                    <a:lnTo>
                      <a:pt x="68" y="9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9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58"/>
                    </a:lnTo>
                    <a:lnTo>
                      <a:pt x="0" y="81"/>
                    </a:lnTo>
                    <a:lnTo>
                      <a:pt x="9" y="95"/>
                    </a:lnTo>
                    <a:lnTo>
                      <a:pt x="18" y="113"/>
                    </a:lnTo>
                    <a:lnTo>
                      <a:pt x="27" y="132"/>
                    </a:lnTo>
                    <a:lnTo>
                      <a:pt x="40" y="145"/>
                    </a:lnTo>
                    <a:lnTo>
                      <a:pt x="54" y="159"/>
                    </a:lnTo>
                    <a:lnTo>
                      <a:pt x="68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6040" y="4290840"/>
                <a:ext cx="267120" cy="125640"/>
              </a:xfrm>
              <a:custGeom>
                <a:avLst/>
                <a:gdLst/>
                <a:ahLst/>
                <a:rect l="0" t="0" r="r" b="b"/>
                <a:pathLst>
                  <a:path w="742" h="349">
                    <a:moveTo>
                      <a:pt x="716" y="179"/>
                    </a:moveTo>
                    <a:lnTo>
                      <a:pt x="720" y="179"/>
                    </a:lnTo>
                    <a:lnTo>
                      <a:pt x="725" y="179"/>
                    </a:lnTo>
                    <a:lnTo>
                      <a:pt x="729" y="169"/>
                    </a:lnTo>
                    <a:lnTo>
                      <a:pt x="733" y="165"/>
                    </a:lnTo>
                    <a:lnTo>
                      <a:pt x="733" y="160"/>
                    </a:lnTo>
                    <a:lnTo>
                      <a:pt x="738" y="151"/>
                    </a:lnTo>
                    <a:lnTo>
                      <a:pt x="738" y="147"/>
                    </a:lnTo>
                    <a:lnTo>
                      <a:pt x="742" y="133"/>
                    </a:lnTo>
                    <a:lnTo>
                      <a:pt x="738" y="120"/>
                    </a:lnTo>
                    <a:lnTo>
                      <a:pt x="733" y="102"/>
                    </a:lnTo>
                    <a:lnTo>
                      <a:pt x="729" y="80"/>
                    </a:lnTo>
                    <a:lnTo>
                      <a:pt x="720" y="66"/>
                    </a:lnTo>
                    <a:lnTo>
                      <a:pt x="707" y="49"/>
                    </a:lnTo>
                    <a:lnTo>
                      <a:pt x="698" y="35"/>
                    </a:lnTo>
                    <a:lnTo>
                      <a:pt x="685" y="17"/>
                    </a:lnTo>
                    <a:lnTo>
                      <a:pt x="671" y="8"/>
                    </a:lnTo>
                    <a:lnTo>
                      <a:pt x="662" y="8"/>
                    </a:lnTo>
                    <a:lnTo>
                      <a:pt x="654" y="0"/>
                    </a:lnTo>
                    <a:lnTo>
                      <a:pt x="649" y="0"/>
                    </a:lnTo>
                    <a:lnTo>
                      <a:pt x="640" y="0"/>
                    </a:lnTo>
                    <a:lnTo>
                      <a:pt x="636" y="0"/>
                    </a:lnTo>
                    <a:lnTo>
                      <a:pt x="631" y="0"/>
                    </a:lnTo>
                    <a:lnTo>
                      <a:pt x="627" y="0"/>
                    </a:lnTo>
                    <a:lnTo>
                      <a:pt x="618" y="0"/>
                    </a:lnTo>
                    <a:lnTo>
                      <a:pt x="0" y="165"/>
                    </a:lnTo>
                    <a:lnTo>
                      <a:pt x="4" y="165"/>
                    </a:lnTo>
                    <a:lnTo>
                      <a:pt x="8" y="160"/>
                    </a:lnTo>
                    <a:lnTo>
                      <a:pt x="13" y="160"/>
                    </a:lnTo>
                    <a:lnTo>
                      <a:pt x="17" y="165"/>
                    </a:lnTo>
                    <a:lnTo>
                      <a:pt x="26" y="165"/>
                    </a:lnTo>
                    <a:lnTo>
                      <a:pt x="31" y="165"/>
                    </a:lnTo>
                    <a:lnTo>
                      <a:pt x="39" y="169"/>
                    </a:lnTo>
                    <a:lnTo>
                      <a:pt x="44" y="174"/>
                    </a:lnTo>
                    <a:lnTo>
                      <a:pt x="62" y="188"/>
                    </a:lnTo>
                    <a:lnTo>
                      <a:pt x="75" y="197"/>
                    </a:lnTo>
                    <a:lnTo>
                      <a:pt x="84" y="215"/>
                    </a:lnTo>
                    <a:lnTo>
                      <a:pt x="97" y="233"/>
                    </a:lnTo>
                    <a:lnTo>
                      <a:pt x="102" y="251"/>
                    </a:lnTo>
                    <a:lnTo>
                      <a:pt x="106" y="264"/>
                    </a:lnTo>
                    <a:lnTo>
                      <a:pt x="115" y="282"/>
                    </a:lnTo>
                    <a:lnTo>
                      <a:pt x="115" y="304"/>
                    </a:lnTo>
                    <a:lnTo>
                      <a:pt x="115" y="309"/>
                    </a:lnTo>
                    <a:lnTo>
                      <a:pt x="115" y="318"/>
                    </a:lnTo>
                    <a:lnTo>
                      <a:pt x="110" y="327"/>
                    </a:lnTo>
                    <a:lnTo>
                      <a:pt x="106" y="331"/>
                    </a:lnTo>
                    <a:lnTo>
                      <a:pt x="106" y="335"/>
                    </a:lnTo>
                    <a:lnTo>
                      <a:pt x="102" y="340"/>
                    </a:lnTo>
                    <a:lnTo>
                      <a:pt x="97" y="344"/>
                    </a:lnTo>
                    <a:lnTo>
                      <a:pt x="93" y="349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5640" y="4308480"/>
                <a:ext cx="197280" cy="63720"/>
              </a:xfrm>
              <a:custGeom>
                <a:avLst/>
                <a:gdLst/>
                <a:ahLst/>
                <a:rect l="0" t="0" r="r" b="b"/>
                <a:pathLst>
                  <a:path w="548" h="177">
                    <a:moveTo>
                      <a:pt x="548" y="18"/>
                    </a:moveTo>
                    <a:lnTo>
                      <a:pt x="544" y="0"/>
                    </a:lnTo>
                    <a:lnTo>
                      <a:pt x="0" y="154"/>
                    </a:lnTo>
                    <a:lnTo>
                      <a:pt x="0" y="177"/>
                    </a:lnTo>
                    <a:lnTo>
                      <a:pt x="548" y="18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16800" y="4324320"/>
                <a:ext cx="197280" cy="62280"/>
              </a:xfrm>
              <a:custGeom>
                <a:avLst/>
                <a:gdLst/>
                <a:ahLst/>
                <a:rect l="0" t="0" r="r" b="b"/>
                <a:pathLst>
                  <a:path w="548" h="173">
                    <a:moveTo>
                      <a:pt x="548" y="18"/>
                    </a:moveTo>
                    <a:lnTo>
                      <a:pt x="548" y="0"/>
                    </a:lnTo>
                    <a:lnTo>
                      <a:pt x="0" y="151"/>
                    </a:lnTo>
                    <a:lnTo>
                      <a:pt x="0" y="173"/>
                    </a:lnTo>
                    <a:lnTo>
                      <a:pt x="548" y="18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7388280" y="4078440"/>
                <a:ext cx="241560" cy="246240"/>
                <a:chOff x="7388280" y="4078440"/>
                <a:chExt cx="241560" cy="246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488360" y="4130640"/>
                  <a:ext cx="141480" cy="194040"/>
                </a:xfrm>
                <a:custGeom>
                  <a:avLst/>
                  <a:gdLst/>
                  <a:ahLst/>
                  <a:rect l="0" t="0" r="r" b="b"/>
                  <a:pathLst>
                    <a:path w="393" h="539">
                      <a:moveTo>
                        <a:pt x="393" y="433"/>
                      </a:moveTo>
                      <a:lnTo>
                        <a:pt x="393" y="0"/>
                      </a:lnTo>
                      <a:lnTo>
                        <a:pt x="0" y="102"/>
                      </a:lnTo>
                      <a:lnTo>
                        <a:pt x="0" y="539"/>
                      </a:lnTo>
                      <a:lnTo>
                        <a:pt x="393" y="433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389720" y="4111560"/>
                  <a:ext cx="100440" cy="213120"/>
                </a:xfrm>
                <a:custGeom>
                  <a:avLst/>
                  <a:gdLst/>
                  <a:ahLst/>
                  <a:rect l="0" t="0" r="r" b="b"/>
                  <a:pathLst>
                    <a:path w="279" h="592">
                      <a:moveTo>
                        <a:pt x="0" y="436"/>
                      </a:moveTo>
                      <a:lnTo>
                        <a:pt x="0" y="0"/>
                      </a:lnTo>
                      <a:lnTo>
                        <a:pt x="279" y="152"/>
                      </a:lnTo>
                      <a:lnTo>
                        <a:pt x="279" y="592"/>
                      </a:lnTo>
                      <a:lnTo>
                        <a:pt x="0" y="43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388280" y="4078440"/>
                  <a:ext cx="240120" cy="100440"/>
                </a:xfrm>
                <a:custGeom>
                  <a:avLst/>
                  <a:gdLst/>
                  <a:ahLst/>
                  <a:rect l="0" t="0" r="r" b="b"/>
                  <a:pathLst>
                    <a:path w="667" h="279">
                      <a:moveTo>
                        <a:pt x="667" y="153"/>
                      </a:moveTo>
                      <a:lnTo>
                        <a:pt x="387" y="0"/>
                      </a:lnTo>
                      <a:lnTo>
                        <a:pt x="0" y="104"/>
                      </a:lnTo>
                      <a:lnTo>
                        <a:pt x="280" y="279"/>
                      </a:lnTo>
                      <a:lnTo>
                        <a:pt x="667" y="153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6778800" y="4324320"/>
              <a:ext cx="757440" cy="831960"/>
              <a:chOff x="6778800" y="4324320"/>
              <a:chExt cx="757440" cy="831960"/>
            </a:xfrm>
          </p:grpSpPr>
          <p:sp>
            <p:nvSpPr>
              <p:cNvPr id="266" name=""/>
              <p:cNvSpPr/>
              <p:nvPr/>
            </p:nvSpPr>
            <p:spPr>
              <a:xfrm>
                <a:off x="6789600" y="4732200"/>
                <a:ext cx="609840" cy="338400"/>
              </a:xfrm>
              <a:custGeom>
                <a:avLst/>
                <a:gdLst/>
                <a:ahLst/>
                <a:rect l="0" t="0" r="r" b="b"/>
                <a:pathLst>
                  <a:path w="1694" h="940">
                    <a:moveTo>
                      <a:pt x="548" y="940"/>
                    </a:moveTo>
                    <a:lnTo>
                      <a:pt x="1694" y="616"/>
                    </a:lnTo>
                    <a:lnTo>
                      <a:pt x="1694" y="465"/>
                    </a:lnTo>
                    <a:lnTo>
                      <a:pt x="907" y="0"/>
                    </a:lnTo>
                    <a:lnTo>
                      <a:pt x="0" y="550"/>
                    </a:lnTo>
                    <a:lnTo>
                      <a:pt x="0" y="621"/>
                    </a:lnTo>
                    <a:lnTo>
                      <a:pt x="548" y="94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8800" y="4673520"/>
                <a:ext cx="625680" cy="359280"/>
              </a:xfrm>
              <a:custGeom>
                <a:avLst/>
                <a:gdLst/>
                <a:ahLst/>
                <a:rect l="0" t="0" r="r" b="b"/>
                <a:pathLst>
                  <a:path w="1738" h="998">
                    <a:moveTo>
                      <a:pt x="565" y="998"/>
                    </a:moveTo>
                    <a:lnTo>
                      <a:pt x="1738" y="674"/>
                    </a:lnTo>
                    <a:lnTo>
                      <a:pt x="1738" y="280"/>
                    </a:lnTo>
                    <a:lnTo>
                      <a:pt x="1238" y="0"/>
                    </a:lnTo>
                    <a:lnTo>
                      <a:pt x="0" y="328"/>
                    </a:lnTo>
                    <a:lnTo>
                      <a:pt x="0" y="669"/>
                    </a:lnTo>
                    <a:lnTo>
                      <a:pt x="565" y="9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6720" y="4805280"/>
                <a:ext cx="200520" cy="217800"/>
              </a:xfrm>
              <a:custGeom>
                <a:avLst/>
                <a:gdLst/>
                <a:ahLst/>
                <a:rect l="0" t="0" r="r" b="b"/>
                <a:pathLst>
                  <a:path w="557" h="605">
                    <a:moveTo>
                      <a:pt x="0" y="293"/>
                    </a:moveTo>
                    <a:lnTo>
                      <a:pt x="0" y="0"/>
                    </a:lnTo>
                    <a:lnTo>
                      <a:pt x="539" y="266"/>
                    </a:lnTo>
                    <a:lnTo>
                      <a:pt x="557" y="605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04160" y="4952880"/>
                <a:ext cx="528840" cy="203400"/>
              </a:xfrm>
              <a:custGeom>
                <a:avLst/>
                <a:gdLst/>
                <a:ahLst/>
                <a:rect l="0" t="0" r="r" b="b"/>
                <a:pathLst>
                  <a:path w="1469" h="565">
                    <a:moveTo>
                      <a:pt x="260" y="565"/>
                    </a:moveTo>
                    <a:lnTo>
                      <a:pt x="1469" y="235"/>
                    </a:lnTo>
                    <a:lnTo>
                      <a:pt x="1053" y="0"/>
                    </a:lnTo>
                    <a:lnTo>
                      <a:pt x="0" y="262"/>
                    </a:lnTo>
                    <a:lnTo>
                      <a:pt x="260" y="565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07400" y="4941720"/>
                <a:ext cx="528840" cy="205200"/>
              </a:xfrm>
              <a:custGeom>
                <a:avLst/>
                <a:gdLst/>
                <a:ahLst/>
                <a:rect l="0" t="0" r="r" b="b"/>
                <a:pathLst>
                  <a:path w="1469" h="570">
                    <a:moveTo>
                      <a:pt x="260" y="570"/>
                    </a:moveTo>
                    <a:lnTo>
                      <a:pt x="1469" y="236"/>
                    </a:lnTo>
                    <a:lnTo>
                      <a:pt x="1049" y="0"/>
                    </a:lnTo>
                    <a:lnTo>
                      <a:pt x="0" y="276"/>
                    </a:lnTo>
                    <a:lnTo>
                      <a:pt x="260" y="57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020000" y="4816440"/>
                <a:ext cx="338040" cy="9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21440" y="4818240"/>
                <a:ext cx="340200" cy="92520"/>
              </a:xfrm>
              <a:custGeom>
                <a:avLst/>
                <a:gdLst/>
                <a:ahLst/>
                <a:rect l="0" t="0" r="r" b="b"/>
                <a:pathLst>
                  <a:path fill="none" w="945" h="257">
                    <a:moveTo>
                      <a:pt x="0" y="257"/>
                    </a:moveTo>
                    <a:lnTo>
                      <a:pt x="945" y="0"/>
                    </a:lnTo>
                    <a:lnTo>
                      <a:pt x="0" y="257"/>
                    </a:lnTo>
                  </a:path>
                </a:pathLst>
              </a:custGeom>
              <a:ln w="12600">
                <a:solidFill>
                  <a:srgbClr val="b2b2b2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40520" y="4888080"/>
                <a:ext cx="73440" cy="32040"/>
              </a:xfrm>
              <a:custGeom>
                <a:avLst/>
                <a:gdLst/>
                <a:ahLst/>
                <a:rect l="0" t="0" r="r" b="b"/>
                <a:pathLst>
                  <a:path w="204" h="89">
                    <a:moveTo>
                      <a:pt x="0" y="56"/>
                    </a:moveTo>
                    <a:lnTo>
                      <a:pt x="200" y="0"/>
                    </a:lnTo>
                    <a:lnTo>
                      <a:pt x="204" y="27"/>
                    </a:lnTo>
                    <a:lnTo>
                      <a:pt x="0" y="8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40520" y="4888080"/>
                <a:ext cx="73440" cy="32040"/>
              </a:xfrm>
              <a:custGeom>
                <a:avLst/>
                <a:gdLst/>
                <a:ahLst/>
                <a:rect l="0" t="0" r="r" b="b"/>
                <a:pathLst>
                  <a:path w="204" h="89">
                    <a:moveTo>
                      <a:pt x="0" y="56"/>
                    </a:moveTo>
                    <a:lnTo>
                      <a:pt x="200" y="0"/>
                    </a:lnTo>
                    <a:lnTo>
                      <a:pt x="204" y="27"/>
                    </a:lnTo>
                    <a:lnTo>
                      <a:pt x="0" y="8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35920" y="4863960"/>
                <a:ext cx="74880" cy="28800"/>
              </a:xfrm>
              <a:custGeom>
                <a:avLst/>
                <a:gdLst/>
                <a:ahLst/>
                <a:rect l="0" t="0" r="r" b="b"/>
                <a:pathLst>
                  <a:path w="208" h="80">
                    <a:moveTo>
                      <a:pt x="0" y="52"/>
                    </a:moveTo>
                    <a:lnTo>
                      <a:pt x="203" y="0"/>
                    </a:lnTo>
                    <a:lnTo>
                      <a:pt x="208" y="23"/>
                    </a:lnTo>
                    <a:lnTo>
                      <a:pt x="4" y="8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35920" y="4863960"/>
                <a:ext cx="74880" cy="28800"/>
              </a:xfrm>
              <a:custGeom>
                <a:avLst/>
                <a:gdLst/>
                <a:ahLst/>
                <a:rect l="0" t="0" r="r" b="b"/>
                <a:pathLst>
                  <a:path w="208" h="80">
                    <a:moveTo>
                      <a:pt x="0" y="52"/>
                    </a:moveTo>
                    <a:lnTo>
                      <a:pt x="203" y="0"/>
                    </a:lnTo>
                    <a:lnTo>
                      <a:pt x="208" y="23"/>
                    </a:lnTo>
                    <a:lnTo>
                      <a:pt x="4" y="8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8680" y="4387680"/>
                <a:ext cx="578160" cy="495720"/>
              </a:xfrm>
              <a:custGeom>
                <a:avLst/>
                <a:gdLst/>
                <a:ahLst/>
                <a:rect l="0" t="0" r="r" b="b"/>
                <a:pathLst>
                  <a:path w="1606" h="1377">
                    <a:moveTo>
                      <a:pt x="459" y="1377"/>
                    </a:moveTo>
                    <a:lnTo>
                      <a:pt x="1606" y="1072"/>
                    </a:lnTo>
                    <a:lnTo>
                      <a:pt x="1566" y="57"/>
                    </a:lnTo>
                    <a:lnTo>
                      <a:pt x="1500" y="0"/>
                    </a:lnTo>
                    <a:lnTo>
                      <a:pt x="464" y="274"/>
                    </a:lnTo>
                    <a:lnTo>
                      <a:pt x="221" y="145"/>
                    </a:lnTo>
                    <a:lnTo>
                      <a:pt x="0" y="283"/>
                    </a:lnTo>
                    <a:lnTo>
                      <a:pt x="97" y="1094"/>
                    </a:lnTo>
                    <a:lnTo>
                      <a:pt x="459" y="137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97520" y="4368960"/>
                <a:ext cx="595800" cy="500400"/>
              </a:xfrm>
              <a:custGeom>
                <a:avLst/>
                <a:gdLst/>
                <a:ahLst/>
                <a:rect l="0" t="0" r="r" b="b"/>
                <a:pathLst>
                  <a:path w="1655" h="1390">
                    <a:moveTo>
                      <a:pt x="282" y="1239"/>
                    </a:moveTo>
                    <a:lnTo>
                      <a:pt x="513" y="1390"/>
                    </a:lnTo>
                    <a:lnTo>
                      <a:pt x="1655" y="1067"/>
                    </a:lnTo>
                    <a:lnTo>
                      <a:pt x="1615" y="57"/>
                    </a:lnTo>
                    <a:lnTo>
                      <a:pt x="1549" y="0"/>
                    </a:lnTo>
                    <a:lnTo>
                      <a:pt x="509" y="274"/>
                    </a:lnTo>
                    <a:lnTo>
                      <a:pt x="265" y="145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0" y="965"/>
                    </a:lnTo>
                    <a:lnTo>
                      <a:pt x="282" y="12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08680" y="4440240"/>
                <a:ext cx="79560" cy="341640"/>
              </a:xfrm>
              <a:custGeom>
                <a:avLst/>
                <a:gdLst/>
                <a:ahLst/>
                <a:rect l="0" t="0" r="r" b="b"/>
                <a:pathLst>
                  <a:path w="221" h="949">
                    <a:moveTo>
                      <a:pt x="0" y="736"/>
                    </a:moveTo>
                    <a:lnTo>
                      <a:pt x="9" y="93"/>
                    </a:lnTo>
                    <a:lnTo>
                      <a:pt x="221" y="0"/>
                    </a:lnTo>
                    <a:lnTo>
                      <a:pt x="216" y="949"/>
                    </a:lnTo>
                    <a:lnTo>
                      <a:pt x="0" y="73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07320" y="4448160"/>
                <a:ext cx="70200" cy="395640"/>
              </a:xfrm>
              <a:custGeom>
                <a:avLst/>
                <a:gdLst/>
                <a:ahLst/>
                <a:rect l="0" t="0" r="r" b="b"/>
                <a:pathLst>
                  <a:path w="195" h="1099">
                    <a:moveTo>
                      <a:pt x="0" y="983"/>
                    </a:moveTo>
                    <a:lnTo>
                      <a:pt x="195" y="1099"/>
                    </a:lnTo>
                    <a:lnTo>
                      <a:pt x="195" y="97"/>
                    </a:lnTo>
                    <a:lnTo>
                      <a:pt x="9" y="0"/>
                    </a:lnTo>
                    <a:lnTo>
                      <a:pt x="0" y="98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43760" y="4430880"/>
                <a:ext cx="295560" cy="373320"/>
              </a:xfrm>
              <a:custGeom>
                <a:avLst/>
                <a:gdLst/>
                <a:ahLst/>
                <a:rect l="0" t="0" r="r" b="b"/>
                <a:pathLst>
                  <a:path w="821" h="1037">
                    <a:moveTo>
                      <a:pt x="821" y="815"/>
                    </a:moveTo>
                    <a:lnTo>
                      <a:pt x="0" y="1037"/>
                    </a:lnTo>
                    <a:lnTo>
                      <a:pt x="0" y="221"/>
                    </a:lnTo>
                    <a:lnTo>
                      <a:pt x="794" y="0"/>
                    </a:lnTo>
                    <a:lnTo>
                      <a:pt x="821" y="815"/>
                    </a:lnTo>
                    <a:close/>
                  </a:path>
                </a:pathLst>
              </a:custGeom>
              <a:solidFill>
                <a:srgbClr val="03289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94360" y="4324320"/>
                <a:ext cx="460800" cy="146520"/>
              </a:xfrm>
              <a:custGeom>
                <a:avLst/>
                <a:gdLst/>
                <a:ahLst/>
                <a:rect l="0" t="0" r="r" b="b"/>
                <a:pathLst>
                  <a:path w="1280" h="407">
                    <a:moveTo>
                      <a:pt x="1037" y="0"/>
                    </a:moveTo>
                    <a:lnTo>
                      <a:pt x="1280" y="125"/>
                    </a:lnTo>
                    <a:lnTo>
                      <a:pt x="243" y="407"/>
                    </a:lnTo>
                    <a:lnTo>
                      <a:pt x="0" y="281"/>
                    </a:lnTo>
                    <a:lnTo>
                      <a:pt x="1037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255160" y="4228920"/>
              <a:ext cx="552600" cy="55260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8369280" y="4305240"/>
              <a:ext cx="324360" cy="392400"/>
              <a:chOff x="8369280" y="4305240"/>
              <a:chExt cx="324360" cy="392400"/>
            </a:xfrm>
          </p:grpSpPr>
          <p:sp>
            <p:nvSpPr>
              <p:cNvPr id="285" name=""/>
              <p:cNvSpPr/>
              <p:nvPr/>
            </p:nvSpPr>
            <p:spPr>
              <a:xfrm>
                <a:off x="8396280" y="4351320"/>
                <a:ext cx="297360" cy="346320"/>
              </a:xfrm>
              <a:custGeom>
                <a:avLst/>
                <a:gdLst/>
                <a:ahLst/>
                <a:rect l="0" t="0" r="r" b="b"/>
                <a:pathLst>
                  <a:path w="826" h="962">
                    <a:moveTo>
                      <a:pt x="826" y="762"/>
                    </a:moveTo>
                    <a:lnTo>
                      <a:pt x="826" y="0"/>
                    </a:lnTo>
                    <a:lnTo>
                      <a:pt x="400" y="31"/>
                    </a:lnTo>
                    <a:lnTo>
                      <a:pt x="66" y="194"/>
                    </a:lnTo>
                    <a:lnTo>
                      <a:pt x="0" y="519"/>
                    </a:lnTo>
                    <a:lnTo>
                      <a:pt x="66" y="962"/>
                    </a:lnTo>
                    <a:lnTo>
                      <a:pt x="826" y="762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67560" y="4424400"/>
                <a:ext cx="178200" cy="201960"/>
              </a:xfrm>
              <a:custGeom>
                <a:avLst/>
                <a:gdLst/>
                <a:ahLst/>
                <a:rect l="0" t="0" r="r" b="b"/>
                <a:pathLst>
                  <a:path w="495" h="561">
                    <a:moveTo>
                      <a:pt x="398" y="0"/>
                    </a:moveTo>
                    <a:lnTo>
                      <a:pt x="245" y="186"/>
                    </a:lnTo>
                    <a:lnTo>
                      <a:pt x="93" y="75"/>
                    </a:lnTo>
                    <a:lnTo>
                      <a:pt x="0" y="191"/>
                    </a:lnTo>
                    <a:lnTo>
                      <a:pt x="152" y="303"/>
                    </a:lnTo>
                    <a:lnTo>
                      <a:pt x="0" y="489"/>
                    </a:lnTo>
                    <a:lnTo>
                      <a:pt x="93" y="561"/>
                    </a:lnTo>
                    <a:lnTo>
                      <a:pt x="245" y="374"/>
                    </a:lnTo>
                    <a:lnTo>
                      <a:pt x="398" y="481"/>
                    </a:lnTo>
                    <a:lnTo>
                      <a:pt x="495" y="365"/>
                    </a:lnTo>
                    <a:lnTo>
                      <a:pt x="339" y="253"/>
                    </a:lnTo>
                    <a:lnTo>
                      <a:pt x="495" y="66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62960" y="4425840"/>
                <a:ext cx="82800" cy="90720"/>
              </a:xfrm>
              <a:custGeom>
                <a:avLst/>
                <a:gdLst/>
                <a:ahLst/>
                <a:rect l="0" t="0" r="r" b="b"/>
                <a:pathLst>
                  <a:path w="230" h="252">
                    <a:moveTo>
                      <a:pt x="144" y="0"/>
                    </a:moveTo>
                    <a:lnTo>
                      <a:pt x="0" y="176"/>
                    </a:lnTo>
                    <a:lnTo>
                      <a:pt x="76" y="252"/>
                    </a:lnTo>
                    <a:lnTo>
                      <a:pt x="230" y="5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467560" y="4487760"/>
                <a:ext cx="54360" cy="47880"/>
              </a:xfrm>
              <a:custGeom>
                <a:avLst/>
                <a:gdLst/>
                <a:ahLst/>
                <a:rect l="0" t="0" r="r" b="b"/>
                <a:pathLst>
                  <a:path w="151" h="133">
                    <a:moveTo>
                      <a:pt x="4" y="0"/>
                    </a:moveTo>
                    <a:lnTo>
                      <a:pt x="0" y="9"/>
                    </a:lnTo>
                    <a:lnTo>
                      <a:pt x="151" y="133"/>
                    </a:lnTo>
                    <a:lnTo>
                      <a:pt x="78" y="5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67560" y="4533840"/>
                <a:ext cx="178200" cy="92520"/>
              </a:xfrm>
              <a:custGeom>
                <a:avLst/>
                <a:gdLst/>
                <a:ahLst/>
                <a:rect l="0" t="0" r="r" b="b"/>
                <a:pathLst>
                  <a:path w="495" h="257">
                    <a:moveTo>
                      <a:pt x="321" y="108"/>
                    </a:moveTo>
                    <a:lnTo>
                      <a:pt x="170" y="0"/>
                    </a:lnTo>
                    <a:lnTo>
                      <a:pt x="17" y="184"/>
                    </a:lnTo>
                    <a:lnTo>
                      <a:pt x="4" y="175"/>
                    </a:lnTo>
                    <a:lnTo>
                      <a:pt x="0" y="184"/>
                    </a:lnTo>
                    <a:lnTo>
                      <a:pt x="93" y="257"/>
                    </a:lnTo>
                    <a:lnTo>
                      <a:pt x="245" y="68"/>
                    </a:lnTo>
                    <a:lnTo>
                      <a:pt x="398" y="175"/>
                    </a:lnTo>
                    <a:lnTo>
                      <a:pt x="495" y="58"/>
                    </a:lnTo>
                    <a:lnTo>
                      <a:pt x="411" y="0"/>
                    </a:lnTo>
                    <a:lnTo>
                      <a:pt x="32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69280" y="4305240"/>
                <a:ext cx="324360" cy="120960"/>
              </a:xfrm>
              <a:custGeom>
                <a:avLst/>
                <a:gdLst/>
                <a:ahLst/>
                <a:rect l="0" t="0" r="r" b="b"/>
                <a:pathLst>
                  <a:path w="901" h="336">
                    <a:moveTo>
                      <a:pt x="901" y="134"/>
                    </a:moveTo>
                    <a:lnTo>
                      <a:pt x="759" y="0"/>
                    </a:lnTo>
                    <a:lnTo>
                      <a:pt x="0" y="202"/>
                    </a:lnTo>
                    <a:lnTo>
                      <a:pt x="137" y="336"/>
                    </a:lnTo>
                    <a:lnTo>
                      <a:pt x="901" y="13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69280" y="4373640"/>
                <a:ext cx="54360" cy="321120"/>
              </a:xfrm>
              <a:custGeom>
                <a:avLst/>
                <a:gdLst/>
                <a:ahLst/>
                <a:rect l="0" t="0" r="r" b="b"/>
                <a:pathLst>
                  <a:path w="151" h="892">
                    <a:moveTo>
                      <a:pt x="147" y="892"/>
                    </a:moveTo>
                    <a:lnTo>
                      <a:pt x="0" y="759"/>
                    </a:lnTo>
                    <a:lnTo>
                      <a:pt x="0" y="0"/>
                    </a:lnTo>
                    <a:lnTo>
                      <a:pt x="151" y="128"/>
                    </a:lnTo>
                    <a:lnTo>
                      <a:pt x="147" y="892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28040" y="4533840"/>
                <a:ext cx="81360" cy="63720"/>
              </a:xfrm>
              <a:custGeom>
                <a:avLst/>
                <a:gdLst/>
                <a:ahLst/>
                <a:rect l="0" t="0" r="r" b="b"/>
                <a:pathLst>
                  <a:path w="226" h="177">
                    <a:moveTo>
                      <a:pt x="149" y="109"/>
                    </a:moveTo>
                    <a:lnTo>
                      <a:pt x="226" y="177"/>
                    </a:lnTo>
                    <a:lnTo>
                      <a:pt x="72" y="67"/>
                    </a:lnTo>
                    <a:lnTo>
                      <a:pt x="0" y="0"/>
                    </a:lnTo>
                    <a:lnTo>
                      <a:pt x="149" y="109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67560" y="45957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w="107" h="94">
                    <a:moveTo>
                      <a:pt x="107" y="94"/>
                    </a:moveTo>
                    <a:lnTo>
                      <a:pt x="0" y="9"/>
                    </a:lnTo>
                    <a:lnTo>
                      <a:pt x="4" y="0"/>
                    </a:lnTo>
                    <a:lnTo>
                      <a:pt x="23" y="9"/>
                    </a:lnTo>
                    <a:lnTo>
                      <a:pt x="107" y="9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265960" y="4005360"/>
              <a:ext cx="259200" cy="287640"/>
            </a:xfrm>
            <a:custGeom>
              <a:avLst/>
              <a:gdLst/>
              <a:ahLst/>
              <a:rect l="0" t="0" r="r" b="b"/>
              <a:pathLst>
                <a:path w="720" h="799">
                  <a:moveTo>
                    <a:pt x="609" y="604"/>
                  </a:moveTo>
                  <a:lnTo>
                    <a:pt x="533" y="439"/>
                  </a:lnTo>
                  <a:lnTo>
                    <a:pt x="449" y="305"/>
                  </a:lnTo>
                  <a:lnTo>
                    <a:pt x="369" y="195"/>
                  </a:lnTo>
                  <a:lnTo>
                    <a:pt x="284" y="106"/>
                  </a:lnTo>
                  <a:lnTo>
                    <a:pt x="218" y="44"/>
                  </a:lnTo>
                  <a:lnTo>
                    <a:pt x="164" y="8"/>
                  </a:lnTo>
                  <a:lnTo>
                    <a:pt x="141" y="0"/>
                  </a:lnTo>
                  <a:lnTo>
                    <a:pt x="150" y="8"/>
                  </a:lnTo>
                  <a:lnTo>
                    <a:pt x="0" y="88"/>
                  </a:lnTo>
                  <a:lnTo>
                    <a:pt x="44" y="137"/>
                  </a:lnTo>
                  <a:lnTo>
                    <a:pt x="97" y="190"/>
                  </a:lnTo>
                  <a:lnTo>
                    <a:pt x="150" y="248"/>
                  </a:lnTo>
                  <a:lnTo>
                    <a:pt x="205" y="310"/>
                  </a:lnTo>
                  <a:lnTo>
                    <a:pt x="258" y="381"/>
                  </a:lnTo>
                  <a:lnTo>
                    <a:pt x="302" y="466"/>
                  </a:lnTo>
                  <a:lnTo>
                    <a:pt x="342" y="555"/>
                  </a:lnTo>
                  <a:lnTo>
                    <a:pt x="382" y="661"/>
                  </a:lnTo>
                  <a:lnTo>
                    <a:pt x="267" y="706"/>
                  </a:lnTo>
                  <a:lnTo>
                    <a:pt x="578" y="799"/>
                  </a:lnTo>
                  <a:lnTo>
                    <a:pt x="720" y="577"/>
                  </a:lnTo>
                  <a:lnTo>
                    <a:pt x="609" y="6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55160" y="3995640"/>
              <a:ext cx="260640" cy="287640"/>
            </a:xfrm>
            <a:custGeom>
              <a:avLst/>
              <a:gdLst/>
              <a:ahLst/>
              <a:rect l="0" t="0" r="r" b="b"/>
              <a:pathLst>
                <a:path w="724" h="799">
                  <a:moveTo>
                    <a:pt x="613" y="604"/>
                  </a:moveTo>
                  <a:lnTo>
                    <a:pt x="537" y="439"/>
                  </a:lnTo>
                  <a:lnTo>
                    <a:pt x="453" y="305"/>
                  </a:lnTo>
                  <a:lnTo>
                    <a:pt x="369" y="195"/>
                  </a:lnTo>
                  <a:lnTo>
                    <a:pt x="288" y="106"/>
                  </a:lnTo>
                  <a:lnTo>
                    <a:pt x="217" y="44"/>
                  </a:lnTo>
                  <a:lnTo>
                    <a:pt x="168" y="8"/>
                  </a:lnTo>
                  <a:lnTo>
                    <a:pt x="141" y="0"/>
                  </a:lnTo>
                  <a:lnTo>
                    <a:pt x="150" y="8"/>
                  </a:lnTo>
                  <a:lnTo>
                    <a:pt x="0" y="88"/>
                  </a:lnTo>
                  <a:lnTo>
                    <a:pt x="44" y="137"/>
                  </a:lnTo>
                  <a:lnTo>
                    <a:pt x="97" y="190"/>
                  </a:lnTo>
                  <a:lnTo>
                    <a:pt x="150" y="248"/>
                  </a:lnTo>
                  <a:lnTo>
                    <a:pt x="204" y="310"/>
                  </a:lnTo>
                  <a:lnTo>
                    <a:pt x="257" y="381"/>
                  </a:lnTo>
                  <a:lnTo>
                    <a:pt x="301" y="466"/>
                  </a:lnTo>
                  <a:lnTo>
                    <a:pt x="346" y="555"/>
                  </a:lnTo>
                  <a:lnTo>
                    <a:pt x="382" y="661"/>
                  </a:lnTo>
                  <a:lnTo>
                    <a:pt x="266" y="706"/>
                  </a:lnTo>
                  <a:lnTo>
                    <a:pt x="582" y="799"/>
                  </a:lnTo>
                  <a:lnTo>
                    <a:pt x="724" y="577"/>
                  </a:lnTo>
                  <a:lnTo>
                    <a:pt x="613" y="60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20160" y="3860640"/>
              <a:ext cx="155880" cy="81360"/>
            </a:xfrm>
            <a:custGeom>
              <a:avLst/>
              <a:gdLst/>
              <a:ahLst/>
              <a:rect l="0" t="0" r="r" b="b"/>
              <a:pathLst>
                <a:path w="433" h="226">
                  <a:moveTo>
                    <a:pt x="142" y="104"/>
                  </a:moveTo>
                  <a:lnTo>
                    <a:pt x="254" y="226"/>
                  </a:lnTo>
                  <a:lnTo>
                    <a:pt x="410" y="81"/>
                  </a:lnTo>
                  <a:lnTo>
                    <a:pt x="419" y="86"/>
                  </a:lnTo>
                  <a:lnTo>
                    <a:pt x="433" y="81"/>
                  </a:lnTo>
                  <a:lnTo>
                    <a:pt x="361" y="0"/>
                  </a:lnTo>
                  <a:lnTo>
                    <a:pt x="200" y="149"/>
                  </a:lnTo>
                  <a:lnTo>
                    <a:pt x="84" y="35"/>
                  </a:lnTo>
                  <a:lnTo>
                    <a:pt x="0" y="117"/>
                  </a:lnTo>
                  <a:lnTo>
                    <a:pt x="49" y="190"/>
                  </a:lnTo>
                  <a:lnTo>
                    <a:pt x="142" y="104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23400" y="3886200"/>
              <a:ext cx="173520" cy="160560"/>
            </a:xfrm>
            <a:custGeom>
              <a:avLst/>
              <a:gdLst/>
              <a:ahLst/>
              <a:rect l="0" t="0" r="r" b="b"/>
              <a:pathLst>
                <a:path w="482" h="446">
                  <a:moveTo>
                    <a:pt x="407" y="0"/>
                  </a:moveTo>
                  <a:lnTo>
                    <a:pt x="250" y="138"/>
                  </a:lnTo>
                  <a:lnTo>
                    <a:pt x="138" y="22"/>
                  </a:lnTo>
                  <a:lnTo>
                    <a:pt x="40" y="115"/>
                  </a:lnTo>
                  <a:lnTo>
                    <a:pt x="152" y="232"/>
                  </a:lnTo>
                  <a:lnTo>
                    <a:pt x="0" y="370"/>
                  </a:lnTo>
                  <a:lnTo>
                    <a:pt x="71" y="446"/>
                  </a:lnTo>
                  <a:lnTo>
                    <a:pt x="227" y="303"/>
                  </a:lnTo>
                  <a:lnTo>
                    <a:pt x="343" y="419"/>
                  </a:lnTo>
                  <a:lnTo>
                    <a:pt x="442" y="326"/>
                  </a:lnTo>
                  <a:lnTo>
                    <a:pt x="325" y="209"/>
                  </a:lnTo>
                  <a:lnTo>
                    <a:pt x="482" y="71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9000" y="3946680"/>
              <a:ext cx="71640" cy="74880"/>
            </a:xfrm>
            <a:custGeom>
              <a:avLst/>
              <a:gdLst/>
              <a:ahLst/>
              <a:rect l="0" t="0" r="r" b="b"/>
              <a:pathLst>
                <a:path w="199" h="208">
                  <a:moveTo>
                    <a:pt x="136" y="0"/>
                  </a:moveTo>
                  <a:lnTo>
                    <a:pt x="0" y="122"/>
                  </a:lnTo>
                  <a:lnTo>
                    <a:pt x="40" y="208"/>
                  </a:lnTo>
                  <a:lnTo>
                    <a:pt x="199" y="6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51840" y="3873600"/>
              <a:ext cx="63720" cy="65520"/>
            </a:xfrm>
            <a:custGeom>
              <a:avLst/>
              <a:gdLst/>
              <a:ahLst/>
              <a:rect l="0" t="0" r="r" b="b"/>
              <a:pathLst>
                <a:path w="177" h="182">
                  <a:moveTo>
                    <a:pt x="0" y="0"/>
                  </a:moveTo>
                  <a:lnTo>
                    <a:pt x="58" y="64"/>
                  </a:lnTo>
                  <a:lnTo>
                    <a:pt x="177" y="182"/>
                  </a:lnTo>
                  <a:lnTo>
                    <a:pt x="123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78920" y="3979800"/>
              <a:ext cx="41760" cy="44640"/>
            </a:xfrm>
            <a:custGeom>
              <a:avLst/>
              <a:gdLst/>
              <a:ahLst/>
              <a:rect l="0" t="0" r="r" b="b"/>
              <a:pathLst>
                <a:path w="116" h="124">
                  <a:moveTo>
                    <a:pt x="4" y="0"/>
                  </a:moveTo>
                  <a:lnTo>
                    <a:pt x="0" y="4"/>
                  </a:lnTo>
                  <a:lnTo>
                    <a:pt x="116" y="124"/>
                  </a:lnTo>
                  <a:lnTo>
                    <a:pt x="51" y="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0120" y="3860640"/>
              <a:ext cx="46440" cy="51120"/>
            </a:xfrm>
            <a:custGeom>
              <a:avLst/>
              <a:gdLst/>
              <a:ahLst/>
              <a:rect l="0" t="0" r="r" b="b"/>
              <a:pathLst>
                <a:path w="129" h="142">
                  <a:moveTo>
                    <a:pt x="129" y="142"/>
                  </a:moveTo>
                  <a:lnTo>
                    <a:pt x="51" y="63"/>
                  </a:lnTo>
                  <a:lnTo>
                    <a:pt x="0" y="0"/>
                  </a:lnTo>
                  <a:lnTo>
                    <a:pt x="74" y="78"/>
                  </a:lnTo>
                  <a:lnTo>
                    <a:pt x="129" y="1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51760" y="3790800"/>
              <a:ext cx="317520" cy="31752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8118360" y="3838680"/>
              <a:ext cx="199080" cy="227160"/>
              <a:chOff x="8118360" y="3838680"/>
              <a:chExt cx="199080" cy="227160"/>
            </a:xfrm>
          </p:grpSpPr>
          <p:sp>
            <p:nvSpPr>
              <p:cNvPr id="304" name=""/>
              <p:cNvSpPr/>
              <p:nvPr/>
            </p:nvSpPr>
            <p:spPr>
              <a:xfrm>
                <a:off x="8118360" y="3838680"/>
                <a:ext cx="171720" cy="95760"/>
              </a:xfrm>
              <a:custGeom>
                <a:avLst/>
                <a:gdLst/>
                <a:ahLst/>
                <a:rect l="0" t="0" r="r" b="b"/>
                <a:pathLst>
                  <a:path w="477" h="266">
                    <a:moveTo>
                      <a:pt x="160" y="171"/>
                    </a:moveTo>
                    <a:lnTo>
                      <a:pt x="303" y="266"/>
                    </a:lnTo>
                    <a:lnTo>
                      <a:pt x="392" y="212"/>
                    </a:lnTo>
                    <a:lnTo>
                      <a:pt x="454" y="81"/>
                    </a:lnTo>
                    <a:lnTo>
                      <a:pt x="468" y="90"/>
                    </a:lnTo>
                    <a:lnTo>
                      <a:pt x="477" y="77"/>
                    </a:lnTo>
                    <a:lnTo>
                      <a:pt x="388" y="0"/>
                    </a:lnTo>
                    <a:lnTo>
                      <a:pt x="231" y="193"/>
                    </a:lnTo>
                    <a:lnTo>
                      <a:pt x="84" y="86"/>
                    </a:lnTo>
                    <a:lnTo>
                      <a:pt x="0" y="193"/>
                    </a:lnTo>
                    <a:lnTo>
                      <a:pt x="66" y="266"/>
                    </a:lnTo>
                    <a:lnTo>
                      <a:pt x="151" y="248"/>
                    </a:lnTo>
                    <a:lnTo>
                      <a:pt x="160" y="17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120160" y="3956040"/>
                <a:ext cx="79560" cy="82800"/>
              </a:xfrm>
              <a:custGeom>
                <a:avLst/>
                <a:gdLst/>
                <a:ahLst/>
                <a:rect l="0" t="0" r="r" b="b"/>
                <a:pathLst>
                  <a:path w="221" h="230">
                    <a:moveTo>
                      <a:pt x="131" y="0"/>
                    </a:moveTo>
                    <a:lnTo>
                      <a:pt x="0" y="153"/>
                    </a:lnTo>
                    <a:lnTo>
                      <a:pt x="67" y="230"/>
                    </a:lnTo>
                    <a:lnTo>
                      <a:pt x="221" y="135"/>
                    </a:lnTo>
                    <a:lnTo>
                      <a:pt x="212" y="53"/>
                    </a:lnTo>
                    <a:lnTo>
                      <a:pt x="221" y="4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150400" y="3871800"/>
                <a:ext cx="81360" cy="60840"/>
              </a:xfrm>
              <a:custGeom>
                <a:avLst/>
                <a:gdLst/>
                <a:ahLst/>
                <a:rect l="0" t="0" r="r" b="b"/>
                <a:pathLst>
                  <a:path w="226" h="169">
                    <a:moveTo>
                      <a:pt x="0" y="0"/>
                    </a:moveTo>
                    <a:lnTo>
                      <a:pt x="68" y="59"/>
                    </a:lnTo>
                    <a:lnTo>
                      <a:pt x="226" y="169"/>
                    </a:lnTo>
                    <a:lnTo>
                      <a:pt x="149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263080" y="3956040"/>
                <a:ext cx="54360" cy="38520"/>
              </a:xfrm>
              <a:custGeom>
                <a:avLst/>
                <a:gdLst/>
                <a:ahLst/>
                <a:rect l="0" t="0" r="r" b="b"/>
                <a:pathLst>
                  <a:path w="151" h="107">
                    <a:moveTo>
                      <a:pt x="4" y="0"/>
                    </a:moveTo>
                    <a:lnTo>
                      <a:pt x="0" y="9"/>
                    </a:lnTo>
                    <a:lnTo>
                      <a:pt x="151" y="107"/>
                    </a:lnTo>
                    <a:lnTo>
                      <a:pt x="73" y="4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255160" y="383868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173" y="169"/>
                    </a:moveTo>
                    <a:lnTo>
                      <a:pt x="73" y="82"/>
                    </a:lnTo>
                    <a:lnTo>
                      <a:pt x="0" y="0"/>
                    </a:lnTo>
                    <a:lnTo>
                      <a:pt x="100" y="91"/>
                    </a:lnTo>
                    <a:lnTo>
                      <a:pt x="173" y="169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142120" y="3863880"/>
                <a:ext cx="174960" cy="201960"/>
              </a:xfrm>
              <a:custGeom>
                <a:avLst/>
                <a:gdLst/>
                <a:ahLst/>
                <a:rect l="0" t="0" r="r" b="b"/>
                <a:pathLst>
                  <a:path w="486" h="561">
                    <a:moveTo>
                      <a:pt x="392" y="0"/>
                    </a:moveTo>
                    <a:lnTo>
                      <a:pt x="240" y="182"/>
                    </a:lnTo>
                    <a:lnTo>
                      <a:pt x="93" y="75"/>
                    </a:lnTo>
                    <a:lnTo>
                      <a:pt x="0" y="191"/>
                    </a:lnTo>
                    <a:lnTo>
                      <a:pt x="146" y="303"/>
                    </a:lnTo>
                    <a:lnTo>
                      <a:pt x="0" y="481"/>
                    </a:lnTo>
                    <a:lnTo>
                      <a:pt x="93" y="561"/>
                    </a:lnTo>
                    <a:lnTo>
                      <a:pt x="240" y="374"/>
                    </a:lnTo>
                    <a:lnTo>
                      <a:pt x="392" y="481"/>
                    </a:lnTo>
                    <a:lnTo>
                      <a:pt x="486" y="365"/>
                    </a:lnTo>
                    <a:lnTo>
                      <a:pt x="334" y="253"/>
                    </a:lnTo>
                    <a:lnTo>
                      <a:pt x="486" y="66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Обучение проектной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В большинстве случаев требуется обучение или дообучение проектной 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ланируйте обучение команды как час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Метод Oracle (Oracle Meth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52760" y="2438280"/>
            <a:ext cx="5708520" cy="7444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4800" y="1979640"/>
            <a:ext cx="1128600" cy="4539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14800" y="1979640"/>
            <a:ext cx="11286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Стра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7640" y="1979640"/>
            <a:ext cx="1371600" cy="4539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427640" y="1979640"/>
            <a:ext cx="1371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56200" y="1979640"/>
            <a:ext cx="1419120" cy="4539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956200" y="1979640"/>
            <a:ext cx="141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2438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336840" y="249876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B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60680" y="2490840"/>
            <a:ext cx="969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изн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52760" y="3173400"/>
            <a:ext cx="4114800" cy="1395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67560" y="3174840"/>
            <a:ext cx="3228840" cy="13939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32004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1520" y="31240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3581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4114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752480" y="3276720"/>
            <a:ext cx="13716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хнологически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52680" y="365760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56160" y="3672000"/>
            <a:ext cx="915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943600" y="3200400"/>
            <a:ext cx="1295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C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19920" y="3657600"/>
            <a:ext cx="106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D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19920" y="4191120"/>
            <a:ext cx="762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543800" y="3276720"/>
            <a:ext cx="1371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прило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52760" y="4572000"/>
            <a:ext cx="5738760" cy="728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752480" y="4572000"/>
            <a:ext cx="144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ганизаци-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352680" y="4648320"/>
            <a:ext cx="762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O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9760" y="5288040"/>
            <a:ext cx="5591160" cy="884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45720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571500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467480" y="541008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равле-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29000" y="53341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P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429000" y="5715000"/>
            <a:ext cx="762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PJ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Метод хранилищ данных Oracle (DW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едставляет собой хорошо описанное множество проце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Извлеч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Формирования мета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Формирования технической архитектур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и методов доступа к д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cp:revision>0</cp:revision>
  <dc:subject/>
  <dc:title>Çàãîëîâîê ñëàéäà îòñóòñòâóåò</dc:title>
</cp:coreProperties>
</file>